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18.jpeg" ContentType="image/jpeg"/>
  <Override PartName="/ppt/media/image7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0F04-0983-4ED8-8195-78B88C8D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C697-B715-4D5E-9F40-E81D5057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F247-BE20-49C5-A688-F6CB1323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0522-7826-427C-BD65-EFE3BE5B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754B-E25E-43A4-A7FE-D4986A8E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E5D5-EF45-43C2-8167-2382D3ED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6308-F1C2-4D03-A5D2-EFE9D803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15B0-4F27-49E3-B9F1-F2E61E5C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7541-9E1B-412F-80DE-AAD14E92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3B64-7F43-494A-8711-CFB1F423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E56C-855F-4DEF-B3BD-CCDD1529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AE77-0E46-41BF-B60B-69F52927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88E0-7A97-4EB8-B37C-4630955B3E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Марина\Desktop\607815457.gif"/>
          <p:cNvPicPr/>
          <p:nvPr/>
        </p:nvPicPr>
        <p:blipFill>
          <a:blip r:embed="rId1"/>
          <a:stretch/>
        </p:blipFill>
        <p:spPr>
          <a:xfrm>
            <a:off x="285840" y="357120"/>
            <a:ext cx="1071360" cy="104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  <a:ea typeface="Arial"/>
              </a:rPr>
              <a:t>Тем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6000" spc="-1" strike="noStrike">
                <a:solidFill>
                  <a:srgbClr val="1f497d"/>
                </a:solidFill>
                <a:latin typeface="Arial"/>
                <a:ea typeface="Arial"/>
              </a:rPr>
              <a:t>В здоровом теле – здоровый дух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G:\Анимации\Дети.gif"/>
          <p:cNvPicPr/>
          <p:nvPr/>
        </p:nvPicPr>
        <p:blipFill>
          <a:blip r:embed="rId2"/>
          <a:stretch/>
        </p:blipFill>
        <p:spPr>
          <a:xfrm>
            <a:off x="5357880" y="4500720"/>
            <a:ext cx="2786040" cy="1906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457200" y="5421240"/>
            <a:ext cx="474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МКОУ «Чернухинская школа-интерн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оспитатель Быко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2015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Прямоугольник 1" descr=""/>
          <p:cNvPicPr/>
          <p:nvPr/>
        </p:nvPicPr>
        <p:blipFill>
          <a:blip r:embed="rId1"/>
          <a:stretch/>
        </p:blipFill>
        <p:spPr>
          <a:xfrm>
            <a:off x="3060720" y="189000"/>
            <a:ext cx="2889360" cy="92052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1187280" y="1341360"/>
            <a:ext cx="7201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загадку загадал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это за чудес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ль, седло и две педал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блестящих колес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агадки есть отв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ой …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&amp;Kcy;&amp;iecy;&amp;mcy;&amp;iecy;&amp;rcy;&amp;ocy;&amp;vcy;&amp;ocy; &amp;Kcy;&amp;ocy;&amp;mcy;&amp;pcy;&amp;ocy;&amp;zcy;&amp;icy;&amp;tcy;&amp;ocy;&amp;rcy; &amp;icy;&amp;zcy; &amp;Kcy;&amp;acy;&amp;lcy;&amp;icy;&amp;fcy;&amp;ocy;&amp;rcy;&amp;ncy;&amp;icy;&amp;icy; &amp;icy;&amp;scy;&amp;pcy;&amp;ocy;&amp;lcy;&amp;softcy;&amp;zcy;&amp;ocy;&amp;vcy;&amp;acy;&amp;lcy; &amp;vcy;&amp;iecy;&amp;lcy;&amp;ocy;&amp;scy;&amp;icy;&amp;pcy;&amp;iecy;&amp;dcy;, &amp;kcy;&amp;acy;&amp;kcy; &amp;ocy;&amp;scy;&amp;ncy;&amp;ocy;&amp;vcy;&amp;ncy;&amp;ocy;&amp;jcy; &amp;icy;&amp;ncy;&amp;scy;&amp;tcy;&amp;rcy;&amp;ucy;&amp;mcy;&amp;iecy;&amp;ncy;&amp;tcy; &amp;dcy;&amp;lcy;&amp;yacy; &amp;scy;&amp;ocy;&amp;zcy;&amp;dcy;&amp;acy;&amp;ncy;&amp;icy;&amp;yacy; &amp;mcy;&amp;ucy;&amp;zcy;&amp;ycy;&amp;kcy;&amp;acy;&amp;lcy;&amp;softcy;&amp;ncy;&amp;ocy;&amp;jcy; &amp;kcy;&amp;ocy;&amp;mcy;&amp;pcy;&amp;ocy;&amp;zcy;&amp;icy;&amp;tscy;&amp;icy;&amp;icy; (&amp;vcy;&amp;icy;&amp;dcy;&amp;iecy;&amp;ocy;) - &amp;Bcy;"/>
          <p:cNvPicPr/>
          <p:nvPr/>
        </p:nvPicPr>
        <p:blipFill>
          <a:blip r:embed="rId1"/>
          <a:stretch/>
        </p:blipFill>
        <p:spPr>
          <a:xfrm>
            <a:off x="1692360" y="1268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979640" y="1930680"/>
            <a:ext cx="576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его кручу рукой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шее и ногой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талии кручу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онять я не хочу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4" descr=""/>
          <p:cNvPicPr/>
          <p:nvPr/>
        </p:nvPicPr>
        <p:blipFill>
          <a:blip r:embed="rId1"/>
          <a:stretch/>
        </p:blipFill>
        <p:spPr>
          <a:xfrm>
            <a:off x="609480" y="549360"/>
            <a:ext cx="87472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&amp;Fcy;&amp;ocy;&amp;tcy;&amp;ocy; 1 - &amp;Ocy;&amp;bcy;&amp;rcy;&amp;ucy;&amp;chcy; &amp;rcy;&amp;acy;&amp;zcy;&amp;bcy;&amp;ocy;&amp;rcy;&amp;ncy;&amp;ycy;&amp;jcy; &amp;tscy;&amp;vcy;&amp;iecy;&amp;tcy;&amp;ncy; &amp;pcy;&amp;lcy;&amp;acy;&amp;scy;&amp;tcy;&amp;icy;&amp;kcy; 67 &amp;scy;&amp;mcy; &amp;fcy;2 &amp;scy;&amp;mcy; - &quot;&amp;Ecy;&amp;kcy;&amp;scy;&amp;pcy;&amp;iecy;&amp;rcy;&amp;tcy; &amp;TScy;&amp;iecy;&amp;ncy;&quot;"/>
          <p:cNvPicPr/>
          <p:nvPr/>
        </p:nvPicPr>
        <p:blipFill>
          <a:blip r:embed="rId1"/>
          <a:stretch/>
        </p:blipFill>
        <p:spPr>
          <a:xfrm>
            <a:off x="1763640" y="981000"/>
            <a:ext cx="57610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857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Users\Марина\Desktop\607815457.gif"/>
          <p:cNvPicPr/>
          <p:nvPr/>
        </p:nvPicPr>
        <p:blipFill>
          <a:blip r:embed="rId1"/>
          <a:stretch/>
        </p:blipFill>
        <p:spPr>
          <a:xfrm>
            <a:off x="500040" y="357120"/>
            <a:ext cx="53974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E:\Мои рисунки\школа\1236932161_3cec4e86f1b0.jpg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24000" y="404280"/>
            <a:ext cx="537696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. Соблюдать режим дня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2. Заниматься спортом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.Закаляться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4. Соблюдать чистоту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5.Правильно питать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Режим дн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Содержимое 4"/>
          <p:cNvSpPr/>
          <p:nvPr/>
        </p:nvSpPr>
        <p:spPr>
          <a:xfrm>
            <a:off x="316080" y="17589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" descr="2.jpg"/>
          <p:cNvPicPr/>
          <p:nvPr/>
        </p:nvPicPr>
        <p:blipFill>
          <a:blip r:embed="rId1"/>
          <a:srcRect l="6601" t="34376" r="50006" b="33333"/>
          <a:stretch/>
        </p:blipFill>
        <p:spPr>
          <a:xfrm>
            <a:off x="243000" y="264960"/>
            <a:ext cx="2054160" cy="17528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2.jpg"/>
          <p:cNvPicPr/>
          <p:nvPr/>
        </p:nvPicPr>
        <p:blipFill>
          <a:blip r:embed="rId2"/>
          <a:srcRect l="48690" t="33333" r="3968" b="34376"/>
          <a:stretch/>
        </p:blipFill>
        <p:spPr>
          <a:xfrm>
            <a:off x="2460600" y="941400"/>
            <a:ext cx="2006640" cy="17287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2.jpg"/>
          <p:cNvPicPr/>
          <p:nvPr/>
        </p:nvPicPr>
        <p:blipFill>
          <a:blip r:embed="rId3"/>
          <a:srcRect l="9234" t="65629" r="51316" b="5209"/>
          <a:stretch/>
        </p:blipFill>
        <p:spPr>
          <a:xfrm>
            <a:off x="4746600" y="941400"/>
            <a:ext cx="1819440" cy="1728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1.jpg"/>
          <p:cNvPicPr/>
          <p:nvPr/>
        </p:nvPicPr>
        <p:blipFill>
          <a:blip r:embed="rId4"/>
          <a:srcRect l="5284" t="0" r="52633" b="72923"/>
          <a:stretch/>
        </p:blipFill>
        <p:spPr>
          <a:xfrm>
            <a:off x="6762600" y="264960"/>
            <a:ext cx="1992600" cy="1737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1.jpg"/>
          <p:cNvPicPr/>
          <p:nvPr/>
        </p:nvPicPr>
        <p:blipFill>
          <a:blip r:embed="rId5"/>
          <a:srcRect l="48690" t="0" r="3968" b="71880"/>
          <a:stretch/>
        </p:blipFill>
        <p:spPr>
          <a:xfrm>
            <a:off x="233280" y="3152880"/>
            <a:ext cx="2006640" cy="17366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1.jpg"/>
          <p:cNvPicPr/>
          <p:nvPr/>
        </p:nvPicPr>
        <p:blipFill>
          <a:blip r:embed="rId6"/>
          <a:srcRect l="5284" t="29167" r="53949" b="43751"/>
          <a:stretch/>
        </p:blipFill>
        <p:spPr>
          <a:xfrm>
            <a:off x="2487600" y="3537000"/>
            <a:ext cx="1830240" cy="17384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1.jpg"/>
          <p:cNvPicPr/>
          <p:nvPr/>
        </p:nvPicPr>
        <p:blipFill>
          <a:blip r:embed="rId7"/>
          <a:srcRect l="47373" t="28125" r="3968" b="42708"/>
          <a:stretch/>
        </p:blipFill>
        <p:spPr>
          <a:xfrm>
            <a:off x="4653000" y="3538440"/>
            <a:ext cx="1863720" cy="1737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1.jpg"/>
          <p:cNvPicPr/>
          <p:nvPr/>
        </p:nvPicPr>
        <p:blipFill>
          <a:blip r:embed="rId8"/>
          <a:srcRect l="46057" t="57292" r="6601" b="12503"/>
          <a:stretch/>
        </p:blipFill>
        <p:spPr>
          <a:xfrm>
            <a:off x="6732720" y="4941720"/>
            <a:ext cx="1812960" cy="159228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243000" y="2135160"/>
            <a:ext cx="20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Ум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2751120" y="285264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За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932360" y="2852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Завт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6762600" y="2135160"/>
            <a:ext cx="22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Занятия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57200" y="501336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Об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1.jpg"/>
          <p:cNvPicPr/>
          <p:nvPr/>
        </p:nvPicPr>
        <p:blipFill>
          <a:blip r:embed="rId9"/>
          <a:srcRect l="5284" t="56254" r="55266" b="13541"/>
          <a:stretch/>
        </p:blipFill>
        <p:spPr>
          <a:xfrm>
            <a:off x="7064280" y="2847960"/>
            <a:ext cx="1727280" cy="1670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2158920" y="5383080"/>
            <a:ext cx="240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Выполнение домашнего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7"/>
          <p:cNvSpPr/>
          <p:nvPr/>
        </p:nvSpPr>
        <p:spPr>
          <a:xfrm>
            <a:off x="4324320" y="5284800"/>
            <a:ext cx="26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Свободное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8"/>
          <p:cNvSpPr/>
          <p:nvPr/>
        </p:nvSpPr>
        <p:spPr>
          <a:xfrm>
            <a:off x="7429680" y="459900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Уж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0"/>
          <p:cNvSpPr/>
          <p:nvPr/>
        </p:nvSpPr>
        <p:spPr>
          <a:xfrm>
            <a:off x="7956720" y="630864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1332000" y="54936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3060720" y="274680"/>
            <a:ext cx="2889360" cy="92088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1763640" y="1916280"/>
            <a:ext cx="6440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бижен, а надут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по полю ведут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ударят – нипочем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гнаться за 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-1440"/>
            <a:ext cx="850752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азовите игры с мяч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490840" y="5969160"/>
            <a:ext cx="3674880" cy="16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  <a:ea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Марина\Desktop\607815457.gif"/>
          <p:cNvPicPr/>
          <p:nvPr/>
        </p:nvPicPr>
        <p:blipFill>
          <a:blip r:embed="rId1"/>
          <a:stretch/>
        </p:blipFill>
        <p:spPr>
          <a:xfrm>
            <a:off x="285840" y="357120"/>
            <a:ext cx="1143000" cy="1119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&amp;Pcy;&amp;ocy;&amp;dcy;&amp;ocy;&amp;lcy;&amp;softcy;&amp;scy;&amp;kcy;&amp;icy; - &amp;Fcy;&amp;ocy;&amp;tcy;&amp;ocy; - &amp;Fcy;&amp;ucy;&amp;tcy;&amp;bcy;&amp;ocy;&amp;lcy; - &amp;Scy;&amp;ocy;&amp;vcy;&amp;iecy;&amp;tcy;&amp;scy;&amp;kcy;&amp;icy;&amp;jcy; &amp;scy;&amp;pcy;&amp;ocy;&amp;rcy;&amp;tcy;"/>
          <p:cNvPicPr/>
          <p:nvPr/>
        </p:nvPicPr>
        <p:blipFill>
          <a:blip r:embed="rId2"/>
          <a:stretch/>
        </p:blipFill>
        <p:spPr>
          <a:xfrm>
            <a:off x="430200" y="1687680"/>
            <a:ext cx="3421080" cy="259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&amp;Kcy;&amp;lcy;&amp;acy;&amp;scy;&amp;scy;&amp;icy;&amp;chcy;&amp;iecy;&amp;scy;&amp;kcy;&amp;icy;&amp;jcy; &amp;vcy;&amp;ocy;&amp;lcy;&amp;iecy;&amp;jcy;&amp;bcy;&amp;ocy;&amp;lcy; &amp;Fcy;&amp;Vcy;&amp;Rcy;&amp;Kcy;"/>
          <p:cNvPicPr/>
          <p:nvPr/>
        </p:nvPicPr>
        <p:blipFill>
          <a:blip r:embed="rId3"/>
          <a:stretch/>
        </p:blipFill>
        <p:spPr>
          <a:xfrm>
            <a:off x="3059280" y="4076640"/>
            <a:ext cx="3732120" cy="259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&amp;SHcy;&amp;iecy;&amp;scy;&amp;tcy;&amp;softcy; &amp;dcy;&amp;ncy;&amp;iecy;&amp;jcy; &amp;bcy;&amp;acy;&amp;scy;&amp;kcy;&amp;iecy;&amp;tcy;&amp;bcy;&amp;ocy;&amp;lcy;&amp;acy;. . &amp;Pcy;&amp;ocy;&amp;lcy;&amp;ucy;&amp;fcy;&amp;icy;&amp;ncy;&amp;acy;&amp;lcy; &amp;pcy;&amp;iecy;&amp;rcy;&amp;vcy;&amp;iecy;&amp;ncy;&amp;scy;&amp;tcy;&amp;vcy;&amp;acy; &amp;Rcy;&amp;ocy;&amp;scy;&amp;scy;&amp;icy;&amp;icy; &amp;pcy;&amp;rcy;&amp;ocy;&amp;jcy;&amp;dcy;&amp;iecy;&amp;tcy; &amp;vcy; &amp;Mcy;&amp;acy;&amp;gcy;&amp;ncy;&amp;icy;&amp;tcy;&amp;kcy;&amp;iecy; &amp;Ncy;&amp;ocy;&amp;vcy;&amp;ocy;&amp;scy;&amp;tcy;&amp;icy; &amp;Mcy;&amp;acy;&amp;gcy;&amp;ncy;&amp;icy;&amp;tcy;&amp;ocy;&amp;gcy;&amp;ocy;&amp;rcy;&amp;scy;&amp;kcy;&amp;acy; NewsMgn.ru - &amp;Vcy;&amp;scy;&amp;iecy; &amp;ncy;&amp;ocy;&amp;vcy;&amp;ocy;&amp;scy;&amp;tcy;&amp;icy; &amp;Mcy;&amp;acy;&amp;gcy;&amp;ncy;&amp;icy;&amp;tcy;&amp;ocy;&amp;gcy;&amp;ocy;"/>
          <p:cNvPicPr/>
          <p:nvPr/>
        </p:nvPicPr>
        <p:blipFill>
          <a:blip r:embed="rId4"/>
          <a:stretch/>
        </p:blipFill>
        <p:spPr>
          <a:xfrm>
            <a:off x="6492960" y="1149480"/>
            <a:ext cx="2421000" cy="2754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1"/>
          <p:cNvSpPr/>
          <p:nvPr/>
        </p:nvSpPr>
        <p:spPr>
          <a:xfrm>
            <a:off x="1042920" y="450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2268360" y="6381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7674120" y="4076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Прямоугольник 2" descr=""/>
          <p:cNvPicPr/>
          <p:nvPr/>
        </p:nvPicPr>
        <p:blipFill>
          <a:blip r:embed="rId1"/>
          <a:stretch/>
        </p:blipFill>
        <p:spPr>
          <a:xfrm>
            <a:off x="3060720" y="262080"/>
            <a:ext cx="2955960" cy="92052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1187280" y="1844640"/>
            <a:ext cx="6697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негу две полосы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лись две лисы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шла она поближ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бежали чьи-то…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Atomic"/>
          <p:cNvPicPr/>
          <p:nvPr/>
        </p:nvPicPr>
        <p:blipFill>
          <a:blip r:embed="rId1"/>
          <a:stretch/>
        </p:blipFill>
        <p:spPr>
          <a:xfrm>
            <a:off x="1908000" y="620640"/>
            <a:ext cx="5310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1" descr=""/>
          <p:cNvPicPr/>
          <p:nvPr/>
        </p:nvPicPr>
        <p:blipFill>
          <a:blip r:embed="rId1"/>
          <a:stretch/>
        </p:blipFill>
        <p:spPr>
          <a:xfrm>
            <a:off x="2987640" y="549360"/>
            <a:ext cx="3029040" cy="91908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1116000" y="213372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на льду меня догони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бежим в перегонк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сут меня не кон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блестящие 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&amp;Scy;&amp;ncy;&amp;ocy;&amp;ucy;&amp;bcy;&amp;ocy;&amp;rcy;&amp;dcy;&amp;ycy; &amp;Zcy;&amp;icy;&amp;mcy;&amp;ncy;&amp;iecy;&amp;iecy; &amp;scy;&amp;ncy;&amp;acy;&amp;rcy;&amp;y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1619280" y="836640"/>
            <a:ext cx="6192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4:01:34Z</dcterms:created>
  <dc:creator>Марина</dc:creator>
  <dc:description/>
  <dc:language>en-US</dc:language>
  <cp:lastModifiedBy>лерчик</cp:lastModifiedBy>
  <dcterms:modified xsi:type="dcterms:W3CDTF">2015-05-05T16:30:21Z</dcterms:modified>
  <cp:revision>37</cp:revision>
  <dc:subject/>
  <dc:title>Слайд 1</dc:title>
</cp:coreProperties>
</file>