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C74-F112-4F08-9934-B61EEF5E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5E4-9FE1-467F-96EA-B22174CF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1CD-E89B-45E6-877C-AF8879AE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48D-64BD-4AB4-AE96-E3BC8DA7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7E5-22CF-485E-AA7A-B3B8663F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07D-72FB-4940-B98E-29B0728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002-7E66-4464-BE1F-79499E5D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10C-5E28-422D-BB9E-C61FE953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813-1B65-4F11-AD5B-FD53371A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6EC-3894-4CFB-BB58-5A4F530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69C-04D5-47FB-B4CC-7C530C4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615-1C27-4E9E-8B6D-0A0E5A6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5A5-FFD8-4D3D-8784-D139DF87C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071360" cy="104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  <a:ea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6000" spc="-1" strike="noStrike">
                <a:solidFill>
                  <a:srgbClr val="1f497d"/>
                </a:solidFill>
                <a:latin typeface="Arial"/>
                <a:ea typeface="Arial"/>
              </a:rPr>
              <a:t>В здоровом теле – здоровый дух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G:\Анимации\Дети.gif"/>
          <p:cNvPicPr/>
          <p:nvPr/>
        </p:nvPicPr>
        <p:blipFill>
          <a:blip r:embed="rId2"/>
          <a:stretch/>
        </p:blipFill>
        <p:spPr>
          <a:xfrm>
            <a:off x="5357880" y="4500720"/>
            <a:ext cx="2786040" cy="1906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457200" y="5421240"/>
            <a:ext cx="47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КОУ «Чернухинская школа-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оспитатель Бык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3060720" y="189000"/>
            <a:ext cx="2889360" cy="920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187280" y="134136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гадку загада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за чудес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ль, седло и две педал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блестящих колес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гадки есть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й 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&amp;Kcy;&amp;iecy;&amp;mcy;&amp;iecy;&amp;rcy;&amp;ocy;&amp;vcy;&amp;ocy; &amp;Kcy;&amp;ocy;&amp;mcy;&amp;pcy;&amp;ocy;&amp;zcy;&amp;icy;&amp;tcy;&amp;ocy;&amp;rcy; &amp;icy;&amp;zcy; &amp;Kcy;&amp;acy;&amp;lcy;&amp;icy;&amp;fcy;&amp;ocy;&amp;rcy;&amp;ncy;&amp;icy;&amp;icy; &amp;icy;&amp;scy;&amp;pcy;&amp;ocy;&amp;lcy;&amp;softcy;&amp;zcy;&amp;ocy;&amp;vcy;&amp;acy;&amp;lcy; &amp;vcy;&amp;iecy;&amp;lcy;&amp;ocy;&amp;scy;&amp;icy;&amp;pcy;&amp;iecy;&amp;dcy;, &amp;kcy;&amp;acy;&amp;kcy; &amp;ocy;&amp;scy;&amp;ncy;&amp;ocy;&amp;vcy;&amp;ncy;&amp;ocy;&amp;jcy; &amp;icy;&amp;ncy;&amp;scy;&amp;tcy;&amp;rcy;&amp;ucy;&amp;mcy;&amp;iecy;&amp;ncy;&amp;tcy; &amp;dcy;&amp;lcy;&amp;yacy; &amp;scy;&amp;ocy;&amp;zcy;&amp;dcy;&amp;acy;&amp;ncy;&amp;icy;&amp;yacy; &amp;mcy;&amp;ucy;&amp;zcy;&amp;ycy;&amp;kcy;&amp;acy;&amp;lcy;&amp;softcy;&amp;ncy;&amp;ocy;&amp;jcy; &amp;kcy;&amp;ocy;&amp;mcy;&amp;pcy;&amp;ocy;&amp;zcy;&amp;icy;&amp;tscy;&amp;icy;&amp;icy; (&amp;vcy;&amp;icy;&amp;dcy;&amp;iecy;&amp;ocy;) - &amp;Bcy;"/>
          <p:cNvPicPr/>
          <p:nvPr/>
        </p:nvPicPr>
        <p:blipFill>
          <a:blip r:embed="rId1"/>
          <a:stretch/>
        </p:blipFill>
        <p:spPr>
          <a:xfrm>
            <a:off x="169236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79640" y="19306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го кручу рук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шее и ного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талии кручу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онять я не хо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747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&amp;Fcy;&amp;ocy;&amp;tcy;&amp;ocy; 1 - &amp;Ocy;&amp;bcy;&amp;rcy;&amp;ucy;&amp;chcy; &amp;rcy;&amp;acy;&amp;zcy;&amp;bcy;&amp;ocy;&amp;rcy;&amp;ncy;&amp;ycy;&amp;jcy; &amp;tscy;&amp;vcy;&amp;iecy;&amp;tcy;&amp;ncy; &amp;pcy;&amp;lcy;&amp;acy;&amp;scy;&amp;tcy;&amp;icy;&amp;kcy; 67 &amp;scy;&amp;mcy; &amp;fcy;2 &amp;scy;&amp;mcy; - &quot;&amp;Ecy;&amp;kcy;&amp;scy;&amp;pcy;&amp;iecy;&amp;rcy;&amp;tcy; &amp;TScy;&amp;iecy;&amp;ncy;&quot;"/>
          <p:cNvPicPr/>
          <p:nvPr/>
        </p:nvPicPr>
        <p:blipFill>
          <a:blip r:embed="rId1"/>
          <a:stretch/>
        </p:blipFill>
        <p:spPr>
          <a:xfrm>
            <a:off x="1763640" y="981000"/>
            <a:ext cx="576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857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500040" y="357120"/>
            <a:ext cx="5397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E:\Мои рисунки\школа\1236932161_3cec4e86f1b0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37696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. Соблюдать режим дн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. Заниматься спортом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.Закалятьс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. Соблюдать чистоту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.Правильно пита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Режим д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одержимое 4"/>
          <p:cNvSpPr/>
          <p:nvPr/>
        </p:nvSpPr>
        <p:spPr>
          <a:xfrm>
            <a:off x="316080" y="1758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2.jpg"/>
          <p:cNvPicPr/>
          <p:nvPr/>
        </p:nvPicPr>
        <p:blipFill>
          <a:blip r:embed="rId1"/>
          <a:srcRect l="6601" t="34376" r="50006" b="33333"/>
          <a:stretch/>
        </p:blipFill>
        <p:spPr>
          <a:xfrm>
            <a:off x="243000" y="264960"/>
            <a:ext cx="205416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2.jpg"/>
          <p:cNvPicPr/>
          <p:nvPr/>
        </p:nvPicPr>
        <p:blipFill>
          <a:blip r:embed="rId2"/>
          <a:srcRect l="48690" t="33333" r="3968" b="34376"/>
          <a:stretch/>
        </p:blipFill>
        <p:spPr>
          <a:xfrm>
            <a:off x="2460600" y="941400"/>
            <a:ext cx="2006640" cy="1728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2.jpg"/>
          <p:cNvPicPr/>
          <p:nvPr/>
        </p:nvPicPr>
        <p:blipFill>
          <a:blip r:embed="rId3"/>
          <a:srcRect l="9234" t="65629" r="51316" b="5209"/>
          <a:stretch/>
        </p:blipFill>
        <p:spPr>
          <a:xfrm>
            <a:off x="4746600" y="941400"/>
            <a:ext cx="181944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.jpg"/>
          <p:cNvPicPr/>
          <p:nvPr/>
        </p:nvPicPr>
        <p:blipFill>
          <a:blip r:embed="rId4"/>
          <a:srcRect l="5284" t="0" r="52633" b="72923"/>
          <a:stretch/>
        </p:blipFill>
        <p:spPr>
          <a:xfrm>
            <a:off x="6762600" y="264960"/>
            <a:ext cx="1992600" cy="1737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1.jpg"/>
          <p:cNvPicPr/>
          <p:nvPr/>
        </p:nvPicPr>
        <p:blipFill>
          <a:blip r:embed="rId5"/>
          <a:srcRect l="48690" t="0" r="3968" b="71880"/>
          <a:stretch/>
        </p:blipFill>
        <p:spPr>
          <a:xfrm>
            <a:off x="233280" y="3152880"/>
            <a:ext cx="2006640" cy="1736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.jpg"/>
          <p:cNvPicPr/>
          <p:nvPr/>
        </p:nvPicPr>
        <p:blipFill>
          <a:blip r:embed="rId6"/>
          <a:srcRect l="5284" t="29167" r="53949" b="43751"/>
          <a:stretch/>
        </p:blipFill>
        <p:spPr>
          <a:xfrm>
            <a:off x="2487600" y="3537000"/>
            <a:ext cx="1830240" cy="1738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1.jpg"/>
          <p:cNvPicPr/>
          <p:nvPr/>
        </p:nvPicPr>
        <p:blipFill>
          <a:blip r:embed="rId7"/>
          <a:srcRect l="47373" t="28125" r="3968" b="42708"/>
          <a:stretch/>
        </p:blipFill>
        <p:spPr>
          <a:xfrm>
            <a:off x="4653000" y="3538440"/>
            <a:ext cx="1863720" cy="1737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1.jpg"/>
          <p:cNvPicPr/>
          <p:nvPr/>
        </p:nvPicPr>
        <p:blipFill>
          <a:blip r:embed="rId8"/>
          <a:srcRect l="46057" t="57292" r="6601" b="12503"/>
          <a:stretch/>
        </p:blipFill>
        <p:spPr>
          <a:xfrm>
            <a:off x="6732720" y="4941720"/>
            <a:ext cx="1812960" cy="1592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243000" y="213516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м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751120" y="28526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За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32360" y="28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вт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762600" y="213516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Занятия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57200" y="50133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1.jpg"/>
          <p:cNvPicPr/>
          <p:nvPr/>
        </p:nvPicPr>
        <p:blipFill>
          <a:blip r:embed="rId9"/>
          <a:srcRect l="5284" t="56254" r="55266" b="13541"/>
          <a:stretch/>
        </p:blipFill>
        <p:spPr>
          <a:xfrm>
            <a:off x="7064280" y="2847960"/>
            <a:ext cx="1727280" cy="167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2158920" y="5383080"/>
            <a:ext cx="24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Выполнение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4324320" y="528480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Свободн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7429680" y="45990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7956720" y="6308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332000" y="549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3060720" y="274680"/>
            <a:ext cx="2889360" cy="920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763640" y="1916280"/>
            <a:ext cx="644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ижен, а наду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 полю веду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дарят – нипоче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гнаться за 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1440"/>
            <a:ext cx="850752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игры с мяч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90840" y="5969160"/>
            <a:ext cx="367488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&amp;Pcy;&amp;ocy;&amp;dcy;&amp;ocy;&amp;lcy;&amp;softcy;&amp;scy;&amp;kcy;&amp;icy; - &amp;Fcy;&amp;ocy;&amp;tcy;&amp;ocy; - &amp;Fcy;&amp;ucy;&amp;tcy;&amp;bcy;&amp;ocy;&amp;lcy; - &amp;Scy;&amp;ocy;&amp;vcy;&amp;iecy;&amp;tcy;&amp;scy;&amp;kcy;&amp;icy;&amp;jcy; &amp;scy;&amp;pcy;&amp;ocy;&amp;rcy;&amp;tcy;"/>
          <p:cNvPicPr/>
          <p:nvPr/>
        </p:nvPicPr>
        <p:blipFill>
          <a:blip r:embed="rId2"/>
          <a:stretch/>
        </p:blipFill>
        <p:spPr>
          <a:xfrm>
            <a:off x="430200" y="1687680"/>
            <a:ext cx="342108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&amp;Kcy;&amp;lcy;&amp;acy;&amp;scy;&amp;scy;&amp;icy;&amp;chcy;&amp;iecy;&amp;scy;&amp;kcy;&amp;icy;&amp;jcy; &amp;vcy;&amp;ocy;&amp;lcy;&amp;iecy;&amp;jcy;&amp;bcy;&amp;ocy;&amp;lcy; &amp;Fcy;&amp;Vcy;&amp;Rcy;&amp;Kcy;"/>
          <p:cNvPicPr/>
          <p:nvPr/>
        </p:nvPicPr>
        <p:blipFill>
          <a:blip r:embed="rId3"/>
          <a:stretch/>
        </p:blipFill>
        <p:spPr>
          <a:xfrm>
            <a:off x="3059280" y="4076640"/>
            <a:ext cx="373212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&amp;SHcy;&amp;iecy;&amp;scy;&amp;tcy;&amp;softcy; &amp;dcy;&amp;ncy;&amp;iecy;&amp;jcy; &amp;bcy;&amp;acy;&amp;scy;&amp;kcy;&amp;iecy;&amp;tcy;&amp;bcy;&amp;ocy;&amp;lcy;&amp;acy;. . &amp;Pcy;&amp;ocy;&amp;lcy;&amp;ucy;&amp;fcy;&amp;icy;&amp;ncy;&amp;acy;&amp;lcy; &amp;pcy;&amp;iecy;&amp;rcy;&amp;vcy;&amp;iecy;&amp;ncy;&amp;scy;&amp;tcy;&amp;vcy;&amp;acy; &amp;Rcy;&amp;ocy;&amp;scy;&amp;scy;&amp;icy;&amp;icy; &amp;pcy;&amp;rcy;&amp;ocy;&amp;jcy;&amp;dcy;&amp;iecy;&amp;tcy; &amp;vcy; &amp;Mcy;&amp;acy;&amp;gcy;&amp;ncy;&amp;icy;&amp;tcy;&amp;kcy;&amp;iecy; &amp;Ncy;&amp;ocy;&amp;vcy;&amp;ocy;&amp;scy;&amp;tcy;&amp;icy; &amp;Mcy;&amp;acy;&amp;gcy;&amp;ncy;&amp;icy;&amp;tcy;&amp;ocy;&amp;gcy;&amp;ocy;&amp;rcy;&amp;scy;&amp;kcy;&amp;acy; NewsMgn.ru - &amp;Vcy;&amp;scy;&amp;iecy; &amp;ncy;&amp;ocy;&amp;vcy;&amp;ocy;&amp;scy;&amp;tcy;&amp;icy; &amp;Mcy;&amp;acy;&amp;gcy;&amp;ncy;&amp;icy;&amp;tcy;&amp;ocy;&amp;gcy;&amp;ocy;"/>
          <p:cNvPicPr/>
          <p:nvPr/>
        </p:nvPicPr>
        <p:blipFill>
          <a:blip r:embed="rId4"/>
          <a:stretch/>
        </p:blipFill>
        <p:spPr>
          <a:xfrm>
            <a:off x="6492960" y="1149480"/>
            <a:ext cx="2421000" cy="2754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04292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268360" y="6381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674120" y="40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2" descr=""/>
          <p:cNvPicPr/>
          <p:nvPr/>
        </p:nvPicPr>
        <p:blipFill>
          <a:blip r:embed="rId1"/>
          <a:stretch/>
        </p:blipFill>
        <p:spPr>
          <a:xfrm>
            <a:off x="3060720" y="262080"/>
            <a:ext cx="2955960" cy="920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187280" y="1844640"/>
            <a:ext cx="66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негу две полосы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лись две лис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шла она поближ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бежали чьи-то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tomic"/>
          <p:cNvPicPr/>
          <p:nvPr/>
        </p:nvPicPr>
        <p:blipFill>
          <a:blip r:embed="rId1"/>
          <a:stretch/>
        </p:blipFill>
        <p:spPr>
          <a:xfrm>
            <a:off x="1908000" y="620640"/>
            <a:ext cx="531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9040" cy="91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116000" y="21337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льду меня догон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ежим в перегон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сут меня не кон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лестящие 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&amp;Scy;&amp;ncy;&amp;ocy;&amp;ucy;&amp;bcy;&amp;ocy;&amp;rcy;&amp;dcy;&amp;ycy; &amp;Zcy;&amp;icy;&amp;mcy;&amp;ncy;&amp;iecy;&amp;iecy; &amp;scy;&amp;ncy;&amp;acy;&amp;rcy;&amp;y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01:34Z</dcterms:created>
  <dc:creator>Марина</dc:creator>
  <dc:description/>
  <dc:language>en-US</dc:language>
  <cp:lastModifiedBy>лерчик</cp:lastModifiedBy>
  <dcterms:modified xsi:type="dcterms:W3CDTF">2015-05-05T16:30:21Z</dcterms:modified>
  <cp:revision>37</cp:revision>
  <dc:subject/>
  <dc:title>Слайд 1</dc:title>
</cp:coreProperties>
</file>