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BA3-7430-4B50-B959-F67A6059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9AA-4053-4C42-BFE6-799BB5C5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11B-2E0A-427E-89A5-B1F62F83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9C9-E004-49FD-A32F-3C881586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61F-8477-4B07-8234-2E79B5D3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A55-B52F-4A19-A88A-10F4AC47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9F3-CE2A-4DBA-9008-06147B4D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824-9559-47C0-800E-6B44AE7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AA2-3480-428E-94A2-19260E3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310-7EE6-4CD3-B112-C517E413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B62-6176-4FE3-90C1-73F1CE1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C78-ABEF-4C26-8B68-59C6CF8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F03-A659-4300-AD86-10659CDB9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i019.radikal.ru/0805/0e/fbb00ed14515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332000" y="1285920"/>
            <a:ext cx="7669080" cy="541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948360" cy="482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1357200" y="214200"/>
            <a:ext cx="7643880" cy="1071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1357200" y="519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man Old Style"/>
              </a:rPr>
              <a:t>Назовите цвета Георгиевской 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332000" y="1285920"/>
            <a:ext cx="7669080" cy="541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1674720" y="1700280"/>
            <a:ext cx="6983640" cy="46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1357200" y="214200"/>
            <a:ext cx="7643880" cy="1071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357200" y="33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Bookman Old Style"/>
              </a:rPr>
              <a:t>Укажите, если знаете, что символизируют цвета Георгиевской ленто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7715160" cy="548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артинка 16 из 14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57240" y="3500280"/>
            <a:ext cx="1951200" cy="2895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1285920" y="142920"/>
            <a:ext cx="7715160" cy="1071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6"/>
          <a:stretch/>
        </p:blipFill>
        <p:spPr>
          <a:xfrm>
            <a:off x="2500200" y="142920"/>
            <a:ext cx="5214960" cy="1000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2214720" y="1857240"/>
            <a:ext cx="607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Bookman Old Style"/>
              </a:rPr>
              <a:t>«тем, кои: отличили себя особливым каким мужественным поступком или подали мудрые и для нашей воинской службы полезные сове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3786120" y="42148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Орден учрежден 26 ноября 176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императрицей Екатериной </a:t>
            </a: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28:36Z</dcterms:created>
  <dc:creator>Галина</dc:creator>
  <dc:description/>
  <dc:language>en-US</dc:language>
  <cp:lastModifiedBy>М.Видео</cp:lastModifiedBy>
  <dcterms:modified xsi:type="dcterms:W3CDTF">2015-05-05T19:15:30Z</dcterms:modified>
  <cp:revision>142</cp:revision>
  <dc:subject/>
  <dc:title>Слайд 1</dc:title>
</cp:coreProperties>
</file>