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8B54-3EEE-4C2D-A96A-66E5ECAE5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9ABA-658C-40FF-B925-F343E1F4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8B93-71EA-4D33-97A8-C7A9A7F51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9F0C-E860-4DE8-945C-CF507AC2C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0D4F-C4D3-470F-88E2-9EC691DE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93AD-84A7-4EA3-8230-726B0060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D002-4C05-49D1-A421-03C08423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5714-7F65-4B8A-9CF9-35FF2C2C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DD7B-7579-4881-9837-E3BA5185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088D-024C-4319-8701-FDA1BAF6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4F55-DCA1-4E29-86BD-372091FE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034C-5876-477C-AD03-832D5C5F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3C59-AF54-4AF5-AC8D-D3EBF08490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hyperlink" Target="http://i019.radikal.ru/0805/0e/fbb00ed14515.jpg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1332000" y="1285920"/>
            <a:ext cx="7669080" cy="5411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1692360" y="1557360"/>
            <a:ext cx="6948360" cy="4824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4"/>
          <a:stretch/>
        </p:blipFill>
        <p:spPr>
          <a:xfrm>
            <a:off x="1357200" y="214200"/>
            <a:ext cx="7643880" cy="107172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4"/>
          <p:cNvSpPr/>
          <p:nvPr/>
        </p:nvSpPr>
        <p:spPr>
          <a:xfrm>
            <a:off x="1357200" y="5191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okman Old Style"/>
              </a:rPr>
              <a:t>Назовите цвета Георгиевской лен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1332000" y="1285920"/>
            <a:ext cx="7669080" cy="5411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1674720" y="1700280"/>
            <a:ext cx="6983640" cy="4681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4"/>
          <a:stretch/>
        </p:blipFill>
        <p:spPr>
          <a:xfrm>
            <a:off x="1357200" y="214200"/>
            <a:ext cx="7643880" cy="10717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1357200" y="33480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Bookman Old Style"/>
              </a:rPr>
              <a:t>Укажите, если знаете, что символизируют цвета Георгиевской ленточ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1285920" y="1214280"/>
            <a:ext cx="7715160" cy="5483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Картинка 16 из 140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857240" y="3500280"/>
            <a:ext cx="1951200" cy="289584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54" name="Picture 3" descr=""/>
          <p:cNvPicPr/>
          <p:nvPr/>
        </p:nvPicPr>
        <p:blipFill>
          <a:blip r:embed="rId5"/>
          <a:stretch/>
        </p:blipFill>
        <p:spPr>
          <a:xfrm>
            <a:off x="1285920" y="142920"/>
            <a:ext cx="7715160" cy="107136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2" descr=""/>
          <p:cNvPicPr/>
          <p:nvPr/>
        </p:nvPicPr>
        <p:blipFill>
          <a:blip r:embed="rId6"/>
          <a:stretch/>
        </p:blipFill>
        <p:spPr>
          <a:xfrm>
            <a:off x="2500200" y="142920"/>
            <a:ext cx="5214960" cy="100008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5"/>
          <p:cNvSpPr/>
          <p:nvPr/>
        </p:nvSpPr>
        <p:spPr>
          <a:xfrm>
            <a:off x="2214720" y="1857240"/>
            <a:ext cx="6072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Bookman Old Style"/>
              </a:rPr>
              <a:t>«тем, кои: отличили себя особливым каким мужественным поступком или подали мудрые и для нашей воинской службы полезные советы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7"/>
          <p:cNvSpPr/>
          <p:nvPr/>
        </p:nvSpPr>
        <p:spPr>
          <a:xfrm>
            <a:off x="3786120" y="4214880"/>
            <a:ext cx="52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Bookman Old Style"/>
              </a:rPr>
              <a:t>Орден учрежден 26 ноября 1769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Bookman Old Style"/>
              </a:rPr>
              <a:t>императрицей Екатериной </a:t>
            </a:r>
            <a:r>
              <a:rPr b="1" i="1" lang="en-US" sz="1800" spc="-1" strike="noStrike">
                <a:solidFill>
                  <a:srgbClr val="ffff00"/>
                </a:solidFill>
                <a:latin typeface="Bookman Old Style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6:28:36Z</dcterms:created>
  <dc:creator>Галина</dc:creator>
  <dc:description/>
  <dc:language>en-US</dc:language>
  <cp:lastModifiedBy>М.Видео</cp:lastModifiedBy>
  <dcterms:modified xsi:type="dcterms:W3CDTF">2015-05-05T19:15:30Z</dcterms:modified>
  <cp:revision>142</cp:revision>
  <dc:subject/>
  <dc:title>Слайд 1</dc:title>
</cp:coreProperties>
</file>