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F4F-B4DC-4E8F-9C20-280B07B9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834-4A9D-414C-A711-83DC308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357-77E0-4F9B-8178-FCDF12E3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BE5-7619-4838-8816-B5506E1B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59A-FABD-42D5-87E2-FDAFB16C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167-A1E6-426D-8E82-55872EC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71A-5F5D-454D-8DAB-D2E1B3D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6AF-7109-4A81-B4C8-56183B4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9D9-A0A5-44DA-9077-B82415F7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79B-8195-4C8A-AF09-DAEF624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83C-1832-4396-8C0C-B58D879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895-98A1-4640-AB96-1B71B1B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14EF-3B54-4346-81DF-F8C4AA63B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ЮРА\Мои документы\Мои рисунки\2009-05-06\Scan10104.JPG"/>
          <p:cNvPicPr/>
          <p:nvPr/>
        </p:nvPicPr>
        <p:blipFill>
          <a:blip r:embed="rId2"/>
          <a:stretch/>
        </p:blipFill>
        <p:spPr>
          <a:xfrm>
            <a:off x="1258920" y="0"/>
            <a:ext cx="7634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9840" y="714240"/>
            <a:ext cx="8713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евский орден был разделен на четыре клас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а имела три знака: крест звезду и ленту, состоящую из трех черных и двух оранжевых полос, которая носилась через правое плечо под мунди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а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а также имела звезду и большой крест, который носился на шее на более узкой л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ь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ый крест на шее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верта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лый крест в петли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1571760" y="4071960"/>
            <a:ext cx="604836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2395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728676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50080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643200" y="4714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178596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428760" y="50720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-оранжевые цвета Георгиевской ленты стали в России символом военной доблести и сл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142920" y="64296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а лент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ёрный и оранжевый — означа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ым и пламень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вляются знаком личной доблести солдата на поле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714240" y="18572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РДЕНА И ПРАВИЛА 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4968720" cy="450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333360"/>
            <a:ext cx="770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заш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японское искусство по изготовлению цветов из шелка. Канзаши, как правило, использовали в качестве украше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4567320"/>
            <a:ext cx="3059280" cy="2290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84720" y="1844640"/>
            <a:ext cx="30592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3483000"/>
            <a:ext cx="4176720" cy="337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332000" y="3500280"/>
            <a:ext cx="277632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116000" y="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5280" y="260280"/>
            <a:ext cx="84978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раздник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ой Победы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3330720"/>
            <a:ext cx="4111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19137600">
            <a:off x="395280" y="5019480"/>
            <a:ext cx="1638360" cy="183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2349360"/>
            <a:ext cx="50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вели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славным командирам и бой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аршалам страны и ряд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и мёртвым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тем которых забыв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друз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28:36Z</dcterms:created>
  <dc:creator>Галина</dc:creator>
  <dc:description/>
  <dc:language>en-US</dc:language>
  <cp:lastModifiedBy>М.Видео</cp:lastModifiedBy>
  <dcterms:modified xsi:type="dcterms:W3CDTF">2015-05-05T19:13:04Z</dcterms:modified>
  <cp:revision>139</cp:revision>
  <dc:subject/>
  <dc:title>Слайд 1</dc:title>
</cp:coreProperties>
</file>