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0AA-B668-4AD9-8E3D-C3658913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0F7-3C50-494E-BB39-90265BC2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E3B-8885-4612-A0BF-6A7DDE7D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8E0-C3B3-42E6-9B51-D0978370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42A-2173-4A54-8D65-E77F05BC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5A7-6C6B-46D5-96DE-E98709E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C87-65AE-4878-8F6C-0A7D5E47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7F0-A167-4588-81A1-E4128E61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514-E33C-4D57-9840-BDF1C4D9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27B-F734-416E-BA76-DE94A02A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62E-9B61-46D7-868A-B52619D0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F7C-F11A-4A7A-9CEE-74E6BFF3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C98C-A010-4071-85F7-475E991567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ЮРА\Мои документы\Мои рисунки\2009-05-06\Scan10104.JPG"/>
          <p:cNvPicPr/>
          <p:nvPr/>
        </p:nvPicPr>
        <p:blipFill>
          <a:blip r:embed="rId2"/>
          <a:stretch/>
        </p:blipFill>
        <p:spPr>
          <a:xfrm>
            <a:off x="1258920" y="0"/>
            <a:ext cx="7634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May9Mast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9840" y="714240"/>
            <a:ext cx="8713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ргиевский орден был разделен на четыре клас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ая степен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а имела три знака: крест звезду и ленту, состоящую из трех черных и двух оранжевых полос, которая носилась через правое плечо под мунди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ая степен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а также имела звезду и большой крест, который носился на шее на более узкой лен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тья степен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ый крест на шее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верта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алый крест в петлиц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1571760" y="4071960"/>
            <a:ext cx="6048360" cy="217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May9Mast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1357200" y="2286000"/>
            <a:ext cx="6572520" cy="23954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7286760" y="4714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5500800" y="4714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3643200" y="4714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1785960" y="4643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428760" y="507204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-оранжевые цвета Георгиевской ленты стали в России символом военной доблести и сл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142920" y="64296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а лент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чёрный и оранжевый — означаю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ым и пламень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вляются знаком личной доблести солдата на поле б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714240" y="18572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ОРДЕНА И ПРАВИЛА 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4968720" cy="4505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58920" y="333360"/>
            <a:ext cx="7707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заш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японское искусство по изготовлению цветов из шелка. Канзаши, как правило, использовали в качестве украше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84720" y="4567320"/>
            <a:ext cx="3059280" cy="2290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84720" y="1844640"/>
            <a:ext cx="305928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895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72000" y="3483000"/>
            <a:ext cx="4176720" cy="337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332000" y="3500280"/>
            <a:ext cx="2776320" cy="3357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116000" y="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95280" y="260280"/>
            <a:ext cx="84978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разднико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ой Победы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0" y="3330720"/>
            <a:ext cx="411156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 rot="19137600">
            <a:off x="395280" y="5019480"/>
            <a:ext cx="1638360" cy="1838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40360" y="2349360"/>
            <a:ext cx="500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лонимся вели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 славным командирам и бой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маршалам страны и ряд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лонимся и мёртвым и жи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 тем которых забыва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лоним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лонимся друз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6:28:36Z</dcterms:created>
  <dc:creator>Галина</dc:creator>
  <dc:description/>
  <dc:language>en-US</dc:language>
  <cp:lastModifiedBy>М.Видео</cp:lastModifiedBy>
  <dcterms:modified xsi:type="dcterms:W3CDTF">2015-05-05T19:13:04Z</dcterms:modified>
  <cp:revision>139</cp:revision>
  <dc:subject/>
  <dc:title>Слайд 1</dc:title>
</cp:coreProperties>
</file>