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78F-186F-47A6-A9BD-255135B0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15C-443E-48FD-AAFB-23D366D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188-CF28-43C8-BC00-3B14D4A6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A6C-3E7D-4596-8F08-CF3238D2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1431-4A1B-45E2-8826-69247EEA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07B7-D052-4371-8EA5-DC5E7BA3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2380-0C94-4018-A70D-18FE8A5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B0EC-EDBC-43B7-A7C1-FD732E0B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29F0-49E2-44FC-96BA-DD8F2DC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-19440"/>
            <a:ext cx="77644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D947-176F-4D6C-9C90-4F78B88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3DA7-5549-4883-ACDC-71689CB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284-7FD5-4879-A385-943D6A1F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EA73-08A1-4614-8769-B317FFA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3003-848F-49CA-8B5A-57E8AD0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98FC-31B5-4996-9EB2-F0B31D11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1976-4ABE-4F0E-A284-A3A9A302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5014-2877-4592-861A-14A0344D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B64-EFE3-474E-9D97-7F64DD34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B0A-B31E-420C-BD72-A9646D88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F93-426D-4C3B-83D2-FEB4388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-19440"/>
            <a:ext cx="77644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A91-ECEA-4B38-89D9-2D1597A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CF5-1D22-440E-84CD-6F1D5E7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D01-CE2A-4821-B44B-B7A9CBC1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1B3-1EEC-43F8-A2F4-B8801EA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226200" y="-56880"/>
            <a:ext cx="3007800" cy="3366360"/>
            <a:chOff x="6226200" y="-56880"/>
            <a:chExt cx="3007800" cy="3366360"/>
          </a:xfrm>
        </p:grpSpPr>
        <p:grpSp>
          <p:nvGrpSpPr>
            <p:cNvPr id="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Oval 4"/>
              <p:cNvSpPr/>
              <p:nvPr/>
            </p:nvSpPr>
            <p:spPr>
              <a:xfrm>
                <a:off x="7927200" y="2828160"/>
                <a:ext cx="24048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8159040" y="177264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Oval 10"/>
              <p:cNvSpPr/>
              <p:nvPr/>
            </p:nvSpPr>
            <p:spPr>
              <a:xfrm>
                <a:off x="6689160" y="32760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1"/>
            <p:cNvGrpSpPr/>
            <p:nvPr/>
          </p:nvGrpSpPr>
          <p:grpSpPr>
            <a:xfrm>
              <a:off x="6226200" y="-56880"/>
              <a:ext cx="3007800" cy="3366360"/>
              <a:chOff x="6226200" y="-56880"/>
              <a:chExt cx="3007800" cy="3366360"/>
            </a:xfrm>
          </p:grpSpPr>
          <p:grpSp>
            <p:nvGrpSpPr>
              <p:cNvPr id="11" name="Group 12"/>
              <p:cNvGrpSpPr/>
              <p:nvPr/>
            </p:nvGrpSpPr>
            <p:grpSpPr>
              <a:xfrm>
                <a:off x="6990480" y="402840"/>
                <a:ext cx="1496160" cy="1102680"/>
                <a:chOff x="6990480" y="402840"/>
                <a:chExt cx="1496160" cy="1102680"/>
              </a:xfrm>
            </p:grpSpPr>
            <p:sp>
              <p:nvSpPr>
                <p:cNvPr id="12" name="Oval 13"/>
                <p:cNvSpPr/>
                <p:nvPr/>
              </p:nvSpPr>
              <p:spPr>
                <a:xfrm>
                  <a:off x="6990480" y="402840"/>
                  <a:ext cx="1496160" cy="110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Oval 14"/>
                <p:cNvSpPr/>
                <p:nvPr/>
              </p:nvSpPr>
              <p:spPr>
                <a:xfrm>
                  <a:off x="7561080" y="804960"/>
                  <a:ext cx="296280" cy="20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5"/>
              <p:cNvGrpSpPr/>
              <p:nvPr/>
            </p:nvGrpSpPr>
            <p:grpSpPr>
              <a:xfrm>
                <a:off x="6226200" y="-56880"/>
                <a:ext cx="2962440" cy="2335320"/>
                <a:chOff x="6226200" y="-56880"/>
                <a:chExt cx="2962440" cy="2335320"/>
              </a:xfrm>
            </p:grpSpPr>
            <p:grpSp>
              <p:nvGrpSpPr>
                <p:cNvPr id="15" name="Group 16"/>
                <p:cNvGrpSpPr/>
                <p:nvPr/>
              </p:nvGrpSpPr>
              <p:grpSpPr>
                <a:xfrm>
                  <a:off x="7580880" y="866880"/>
                  <a:ext cx="1413360" cy="1194840"/>
                  <a:chOff x="7580880" y="866880"/>
                  <a:chExt cx="1413360" cy="1194840"/>
                </a:xfrm>
              </p:grpSpPr>
              <p:sp>
                <p:nvSpPr>
                  <p:cNvPr id="16" name="Freeform 17"/>
                  <p:cNvSpPr/>
                  <p:nvPr/>
                </p:nvSpPr>
                <p:spPr>
                  <a:xfrm rot="2700000">
                    <a:off x="7551360" y="1125720"/>
                    <a:ext cx="842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 rot="2700000">
                    <a:off x="8461080" y="1546200"/>
                    <a:ext cx="452160" cy="41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19"/>
                <p:cNvGrpSpPr/>
                <p:nvPr/>
              </p:nvGrpSpPr>
              <p:grpSpPr>
                <a:xfrm>
                  <a:off x="7850160" y="524160"/>
                  <a:ext cx="1338480" cy="1400400"/>
                  <a:chOff x="7850160" y="524160"/>
                  <a:chExt cx="1338480" cy="1400400"/>
                </a:xfrm>
              </p:grpSpPr>
              <p:sp>
                <p:nvSpPr>
                  <p:cNvPr id="19" name="Freeform 20"/>
                  <p:cNvSpPr/>
                  <p:nvPr/>
                </p:nvSpPr>
                <p:spPr>
                  <a:xfrm rot="2100000">
                    <a:off x="7844040" y="766080"/>
                    <a:ext cx="929880" cy="27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 rot="2100000">
                    <a:off x="8612280" y="1392480"/>
                    <a:ext cx="498600" cy="4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2"/>
                <p:cNvGrpSpPr/>
                <p:nvPr/>
              </p:nvGrpSpPr>
              <p:grpSpPr>
                <a:xfrm>
                  <a:off x="7838640" y="545400"/>
                  <a:ext cx="1347840" cy="1096200"/>
                  <a:chOff x="7838640" y="545400"/>
                  <a:chExt cx="1347840" cy="1096200"/>
                </a:xfrm>
              </p:grpSpPr>
              <p:sp>
                <p:nvSpPr>
                  <p:cNvPr id="22" name="Freeform 23"/>
                  <p:cNvSpPr/>
                  <p:nvPr/>
                </p:nvSpPr>
                <p:spPr>
                  <a:xfrm rot="1560000">
                    <a:off x="7844040" y="731160"/>
                    <a:ext cx="90180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 rot="1560000">
                    <a:off x="8646480" y="1185840"/>
                    <a:ext cx="48348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5"/>
                <p:cNvGrpSpPr/>
                <p:nvPr/>
              </p:nvGrpSpPr>
              <p:grpSpPr>
                <a:xfrm>
                  <a:off x="7827120" y="563760"/>
                  <a:ext cx="1357200" cy="855360"/>
                  <a:chOff x="7827120" y="563760"/>
                  <a:chExt cx="1357200" cy="855360"/>
                </a:xfrm>
              </p:grpSpPr>
              <p:sp>
                <p:nvSpPr>
                  <p:cNvPr id="25" name="Freeform 26"/>
                  <p:cNvSpPr/>
                  <p:nvPr/>
                </p:nvSpPr>
                <p:spPr>
                  <a:xfrm rot="1080000">
                    <a:off x="7842600" y="694080"/>
                    <a:ext cx="8834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 rot="1080000">
                    <a:off x="8662680" y="974160"/>
                    <a:ext cx="47412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8"/>
                <p:cNvGrpSpPr/>
                <p:nvPr/>
              </p:nvGrpSpPr>
              <p:grpSpPr>
                <a:xfrm>
                  <a:off x="7843680" y="598320"/>
                  <a:ext cx="1248840" cy="498960"/>
                  <a:chOff x="7843680" y="598320"/>
                  <a:chExt cx="1248840" cy="498960"/>
                </a:xfrm>
              </p:grpSpPr>
              <p:sp>
                <p:nvSpPr>
                  <p:cNvPr id="28" name="Freeform 29"/>
                  <p:cNvSpPr/>
                  <p:nvPr/>
                </p:nvSpPr>
                <p:spPr>
                  <a:xfrm rot="480000">
                    <a:off x="7853400" y="653040"/>
                    <a:ext cx="80496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 rot="480000">
                    <a:off x="8640360" y="756000"/>
                    <a:ext cx="4323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1"/>
                <p:cNvGrpSpPr/>
                <p:nvPr/>
              </p:nvGrpSpPr>
              <p:grpSpPr>
                <a:xfrm>
                  <a:off x="7867800" y="624240"/>
                  <a:ext cx="1105560" cy="200160"/>
                  <a:chOff x="7867800" y="624240"/>
                  <a:chExt cx="1105560" cy="200160"/>
                </a:xfrm>
              </p:grpSpPr>
              <p:sp>
                <p:nvSpPr>
                  <p:cNvPr id="31" name="Freeform 32"/>
                  <p:cNvSpPr/>
                  <p:nvPr/>
                </p:nvSpPr>
                <p:spPr>
                  <a:xfrm rot="21480000">
                    <a:off x="7869600" y="649080"/>
                    <a:ext cx="7232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 rot="21480000">
                    <a:off x="8581320" y="630720"/>
                    <a:ext cx="38880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4"/>
                <p:cNvGrpSpPr/>
                <p:nvPr/>
              </p:nvGrpSpPr>
              <p:grpSpPr>
                <a:xfrm>
                  <a:off x="7833960" y="380520"/>
                  <a:ext cx="1011960" cy="444960"/>
                  <a:chOff x="7833960" y="380520"/>
                  <a:chExt cx="1011960" cy="444960"/>
                </a:xfrm>
              </p:grpSpPr>
              <p:sp>
                <p:nvSpPr>
                  <p:cNvPr id="34" name="Freeform 35"/>
                  <p:cNvSpPr/>
                  <p:nvPr/>
                </p:nvSpPr>
                <p:spPr>
                  <a:xfrm rot="20760000">
                    <a:off x="7844400" y="583920"/>
                    <a:ext cx="64512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 rot="20760000">
                    <a:off x="8472960" y="418320"/>
                    <a:ext cx="34632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7"/>
                <p:cNvGrpSpPr/>
                <p:nvPr/>
              </p:nvGrpSpPr>
              <p:grpSpPr>
                <a:xfrm>
                  <a:off x="6436800" y="931320"/>
                  <a:ext cx="1427400" cy="1190520"/>
                  <a:chOff x="6436800" y="931320"/>
                  <a:chExt cx="1427400" cy="1190520"/>
                </a:xfrm>
              </p:grpSpPr>
              <p:sp>
                <p:nvSpPr>
                  <p:cNvPr id="37" name="Freeform 38"/>
                  <p:cNvSpPr/>
                  <p:nvPr/>
                </p:nvSpPr>
                <p:spPr>
                  <a:xfrm flipH="1" rot="18900000">
                    <a:off x="7052400" y="1190160"/>
                    <a:ext cx="84168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 flipH="1" rot="18900000">
                    <a:off x="6515640" y="1611360"/>
                    <a:ext cx="451080" cy="41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0"/>
                <p:cNvGrpSpPr/>
                <p:nvPr/>
              </p:nvGrpSpPr>
              <p:grpSpPr>
                <a:xfrm>
                  <a:off x="6226200" y="612720"/>
                  <a:ext cx="1335240" cy="1401480"/>
                  <a:chOff x="6226200" y="612720"/>
                  <a:chExt cx="1335240" cy="1401480"/>
                </a:xfrm>
              </p:grpSpPr>
              <p:sp>
                <p:nvSpPr>
                  <p:cNvPr id="40" name="Freeform 41"/>
                  <p:cNvSpPr/>
                  <p:nvPr/>
                </p:nvSpPr>
                <p:spPr>
                  <a:xfrm flipH="1" rot="19500000">
                    <a:off x="6636240" y="855000"/>
                    <a:ext cx="9309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 flipH="1" rot="19500000">
                    <a:off x="6303240" y="1482840"/>
                    <a:ext cx="499320" cy="42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3"/>
                <p:cNvGrpSpPr/>
                <p:nvPr/>
              </p:nvGrpSpPr>
              <p:grpSpPr>
                <a:xfrm>
                  <a:off x="6229800" y="637560"/>
                  <a:ext cx="1354320" cy="1094040"/>
                  <a:chOff x="6229800" y="637560"/>
                  <a:chExt cx="1354320" cy="1094040"/>
                </a:xfrm>
              </p:grpSpPr>
              <p:sp>
                <p:nvSpPr>
                  <p:cNvPr id="43" name="Freeform 44"/>
                  <p:cNvSpPr/>
                  <p:nvPr/>
                </p:nvSpPr>
                <p:spPr>
                  <a:xfrm flipH="1" rot="20040000">
                    <a:off x="6676200" y="823320"/>
                    <a:ext cx="90180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 flipH="1" rot="20040000">
                    <a:off x="6285960" y="1275480"/>
                    <a:ext cx="483480" cy="3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6"/>
                <p:cNvGrpSpPr/>
                <p:nvPr/>
              </p:nvGrpSpPr>
              <p:grpSpPr>
                <a:xfrm>
                  <a:off x="6226200" y="656280"/>
                  <a:ext cx="1371600" cy="855360"/>
                  <a:chOff x="6226200" y="656280"/>
                  <a:chExt cx="1371600" cy="855360"/>
                </a:xfrm>
              </p:grpSpPr>
              <p:sp>
                <p:nvSpPr>
                  <p:cNvPr id="46" name="Freeform 47"/>
                  <p:cNvSpPr/>
                  <p:nvPr/>
                </p:nvSpPr>
                <p:spPr>
                  <a:xfrm flipH="1" rot="20520000">
                    <a:off x="6699960" y="786600"/>
                    <a:ext cx="88200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 flipH="1" rot="20520000">
                    <a:off x="6272640" y="1067040"/>
                    <a:ext cx="47340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49"/>
                <p:cNvGrpSpPr/>
                <p:nvPr/>
              </p:nvGrpSpPr>
              <p:grpSpPr>
                <a:xfrm>
                  <a:off x="6318720" y="690480"/>
                  <a:ext cx="1249200" cy="495720"/>
                  <a:chOff x="6318720" y="690480"/>
                  <a:chExt cx="1249200" cy="495720"/>
                </a:xfrm>
              </p:grpSpPr>
              <p:sp>
                <p:nvSpPr>
                  <p:cNvPr id="49" name="Freeform 50"/>
                  <p:cNvSpPr/>
                  <p:nvPr/>
                </p:nvSpPr>
                <p:spPr>
                  <a:xfrm flipH="1" rot="21120000">
                    <a:off x="6752520" y="745200"/>
                    <a:ext cx="8049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 flipH="1" rot="21120000">
                    <a:off x="6338160" y="846000"/>
                    <a:ext cx="4323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2"/>
                <p:cNvGrpSpPr/>
                <p:nvPr/>
              </p:nvGrpSpPr>
              <p:grpSpPr>
                <a:xfrm>
                  <a:off x="6425640" y="713160"/>
                  <a:ext cx="1114920" cy="200160"/>
                  <a:chOff x="6425640" y="713160"/>
                  <a:chExt cx="1114920" cy="200160"/>
                </a:xfrm>
              </p:grpSpPr>
              <p:sp>
                <p:nvSpPr>
                  <p:cNvPr id="52" name="Freeform 53"/>
                  <p:cNvSpPr/>
                  <p:nvPr/>
                </p:nvSpPr>
                <p:spPr>
                  <a:xfrm flipH="1" rot="120000">
                    <a:off x="6817320" y="738000"/>
                    <a:ext cx="7210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 flipH="1" rot="120000">
                    <a:off x="6428520" y="719640"/>
                    <a:ext cx="38772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5"/>
                <p:cNvGrpSpPr/>
                <p:nvPr/>
              </p:nvGrpSpPr>
              <p:grpSpPr>
                <a:xfrm>
                  <a:off x="6551640" y="471600"/>
                  <a:ext cx="1018800" cy="443520"/>
                  <a:chOff x="6551640" y="471600"/>
                  <a:chExt cx="1018800" cy="443520"/>
                </a:xfrm>
              </p:grpSpPr>
              <p:sp>
                <p:nvSpPr>
                  <p:cNvPr id="55" name="Freeform 56"/>
                  <p:cNvSpPr/>
                  <p:nvPr/>
                </p:nvSpPr>
                <p:spPr>
                  <a:xfrm flipH="1" rot="840000">
                    <a:off x="6915240" y="674640"/>
                    <a:ext cx="6444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 flipH="1" rot="840000">
                    <a:off x="6577920" y="509400"/>
                    <a:ext cx="34524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8"/>
                <p:cNvGrpSpPr/>
                <p:nvPr/>
              </p:nvGrpSpPr>
              <p:grpSpPr>
                <a:xfrm>
                  <a:off x="6599160" y="343440"/>
                  <a:ext cx="1016640" cy="610920"/>
                  <a:chOff x="6599160" y="343440"/>
                  <a:chExt cx="1016640" cy="610920"/>
                </a:xfrm>
              </p:grpSpPr>
              <p:sp>
                <p:nvSpPr>
                  <p:cNvPr id="58" name="Freeform 59"/>
                  <p:cNvSpPr/>
                  <p:nvPr/>
                </p:nvSpPr>
                <p:spPr>
                  <a:xfrm flipH="1" rot="1260000">
                    <a:off x="6963120" y="669960"/>
                    <a:ext cx="6426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 flipH="1" rot="1260000">
                    <a:off x="6636240" y="396000"/>
                    <a:ext cx="34560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1"/>
                <p:cNvGrpSpPr/>
                <p:nvPr/>
              </p:nvGrpSpPr>
              <p:grpSpPr>
                <a:xfrm>
                  <a:off x="6694200" y="151920"/>
                  <a:ext cx="955440" cy="855720"/>
                  <a:chOff x="6694200" y="151920"/>
                  <a:chExt cx="955440" cy="855720"/>
                </a:xfrm>
              </p:grpSpPr>
              <p:sp>
                <p:nvSpPr>
                  <p:cNvPr id="61" name="Freeform 62"/>
                  <p:cNvSpPr/>
                  <p:nvPr/>
                </p:nvSpPr>
                <p:spPr>
                  <a:xfrm flipH="1" rot="2040000">
                    <a:off x="7023960" y="667440"/>
                    <a:ext cx="62820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 flipH="1" rot="2040000">
                    <a:off x="6744600" y="221400"/>
                    <a:ext cx="33696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4"/>
                <p:cNvGrpSpPr/>
                <p:nvPr/>
              </p:nvGrpSpPr>
              <p:grpSpPr>
                <a:xfrm>
                  <a:off x="6806160" y="-15120"/>
                  <a:ext cx="851040" cy="1026720"/>
                  <a:chOff x="6806160" y="-15120"/>
                  <a:chExt cx="851040" cy="1026720"/>
                </a:xfrm>
              </p:grpSpPr>
              <p:sp>
                <p:nvSpPr>
                  <p:cNvPr id="64" name="Freeform 65"/>
                  <p:cNvSpPr/>
                  <p:nvPr/>
                </p:nvSpPr>
                <p:spPr>
                  <a:xfrm flipH="1" rot="2700000">
                    <a:off x="7075080" y="642240"/>
                    <a:ext cx="6062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 flipH="1" rot="2700000">
                    <a:off x="6859800" y="57960"/>
                    <a:ext cx="325800" cy="28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7043400" y="-17280"/>
                  <a:ext cx="815400" cy="818280"/>
                  <a:chOff x="7043400" y="-17280"/>
                  <a:chExt cx="815400" cy="81828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 flipH="1" rot="3480000">
                    <a:off x="7352280" y="433800"/>
                    <a:ext cx="57132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 flipH="1" rot="3480000">
                    <a:off x="7080480" y="51840"/>
                    <a:ext cx="3063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0"/>
                <p:cNvGrpSpPr/>
                <p:nvPr/>
              </p:nvGrpSpPr>
              <p:grpSpPr>
                <a:xfrm>
                  <a:off x="7245360" y="-56880"/>
                  <a:ext cx="601920" cy="855360"/>
                  <a:chOff x="7245360" y="-56880"/>
                  <a:chExt cx="601920" cy="855360"/>
                </a:xfrm>
              </p:grpSpPr>
              <p:sp>
                <p:nvSpPr>
                  <p:cNvPr id="70" name="Freeform 71"/>
                  <p:cNvSpPr/>
                  <p:nvPr/>
                </p:nvSpPr>
                <p:spPr>
                  <a:xfrm flipH="1" rot="4140000">
                    <a:off x="7395840" y="432000"/>
                    <a:ext cx="55692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 flipH="1" rot="4140000">
                    <a:off x="7264080" y="3600"/>
                    <a:ext cx="29844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3"/>
                <p:cNvGrpSpPr/>
                <p:nvPr/>
              </p:nvGrpSpPr>
              <p:grpSpPr>
                <a:xfrm>
                  <a:off x="7789320" y="217800"/>
                  <a:ext cx="997560" cy="628560"/>
                  <a:chOff x="7789320" y="217800"/>
                  <a:chExt cx="997560" cy="628560"/>
                </a:xfrm>
              </p:grpSpPr>
              <p:sp>
                <p:nvSpPr>
                  <p:cNvPr id="73" name="Freeform 74"/>
                  <p:cNvSpPr/>
                  <p:nvPr/>
                </p:nvSpPr>
                <p:spPr>
                  <a:xfrm rot="20280000">
                    <a:off x="7797960" y="558720"/>
                    <a:ext cx="6440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 rot="20280000">
                    <a:off x="8401680" y="272520"/>
                    <a:ext cx="34632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6"/>
                <p:cNvGrpSpPr/>
                <p:nvPr/>
              </p:nvGrpSpPr>
              <p:grpSpPr>
                <a:xfrm>
                  <a:off x="7743960" y="67320"/>
                  <a:ext cx="950040" cy="833040"/>
                  <a:chOff x="7743960" y="67320"/>
                  <a:chExt cx="950040" cy="833040"/>
                </a:xfrm>
              </p:grpSpPr>
              <p:sp>
                <p:nvSpPr>
                  <p:cNvPr id="76" name="Freeform 77"/>
                  <p:cNvSpPr/>
                  <p:nvPr/>
                </p:nvSpPr>
                <p:spPr>
                  <a:xfrm rot="19680000">
                    <a:off x="7742880" y="566640"/>
                    <a:ext cx="63504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 rot="19680000">
                    <a:off x="8304840" y="136080"/>
                    <a:ext cx="3402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79"/>
                <p:cNvSpPr/>
                <p:nvPr/>
              </p:nvSpPr>
              <p:spPr>
                <a:xfrm flipH="1" rot="4560000">
                  <a:off x="7419600" y="487440"/>
                  <a:ext cx="526680" cy="74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0"/>
                <p:cNvSpPr/>
                <p:nvPr/>
              </p:nvSpPr>
              <p:spPr>
                <a:xfrm flipH="1" rot="4560000">
                  <a:off x="7430040" y="101160"/>
                  <a:ext cx="28224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1"/>
                <p:cNvGrpSpPr/>
                <p:nvPr/>
              </p:nvGrpSpPr>
              <p:grpSpPr>
                <a:xfrm>
                  <a:off x="7557120" y="-43920"/>
                  <a:ext cx="657000" cy="835200"/>
                  <a:chOff x="7557120" y="-43920"/>
                  <a:chExt cx="657000" cy="835200"/>
                </a:xfrm>
              </p:grpSpPr>
              <p:sp>
                <p:nvSpPr>
                  <p:cNvPr id="81" name="Freeform 82"/>
                  <p:cNvSpPr/>
                  <p:nvPr/>
                </p:nvSpPr>
                <p:spPr>
                  <a:xfrm rot="17760000">
                    <a:off x="7467480" y="441720"/>
                    <a:ext cx="5482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 rot="17760000">
                    <a:off x="7900920" y="24120"/>
                    <a:ext cx="29376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4"/>
                <p:cNvGrpSpPr/>
                <p:nvPr/>
              </p:nvGrpSpPr>
              <p:grpSpPr>
                <a:xfrm>
                  <a:off x="7492320" y="-25920"/>
                  <a:ext cx="1015560" cy="805320"/>
                  <a:chOff x="7492320" y="-25920"/>
                  <a:chExt cx="1015560" cy="805320"/>
                </a:xfrm>
              </p:grpSpPr>
              <p:sp>
                <p:nvSpPr>
                  <p:cNvPr id="84" name="Freeform 85"/>
                  <p:cNvSpPr/>
                  <p:nvPr/>
                </p:nvSpPr>
                <p:spPr>
                  <a:xfrm rot="18840000">
                    <a:off x="7477920" y="390600"/>
                    <a:ext cx="58680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 rot="18840000">
                    <a:off x="8123760" y="37080"/>
                    <a:ext cx="314280" cy="32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7"/>
                <p:cNvGrpSpPr/>
                <p:nvPr/>
              </p:nvGrpSpPr>
              <p:grpSpPr>
                <a:xfrm>
                  <a:off x="7682040" y="1800"/>
                  <a:ext cx="223560" cy="745200"/>
                  <a:chOff x="7682040" y="1800"/>
                  <a:chExt cx="223560" cy="745200"/>
                </a:xfrm>
              </p:grpSpPr>
              <p:sp>
                <p:nvSpPr>
                  <p:cNvPr id="87" name="Freeform 88"/>
                  <p:cNvSpPr/>
                  <p:nvPr/>
                </p:nvSpPr>
                <p:spPr>
                  <a:xfrm rot="16680000">
                    <a:off x="7500600" y="468360"/>
                    <a:ext cx="4917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 rot="16680000">
                    <a:off x="7707600" y="90360"/>
                    <a:ext cx="2631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0"/>
                <p:cNvGrpSpPr/>
                <p:nvPr/>
              </p:nvGrpSpPr>
              <p:grpSpPr>
                <a:xfrm>
                  <a:off x="6606000" y="931320"/>
                  <a:ext cx="1250280" cy="1313640"/>
                  <a:chOff x="6606000" y="931320"/>
                  <a:chExt cx="1250280" cy="1313640"/>
                </a:xfrm>
              </p:grpSpPr>
              <p:sp>
                <p:nvSpPr>
                  <p:cNvPr id="90" name="Freeform 91"/>
                  <p:cNvSpPr/>
                  <p:nvPr/>
                </p:nvSpPr>
                <p:spPr>
                  <a:xfrm flipH="1" rot="18360000">
                    <a:off x="7053840" y="1231560"/>
                    <a:ext cx="87660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 flipH="1" rot="18360000">
                    <a:off x="6674400" y="1729440"/>
                    <a:ext cx="47052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3"/>
                <p:cNvGrpSpPr/>
                <p:nvPr/>
              </p:nvGrpSpPr>
              <p:grpSpPr>
                <a:xfrm>
                  <a:off x="6945480" y="960840"/>
                  <a:ext cx="828000" cy="1317600"/>
                  <a:chOff x="6945480" y="960840"/>
                  <a:chExt cx="828000" cy="1317600"/>
                </a:xfrm>
              </p:grpSpPr>
              <p:sp>
                <p:nvSpPr>
                  <p:cNvPr id="93" name="Freeform 94"/>
                  <p:cNvSpPr/>
                  <p:nvPr/>
                </p:nvSpPr>
                <p:spPr>
                  <a:xfrm flipH="1" rot="17520000">
                    <a:off x="7082280" y="1270800"/>
                    <a:ext cx="83700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 flipH="1" rot="17520000">
                    <a:off x="6985440" y="1801440"/>
                    <a:ext cx="450000" cy="39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6"/>
                <p:cNvGrpSpPr/>
                <p:nvPr/>
              </p:nvGrpSpPr>
              <p:grpSpPr>
                <a:xfrm>
                  <a:off x="7279920" y="988560"/>
                  <a:ext cx="469800" cy="1252800"/>
                  <a:chOff x="7279920" y="988560"/>
                  <a:chExt cx="469800" cy="1252800"/>
                </a:xfrm>
              </p:grpSpPr>
              <p:sp>
                <p:nvSpPr>
                  <p:cNvPr id="96" name="Freeform 97"/>
                  <p:cNvSpPr/>
                  <p:nvPr/>
                </p:nvSpPr>
                <p:spPr>
                  <a:xfrm flipH="1" rot="16860000">
                    <a:off x="7170480" y="1296360"/>
                    <a:ext cx="7995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 flipH="1" rot="16860000">
                    <a:off x="7267680" y="1835640"/>
                    <a:ext cx="42804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99"/>
                <p:cNvGrpSpPr/>
                <p:nvPr/>
              </p:nvGrpSpPr>
              <p:grpSpPr>
                <a:xfrm>
                  <a:off x="7563600" y="915120"/>
                  <a:ext cx="1287000" cy="1296360"/>
                  <a:chOff x="7563600" y="915120"/>
                  <a:chExt cx="1287000" cy="1296360"/>
                </a:xfrm>
              </p:grpSpPr>
              <p:sp>
                <p:nvSpPr>
                  <p:cNvPr id="99" name="Freeform 100"/>
                  <p:cNvSpPr/>
                  <p:nvPr/>
                </p:nvSpPr>
                <p:spPr>
                  <a:xfrm rot="3120000">
                    <a:off x="7500600" y="1206360"/>
                    <a:ext cx="8683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 rot="3120000">
                    <a:off x="8310240" y="1692000"/>
                    <a:ext cx="466200" cy="41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2"/>
                <p:cNvGrpSpPr/>
                <p:nvPr/>
              </p:nvGrpSpPr>
              <p:grpSpPr>
                <a:xfrm>
                  <a:off x="7602840" y="941760"/>
                  <a:ext cx="1003320" cy="1330560"/>
                  <a:chOff x="7602840" y="941760"/>
                  <a:chExt cx="1003320" cy="1330560"/>
                </a:xfrm>
              </p:grpSpPr>
              <p:sp>
                <p:nvSpPr>
                  <p:cNvPr id="102" name="Freeform 103"/>
                  <p:cNvSpPr/>
                  <p:nvPr/>
                </p:nvSpPr>
                <p:spPr>
                  <a:xfrm rot="3720000">
                    <a:off x="7485480" y="1253160"/>
                    <a:ext cx="8557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 rot="3720000">
                    <a:off x="8096040" y="1782360"/>
                    <a:ext cx="45936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5"/>
                <p:cNvGrpSpPr/>
                <p:nvPr/>
              </p:nvGrpSpPr>
              <p:grpSpPr>
                <a:xfrm>
                  <a:off x="7627320" y="988920"/>
                  <a:ext cx="708120" cy="1286640"/>
                  <a:chOff x="7627320" y="988920"/>
                  <a:chExt cx="708120" cy="1286640"/>
                </a:xfrm>
              </p:grpSpPr>
              <p:sp>
                <p:nvSpPr>
                  <p:cNvPr id="105" name="Freeform 106"/>
                  <p:cNvSpPr/>
                  <p:nvPr/>
                </p:nvSpPr>
                <p:spPr>
                  <a:xfrm rot="4260000">
                    <a:off x="7442640" y="1313280"/>
                    <a:ext cx="83052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 rot="4260000">
                    <a:off x="7891200" y="1855800"/>
                    <a:ext cx="4449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8"/>
                <p:cNvGrpSpPr/>
                <p:nvPr/>
              </p:nvGrpSpPr>
              <p:grpSpPr>
                <a:xfrm>
                  <a:off x="7690320" y="1049760"/>
                  <a:ext cx="363600" cy="1173240"/>
                  <a:chOff x="7690320" y="1049760"/>
                  <a:chExt cx="363600" cy="1173240"/>
                </a:xfrm>
              </p:grpSpPr>
              <p:sp>
                <p:nvSpPr>
                  <p:cNvPr id="108" name="Freeform 109"/>
                  <p:cNvSpPr/>
                  <p:nvPr/>
                </p:nvSpPr>
                <p:spPr>
                  <a:xfrm rot="4920000">
                    <a:off x="7445880" y="1354320"/>
                    <a:ext cx="7646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0"/>
                  <p:cNvSpPr/>
                  <p:nvPr/>
                </p:nvSpPr>
                <p:spPr>
                  <a:xfrm rot="4920000">
                    <a:off x="7686000" y="1865520"/>
                    <a:ext cx="409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1"/>
                <p:cNvGrpSpPr/>
                <p:nvPr/>
              </p:nvGrpSpPr>
              <p:grpSpPr>
                <a:xfrm>
                  <a:off x="7488720" y="1071360"/>
                  <a:ext cx="331560" cy="1142640"/>
                  <a:chOff x="7488720" y="1071360"/>
                  <a:chExt cx="331560" cy="1142640"/>
                </a:xfrm>
              </p:grpSpPr>
              <p:sp>
                <p:nvSpPr>
                  <p:cNvPr id="111" name="Freeform 112"/>
                  <p:cNvSpPr/>
                  <p:nvPr/>
                </p:nvSpPr>
                <p:spPr>
                  <a:xfrm rot="5760000">
                    <a:off x="7348680" y="1385280"/>
                    <a:ext cx="7426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3"/>
                  <p:cNvSpPr/>
                  <p:nvPr/>
                </p:nvSpPr>
                <p:spPr>
                  <a:xfrm rot="5760000">
                    <a:off x="7405920" y="1910160"/>
                    <a:ext cx="39780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4"/>
              <p:cNvSpPr/>
              <p:nvPr/>
            </p:nvSpPr>
            <p:spPr>
              <a:xfrm flipH="1">
                <a:off x="7294680" y="1221480"/>
                <a:ext cx="248760" cy="758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115"/>
              <p:cNvSpPr/>
              <p:nvPr/>
            </p:nvSpPr>
            <p:spPr>
              <a:xfrm flipH="1">
                <a:off x="6845040" y="905760"/>
                <a:ext cx="2178000" cy="2403720"/>
              </a:xfrm>
              <a:custGeom>
                <a:avLst/>
                <a:gdLst>
                  <a:gd name="textAreaLeft" fmla="*/ 1088280 w 2178000"/>
                  <a:gd name="textAreaRight" fmla="*/ 2178360 w 2178000"/>
                  <a:gd name="textAreaTop" fmla="*/ 42840 h 2403720"/>
                  <a:gd name="textAreaBottom" fmla="*/ 1223280 h 2403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AutoShape 116"/>
              <p:cNvSpPr/>
              <p:nvPr/>
            </p:nvSpPr>
            <p:spPr>
              <a:xfrm flipV="1">
                <a:off x="7682400" y="232560"/>
                <a:ext cx="1551600" cy="2098800"/>
              </a:xfrm>
              <a:custGeom>
                <a:avLst/>
                <a:gdLst>
                  <a:gd name="textAreaLeft" fmla="*/ 141120 w 1551600"/>
                  <a:gd name="textAreaRight" fmla="*/ 1458000 w 1551600"/>
                  <a:gd name="textAreaTop" fmla="*/ 1048680 h 2098800"/>
                  <a:gd name="textAreaBottom" fmla="*/ 2099160 h 2098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  <a:lnTo>
                      <a:pt x="10800" y="10800"/>
                    </a:lnTo>
                    <a:lnTo>
                      <a:pt x="20251" y="16025"/>
                    </a:lnTo>
                    <a:close/>
                  </a:path>
                  <a:path fill="none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AutoShape 117"/>
              <p:cNvSpPr/>
              <p:nvPr/>
            </p:nvSpPr>
            <p:spPr>
              <a:xfrm flipH="1">
                <a:off x="6953400" y="758160"/>
                <a:ext cx="955080" cy="2397240"/>
              </a:xfrm>
              <a:custGeom>
                <a:avLst/>
                <a:gdLst>
                  <a:gd name="textAreaLeft" fmla="*/ 318600 w 955080"/>
                  <a:gd name="textAreaRight" fmla="*/ 955080 w 95508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AutoShape 118"/>
              <p:cNvSpPr/>
              <p:nvPr/>
            </p:nvSpPr>
            <p:spPr>
              <a:xfrm flipH="1">
                <a:off x="6501240" y="821520"/>
                <a:ext cx="1464120" cy="2394360"/>
              </a:xfrm>
              <a:custGeom>
                <a:avLst/>
                <a:gdLst>
                  <a:gd name="textAreaLeft" fmla="*/ 429480 w 1464120"/>
                  <a:gd name="textAreaRight" fmla="*/ 1464120 w 1464120"/>
                  <a:gd name="textAreaTop" fmla="*/ 0 h 2394360"/>
                  <a:gd name="textAreaBottom" fmla="*/ 1218600 h 23943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6363" y="953"/>
                    </a:lnTo>
                    <a:close/>
                  </a:path>
                  <a:path fill="none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AutoShape 119"/>
              <p:cNvSpPr/>
              <p:nvPr/>
            </p:nvSpPr>
            <p:spPr>
              <a:xfrm flipH="1">
                <a:off x="6410880" y="599760"/>
                <a:ext cx="1532520" cy="2397240"/>
              </a:xfrm>
              <a:custGeom>
                <a:avLst/>
                <a:gdLst>
                  <a:gd name="textAreaLeft" fmla="*/ 313560 w 1532520"/>
                  <a:gd name="textAreaRight" fmla="*/ 1532520 w 153252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AutoShape 120"/>
              <p:cNvSpPr/>
              <p:nvPr/>
            </p:nvSpPr>
            <p:spPr>
              <a:xfrm>
                <a:off x="7712640" y="770760"/>
                <a:ext cx="242640" cy="2397240"/>
              </a:xfrm>
              <a:custGeom>
                <a:avLst/>
                <a:gdLst>
                  <a:gd name="textAreaLeft" fmla="*/ 47520 w 242640"/>
                  <a:gd name="textAreaRight" fmla="*/ 243000 w 24264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AutoShape 121"/>
              <p:cNvSpPr/>
              <p:nvPr/>
            </p:nvSpPr>
            <p:spPr>
              <a:xfrm>
                <a:off x="7685640" y="764280"/>
                <a:ext cx="642240" cy="2397600"/>
              </a:xfrm>
              <a:custGeom>
                <a:avLst/>
                <a:gdLst>
                  <a:gd name="textAreaLeft" fmla="*/ 126720 w 642240"/>
                  <a:gd name="textAreaRight" fmla="*/ 642600 w 642240"/>
                  <a:gd name="textAreaTop" fmla="*/ 0 h 2397600"/>
                  <a:gd name="textAreaBottom" fmla="*/ 1220400 h 2397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AutoShape 122"/>
              <p:cNvSpPr/>
              <p:nvPr/>
            </p:nvSpPr>
            <p:spPr>
              <a:xfrm>
                <a:off x="7677720" y="606240"/>
                <a:ext cx="910440" cy="2397240"/>
              </a:xfrm>
              <a:custGeom>
                <a:avLst/>
                <a:gdLst>
                  <a:gd name="textAreaLeft" fmla="*/ 180720 w 910440"/>
                  <a:gd name="textAreaRight" fmla="*/ 910800 w 91044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23"/>
              <p:cNvSpPr/>
              <p:nvPr/>
            </p:nvSpPr>
            <p:spPr>
              <a:xfrm>
                <a:off x="7998480" y="1351440"/>
                <a:ext cx="247320" cy="758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24"/>
              <p:cNvSpPr/>
              <p:nvPr/>
            </p:nvSpPr>
            <p:spPr>
              <a:xfrm flipV="1" rot="19680000">
                <a:off x="7613640" y="1102680"/>
                <a:ext cx="225360" cy="42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AutoShape 125"/>
              <p:cNvSpPr/>
              <p:nvPr/>
            </p:nvSpPr>
            <p:spPr>
              <a:xfrm flipH="1">
                <a:off x="6338520" y="417240"/>
                <a:ext cx="1537200" cy="2397240"/>
              </a:xfrm>
              <a:custGeom>
                <a:avLst/>
                <a:gdLst>
                  <a:gd name="textAreaLeft" fmla="*/ 235080 w 1537200"/>
                  <a:gd name="textAreaRight" fmla="*/ 1537920 w 1537200"/>
                  <a:gd name="textAreaTop" fmla="*/ 0 h 2397240"/>
                  <a:gd name="textAreaBottom" fmla="*/ 1220040 h 2397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3185" y="3141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AutoShape 126"/>
              <p:cNvSpPr/>
              <p:nvPr/>
            </p:nvSpPr>
            <p:spPr>
              <a:xfrm flipH="1">
                <a:off x="6478200" y="159840"/>
                <a:ext cx="1280160" cy="2362320"/>
              </a:xfrm>
              <a:custGeom>
                <a:avLst/>
                <a:gdLst>
                  <a:gd name="textAreaLeft" fmla="*/ 104400 w 1280160"/>
                  <a:gd name="textAreaRight" fmla="*/ 1051920 w 1280160"/>
                  <a:gd name="textAreaTop" fmla="*/ 0 h 2362320"/>
                  <a:gd name="textAreaBottom" fmla="*/ 1180440 h 2362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  <a:lnTo>
                      <a:pt x="10800" y="10800"/>
                    </a:lnTo>
                    <a:lnTo>
                      <a:pt x="1684" y="5007"/>
                    </a:lnTo>
                    <a:close/>
                  </a:path>
                  <a:path fill="none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AutoShape 127"/>
              <p:cNvSpPr/>
              <p:nvPr/>
            </p:nvSpPr>
            <p:spPr>
              <a:xfrm>
                <a:off x="7614000" y="656640"/>
                <a:ext cx="542880" cy="2363760"/>
              </a:xfrm>
              <a:custGeom>
                <a:avLst/>
                <a:gdLst>
                  <a:gd name="textAreaLeft" fmla="*/ 108000 w 542880"/>
                  <a:gd name="textAreaRight" fmla="*/ 498600 w 54288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8"/>
              <p:cNvSpPr/>
              <p:nvPr/>
            </p:nvSpPr>
            <p:spPr>
              <a:xfrm flipH="1">
                <a:off x="6554520" y="1285200"/>
                <a:ext cx="555120" cy="780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29"/>
              <p:cNvSpPr/>
              <p:nvPr/>
            </p:nvSpPr>
            <p:spPr>
              <a:xfrm flipH="1">
                <a:off x="6814080" y="456840"/>
                <a:ext cx="356760" cy="78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30"/>
              <p:cNvSpPr/>
              <p:nvPr/>
            </p:nvSpPr>
            <p:spPr>
              <a:xfrm flipH="1">
                <a:off x="7226280" y="225000"/>
                <a:ext cx="214200" cy="780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1"/>
              <p:cNvSpPr/>
              <p:nvPr/>
            </p:nvSpPr>
            <p:spPr>
              <a:xfrm>
                <a:off x="8561520" y="1169280"/>
                <a:ext cx="517320" cy="82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32"/>
              <p:cNvSpPr/>
              <p:nvPr/>
            </p:nvSpPr>
            <p:spPr>
              <a:xfrm>
                <a:off x="8293320" y="753480"/>
                <a:ext cx="778680" cy="547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33"/>
              <p:cNvSpPr/>
              <p:nvPr/>
            </p:nvSpPr>
            <p:spPr>
              <a:xfrm>
                <a:off x="8321760" y="172800"/>
                <a:ext cx="33948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4"/>
              <p:cNvSpPr/>
              <p:nvPr/>
            </p:nvSpPr>
            <p:spPr>
              <a:xfrm rot="20220000">
                <a:off x="7985520" y="789840"/>
                <a:ext cx="226800" cy="42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35"/>
              <p:cNvSpPr/>
              <p:nvPr/>
            </p:nvSpPr>
            <p:spPr>
              <a:xfrm flipH="1" rot="1380000">
                <a:off x="7176240" y="778680"/>
                <a:ext cx="226800" cy="429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BCDD4-5479-4FFB-AB4B-C6ECE48C23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"/>
          <p:cNvGrpSpPr/>
          <p:nvPr/>
        </p:nvGrpSpPr>
        <p:grpSpPr>
          <a:xfrm>
            <a:off x="1899000" y="169560"/>
            <a:ext cx="7228800" cy="8088120"/>
            <a:chOff x="1899000" y="169560"/>
            <a:chExt cx="7228800" cy="8088120"/>
          </a:xfrm>
        </p:grpSpPr>
        <p:grpSp>
          <p:nvGrpSpPr>
            <p:cNvPr id="177" name="Group 2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178" name="Oval 3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4"/>
              <p:cNvSpPr/>
              <p:nvPr/>
            </p:nvSpPr>
            <p:spPr>
              <a:xfrm>
                <a:off x="3822120" y="1262880"/>
                <a:ext cx="22824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"/>
            <p:cNvGrpSpPr/>
            <p:nvPr/>
          </p:nvGrpSpPr>
          <p:grpSpPr>
            <a:xfrm>
              <a:off x="1899000" y="169560"/>
              <a:ext cx="7228800" cy="7859520"/>
              <a:chOff x="1899000" y="169560"/>
              <a:chExt cx="7228800" cy="7859520"/>
            </a:xfrm>
          </p:grpSpPr>
          <p:grpSp>
            <p:nvGrpSpPr>
              <p:cNvPr id="181" name="Group 6"/>
              <p:cNvGrpSpPr/>
              <p:nvPr/>
            </p:nvGrpSpPr>
            <p:grpSpPr>
              <a:xfrm>
                <a:off x="1899000" y="169560"/>
                <a:ext cx="7119360" cy="5618520"/>
                <a:chOff x="1899000" y="169560"/>
                <a:chExt cx="7119360" cy="5618520"/>
              </a:xfrm>
            </p:grpSpPr>
            <p:grpSp>
              <p:nvGrpSpPr>
                <p:cNvPr id="18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18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9"/>
                  <p:cNvSpPr/>
                  <p:nvPr/>
                </p:nvSpPr>
                <p:spPr>
                  <a:xfrm>
                    <a:off x="5109480" y="2235960"/>
                    <a:ext cx="71388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0"/>
                <p:cNvGrpSpPr/>
                <p:nvPr/>
              </p:nvGrpSpPr>
              <p:grpSpPr>
                <a:xfrm>
                  <a:off x="1899000" y="169560"/>
                  <a:ext cx="7119360" cy="5618520"/>
                  <a:chOff x="1899000" y="169560"/>
                  <a:chExt cx="7119360" cy="5618520"/>
                </a:xfrm>
              </p:grpSpPr>
              <p:grpSp>
                <p:nvGrpSpPr>
                  <p:cNvPr id="186" name="Group 11"/>
                  <p:cNvGrpSpPr/>
                  <p:nvPr/>
                </p:nvGrpSpPr>
                <p:grpSpPr>
                  <a:xfrm>
                    <a:off x="5136120" y="2397960"/>
                    <a:ext cx="3428280" cy="2856960"/>
                    <a:chOff x="5136120" y="2397960"/>
                    <a:chExt cx="3428280" cy="2856960"/>
                  </a:xfrm>
                </p:grpSpPr>
                <p:sp>
                  <p:nvSpPr>
                    <p:cNvPr id="187" name="Freeform 12"/>
                    <p:cNvSpPr/>
                    <p:nvPr/>
                  </p:nvSpPr>
                  <p:spPr>
                    <a:xfrm rot="2700000">
                      <a:off x="5062320" y="3022560"/>
                      <a:ext cx="2028960" cy="63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3"/>
                    <p:cNvSpPr/>
                    <p:nvPr/>
                  </p:nvSpPr>
                  <p:spPr>
                    <a:xfrm rot="2700000">
                      <a:off x="7283880" y="4020840"/>
                      <a:ext cx="1087920" cy="99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4"/>
                  <p:cNvGrpSpPr/>
                  <p:nvPr/>
                </p:nvGrpSpPr>
                <p:grpSpPr>
                  <a:xfrm>
                    <a:off x="5801760" y="1561320"/>
                    <a:ext cx="3216600" cy="3358080"/>
                    <a:chOff x="5801760" y="1561320"/>
                    <a:chExt cx="3216600" cy="3358080"/>
                  </a:xfrm>
                </p:grpSpPr>
                <p:sp>
                  <p:nvSpPr>
                    <p:cNvPr id="190" name="Freeform 15"/>
                    <p:cNvSpPr/>
                    <p:nvPr/>
                  </p:nvSpPr>
                  <p:spPr>
                    <a:xfrm rot="2100000">
                      <a:off x="5787720" y="2143080"/>
                      <a:ext cx="2236680" cy="65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6"/>
                    <p:cNvSpPr/>
                    <p:nvPr/>
                  </p:nvSpPr>
                  <p:spPr>
                    <a:xfrm rot="2100000">
                      <a:off x="7630560" y="3635640"/>
                      <a:ext cx="1199880" cy="103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7"/>
                  <p:cNvGrpSpPr/>
                  <p:nvPr/>
                </p:nvGrpSpPr>
                <p:grpSpPr>
                  <a:xfrm>
                    <a:off x="5765760" y="1625040"/>
                    <a:ext cx="3246840" cy="2633040"/>
                    <a:chOff x="5765760" y="1625040"/>
                    <a:chExt cx="3246840" cy="2633040"/>
                  </a:xfrm>
                </p:grpSpPr>
                <p:sp>
                  <p:nvSpPr>
                    <p:cNvPr id="193" name="Freeform 18"/>
                    <p:cNvSpPr/>
                    <p:nvPr/>
                  </p:nvSpPr>
                  <p:spPr>
                    <a:xfrm rot="1560000">
                      <a:off x="5779800" y="2071800"/>
                      <a:ext cx="2169720" cy="56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19"/>
                    <p:cNvSpPr/>
                    <p:nvPr/>
                  </p:nvSpPr>
                  <p:spPr>
                    <a:xfrm rot="1560000">
                      <a:off x="7711200" y="3158280"/>
                      <a:ext cx="1165320" cy="88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0"/>
                  <p:cNvGrpSpPr/>
                  <p:nvPr/>
                </p:nvGrpSpPr>
                <p:grpSpPr>
                  <a:xfrm>
                    <a:off x="5731200" y="1649880"/>
                    <a:ext cx="3281760" cy="2080440"/>
                    <a:chOff x="5731200" y="1649880"/>
                    <a:chExt cx="3281760" cy="2080440"/>
                  </a:xfrm>
                </p:grpSpPr>
                <p:sp>
                  <p:nvSpPr>
                    <p:cNvPr id="196" name="Freeform 21"/>
                    <p:cNvSpPr/>
                    <p:nvPr/>
                  </p:nvSpPr>
                  <p:spPr>
                    <a:xfrm rot="1080000">
                      <a:off x="5768640" y="1963800"/>
                      <a:ext cx="2123640" cy="57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2"/>
                    <p:cNvSpPr/>
                    <p:nvPr/>
                  </p:nvSpPr>
                  <p:spPr>
                    <a:xfrm rot="1080000">
                      <a:off x="7759080" y="2668680"/>
                      <a:ext cx="1141560" cy="90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3"/>
                  <p:cNvGrpSpPr/>
                  <p:nvPr/>
                </p:nvGrpSpPr>
                <p:grpSpPr>
                  <a:xfrm>
                    <a:off x="5788080" y="1742040"/>
                    <a:ext cx="3006000" cy="1202400"/>
                    <a:chOff x="5788080" y="1742040"/>
                    <a:chExt cx="3006000" cy="1202400"/>
                  </a:xfrm>
                </p:grpSpPr>
                <p:sp>
                  <p:nvSpPr>
                    <p:cNvPr id="199" name="Freeform 24"/>
                    <p:cNvSpPr/>
                    <p:nvPr/>
                  </p:nvSpPr>
                  <p:spPr>
                    <a:xfrm rot="480000">
                      <a:off x="5811840" y="1874520"/>
                      <a:ext cx="1940760" cy="47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5"/>
                    <p:cNvSpPr/>
                    <p:nvPr/>
                  </p:nvSpPr>
                  <p:spPr>
                    <a:xfrm rot="480000">
                      <a:off x="7703280" y="2123640"/>
                      <a:ext cx="1043280" cy="75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6"/>
                  <p:cNvGrpSpPr/>
                  <p:nvPr/>
                </p:nvGrpSpPr>
                <p:grpSpPr>
                  <a:xfrm>
                    <a:off x="5838840" y="1795320"/>
                    <a:ext cx="2677320" cy="484200"/>
                    <a:chOff x="5838840" y="1795320"/>
                    <a:chExt cx="2677320" cy="484200"/>
                  </a:xfrm>
                </p:grpSpPr>
                <p:sp>
                  <p:nvSpPr>
                    <p:cNvPr id="202" name="Freeform 27"/>
                    <p:cNvSpPr/>
                    <p:nvPr/>
                  </p:nvSpPr>
                  <p:spPr>
                    <a:xfrm rot="21480000">
                      <a:off x="5843160" y="1837800"/>
                      <a:ext cx="17355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8"/>
                    <p:cNvSpPr/>
                    <p:nvPr/>
                  </p:nvSpPr>
                  <p:spPr>
                    <a:xfrm rot="21480000">
                      <a:off x="7575840" y="1811160"/>
                      <a:ext cx="932760" cy="45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29"/>
                  <p:cNvGrpSpPr/>
                  <p:nvPr/>
                </p:nvGrpSpPr>
                <p:grpSpPr>
                  <a:xfrm>
                    <a:off x="5757840" y="1208880"/>
                    <a:ext cx="2456280" cy="1070640"/>
                    <a:chOff x="5757840" y="1208880"/>
                    <a:chExt cx="2456280" cy="1070640"/>
                  </a:xfrm>
                </p:grpSpPr>
                <p:sp>
                  <p:nvSpPr>
                    <p:cNvPr id="205" name="Freeform 30"/>
                    <p:cNvSpPr/>
                    <p:nvPr/>
                  </p:nvSpPr>
                  <p:spPr>
                    <a:xfrm rot="20760000">
                      <a:off x="5783040" y="1696680"/>
                      <a:ext cx="1549800" cy="40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1"/>
                    <p:cNvSpPr/>
                    <p:nvPr/>
                  </p:nvSpPr>
                  <p:spPr>
                    <a:xfrm rot="20760000">
                      <a:off x="7318440" y="1299960"/>
                      <a:ext cx="831600" cy="63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2"/>
                  <p:cNvGrpSpPr/>
                  <p:nvPr/>
                </p:nvGrpSpPr>
                <p:grpSpPr>
                  <a:xfrm>
                    <a:off x="2413440" y="2547720"/>
                    <a:ext cx="3413160" cy="2859840"/>
                    <a:chOff x="2413440" y="2547720"/>
                    <a:chExt cx="3413160" cy="2859840"/>
                  </a:xfrm>
                </p:grpSpPr>
                <p:sp>
                  <p:nvSpPr>
                    <p:cNvPr id="208" name="Freeform 33"/>
                    <p:cNvSpPr/>
                    <p:nvPr/>
                  </p:nvSpPr>
                  <p:spPr>
                    <a:xfrm flipH="1" rot="18900000">
                      <a:off x="3869640" y="3171960"/>
                      <a:ext cx="2028960" cy="63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4"/>
                    <p:cNvSpPr/>
                    <p:nvPr/>
                  </p:nvSpPr>
                  <p:spPr>
                    <a:xfrm flipH="1" rot="18900000">
                      <a:off x="2607120" y="4168080"/>
                      <a:ext cx="1089360" cy="10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5"/>
                  <p:cNvGrpSpPr/>
                  <p:nvPr/>
                </p:nvGrpSpPr>
                <p:grpSpPr>
                  <a:xfrm>
                    <a:off x="1900440" y="1779480"/>
                    <a:ext cx="3210840" cy="3359160"/>
                    <a:chOff x="1900440" y="1779480"/>
                    <a:chExt cx="3210840" cy="3359160"/>
                  </a:xfrm>
                </p:grpSpPr>
                <p:sp>
                  <p:nvSpPr>
                    <p:cNvPr id="211" name="Freeform 36"/>
                    <p:cNvSpPr/>
                    <p:nvPr/>
                  </p:nvSpPr>
                  <p:spPr>
                    <a:xfrm flipH="1" rot="19500000">
                      <a:off x="2885760" y="2361960"/>
                      <a:ext cx="2239200" cy="65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7"/>
                    <p:cNvSpPr/>
                    <p:nvPr/>
                  </p:nvSpPr>
                  <p:spPr>
                    <a:xfrm flipH="1" rot="19500000">
                      <a:off x="2088360" y="3852000"/>
                      <a:ext cx="1202760" cy="10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8"/>
                  <p:cNvGrpSpPr/>
                  <p:nvPr/>
                </p:nvGrpSpPr>
                <p:grpSpPr>
                  <a:xfrm>
                    <a:off x="1905840" y="1835280"/>
                    <a:ext cx="3248280" cy="2642040"/>
                    <a:chOff x="1905840" y="1835280"/>
                    <a:chExt cx="3248280" cy="2642040"/>
                  </a:xfrm>
                </p:grpSpPr>
                <p:sp>
                  <p:nvSpPr>
                    <p:cNvPr id="214" name="Freeform 39"/>
                    <p:cNvSpPr/>
                    <p:nvPr/>
                  </p:nvSpPr>
                  <p:spPr>
                    <a:xfrm flipH="1" rot="20040000">
                      <a:off x="2967480" y="2282400"/>
                      <a:ext cx="2171520" cy="56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0"/>
                    <p:cNvSpPr/>
                    <p:nvPr/>
                  </p:nvSpPr>
                  <p:spPr>
                    <a:xfrm flipH="1" rot="20040000">
                      <a:off x="2041200" y="3378960"/>
                      <a:ext cx="1165320" cy="88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1"/>
                  <p:cNvGrpSpPr/>
                  <p:nvPr/>
                </p:nvGrpSpPr>
                <p:grpSpPr>
                  <a:xfrm>
                    <a:off x="1899000" y="1868400"/>
                    <a:ext cx="3281400" cy="2080080"/>
                    <a:chOff x="1899000" y="1868400"/>
                    <a:chExt cx="3281400" cy="2080080"/>
                  </a:xfrm>
                </p:grpSpPr>
                <p:sp>
                  <p:nvSpPr>
                    <p:cNvPr id="217" name="Freeform 42"/>
                    <p:cNvSpPr/>
                    <p:nvPr/>
                  </p:nvSpPr>
                  <p:spPr>
                    <a:xfrm flipH="1" rot="20520000">
                      <a:off x="3017160" y="2182320"/>
                      <a:ext cx="2125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3"/>
                    <p:cNvSpPr/>
                    <p:nvPr/>
                  </p:nvSpPr>
                  <p:spPr>
                    <a:xfrm flipH="1" rot="20520000">
                      <a:off x="2010960" y="2885760"/>
                      <a:ext cx="1141920" cy="90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4"/>
                  <p:cNvGrpSpPr/>
                  <p:nvPr/>
                </p:nvGrpSpPr>
                <p:grpSpPr>
                  <a:xfrm>
                    <a:off x="2116080" y="1961280"/>
                    <a:ext cx="3019320" cy="1202760"/>
                    <a:chOff x="2116080" y="1961280"/>
                    <a:chExt cx="3019320" cy="1202760"/>
                  </a:xfrm>
                </p:grpSpPr>
                <p:sp>
                  <p:nvSpPr>
                    <p:cNvPr id="220" name="Freeform 45"/>
                    <p:cNvSpPr/>
                    <p:nvPr/>
                  </p:nvSpPr>
                  <p:spPr>
                    <a:xfrm flipH="1" rot="21120000">
                      <a:off x="3171960" y="2093760"/>
                      <a:ext cx="1939320" cy="47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6"/>
                    <p:cNvSpPr/>
                    <p:nvPr/>
                  </p:nvSpPr>
                  <p:spPr>
                    <a:xfrm flipH="1" rot="21120000">
                      <a:off x="2162520" y="2342880"/>
                      <a:ext cx="1040760" cy="75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7"/>
                  <p:cNvGrpSpPr/>
                  <p:nvPr/>
                </p:nvGrpSpPr>
                <p:grpSpPr>
                  <a:xfrm>
                    <a:off x="2387520" y="2014560"/>
                    <a:ext cx="2669400" cy="484200"/>
                    <a:chOff x="2387520" y="2014560"/>
                    <a:chExt cx="2669400" cy="484200"/>
                  </a:xfrm>
                </p:grpSpPr>
                <p:sp>
                  <p:nvSpPr>
                    <p:cNvPr id="223" name="Freeform 48"/>
                    <p:cNvSpPr/>
                    <p:nvPr/>
                  </p:nvSpPr>
                  <p:spPr>
                    <a:xfrm flipH="1" rot="120000">
                      <a:off x="3315960" y="2055240"/>
                      <a:ext cx="1736280" cy="28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49"/>
                    <p:cNvSpPr/>
                    <p:nvPr/>
                  </p:nvSpPr>
                  <p:spPr>
                    <a:xfrm flipH="1" rot="120000">
                      <a:off x="2394720" y="2030400"/>
                      <a:ext cx="933480" cy="45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0"/>
                  <p:cNvGrpSpPr/>
                  <p:nvPr/>
                </p:nvGrpSpPr>
                <p:grpSpPr>
                  <a:xfrm>
                    <a:off x="2694960" y="1427760"/>
                    <a:ext cx="2448000" cy="1071360"/>
                    <a:chOff x="2694960" y="1427760"/>
                    <a:chExt cx="2448000" cy="1071360"/>
                  </a:xfrm>
                </p:grpSpPr>
                <p:sp>
                  <p:nvSpPr>
                    <p:cNvPr id="226" name="Freeform 51"/>
                    <p:cNvSpPr/>
                    <p:nvPr/>
                  </p:nvSpPr>
                  <p:spPr>
                    <a:xfrm flipH="1" rot="840000">
                      <a:off x="3564720" y="1915200"/>
                      <a:ext cx="1551960" cy="40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2"/>
                    <p:cNvSpPr/>
                    <p:nvPr/>
                  </p:nvSpPr>
                  <p:spPr>
                    <a:xfrm flipH="1" rot="840000">
                      <a:off x="2758320" y="1519200"/>
                      <a:ext cx="832680" cy="62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3"/>
                  <p:cNvGrpSpPr/>
                  <p:nvPr/>
                </p:nvGrpSpPr>
                <p:grpSpPr>
                  <a:xfrm>
                    <a:off x="2791080" y="1116360"/>
                    <a:ext cx="2445480" cy="1461240"/>
                    <a:chOff x="2791080" y="1116360"/>
                    <a:chExt cx="2445480" cy="1461240"/>
                  </a:xfrm>
                </p:grpSpPr>
                <p:sp>
                  <p:nvSpPr>
                    <p:cNvPr id="229" name="Freeform 54"/>
                    <p:cNvSpPr/>
                    <p:nvPr/>
                  </p:nvSpPr>
                  <p:spPr>
                    <a:xfrm flipH="1" rot="1260000">
                      <a:off x="3664080" y="1893960"/>
                      <a:ext cx="154836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5"/>
                    <p:cNvSpPr/>
                    <p:nvPr/>
                  </p:nvSpPr>
                  <p:spPr>
                    <a:xfrm flipH="1" rot="1260000">
                      <a:off x="2881080" y="1243080"/>
                      <a:ext cx="830160" cy="65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6"/>
                  <p:cNvGrpSpPr/>
                  <p:nvPr/>
                </p:nvGrpSpPr>
                <p:grpSpPr>
                  <a:xfrm>
                    <a:off x="3031920" y="663480"/>
                    <a:ext cx="2289600" cy="2063160"/>
                    <a:chOff x="3031920" y="663480"/>
                    <a:chExt cx="2289600" cy="2063160"/>
                  </a:xfrm>
                </p:grpSpPr>
                <p:sp>
                  <p:nvSpPr>
                    <p:cNvPr id="232" name="Freeform 57"/>
                    <p:cNvSpPr/>
                    <p:nvPr/>
                  </p:nvSpPr>
                  <p:spPr>
                    <a:xfrm flipH="1" rot="2040000">
                      <a:off x="3815280" y="1904040"/>
                      <a:ext cx="1512720" cy="43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8"/>
                    <p:cNvSpPr/>
                    <p:nvPr/>
                  </p:nvSpPr>
                  <p:spPr>
                    <a:xfrm flipH="1" rot="2040000">
                      <a:off x="3154320" y="831240"/>
                      <a:ext cx="811800" cy="68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59"/>
                  <p:cNvGrpSpPr/>
                  <p:nvPr/>
                </p:nvGrpSpPr>
                <p:grpSpPr>
                  <a:xfrm>
                    <a:off x="3306600" y="263520"/>
                    <a:ext cx="2054880" cy="2464560"/>
                    <a:chOff x="3306600" y="263520"/>
                    <a:chExt cx="2054880" cy="2464560"/>
                  </a:xfrm>
                </p:grpSpPr>
                <p:sp>
                  <p:nvSpPr>
                    <p:cNvPr id="235" name="Freeform 60"/>
                    <p:cNvSpPr/>
                    <p:nvPr/>
                  </p:nvSpPr>
                  <p:spPr>
                    <a:xfrm flipH="1" rot="2700000">
                      <a:off x="3955680" y="1833120"/>
                      <a:ext cx="1463040" cy="44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1"/>
                    <p:cNvSpPr/>
                    <p:nvPr/>
                  </p:nvSpPr>
                  <p:spPr>
                    <a:xfrm flipH="1" rot="2700000">
                      <a:off x="3436920" y="439560"/>
                      <a:ext cx="785520" cy="69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2"/>
                  <p:cNvGrpSpPr/>
                  <p:nvPr/>
                </p:nvGrpSpPr>
                <p:grpSpPr>
                  <a:xfrm>
                    <a:off x="3872160" y="231480"/>
                    <a:ext cx="1946520" cy="1991160"/>
                    <a:chOff x="3872160" y="231480"/>
                    <a:chExt cx="1946520" cy="1991160"/>
                  </a:xfrm>
                </p:grpSpPr>
                <p:sp>
                  <p:nvSpPr>
                    <p:cNvPr id="238" name="Freeform 63"/>
                    <p:cNvSpPr/>
                    <p:nvPr/>
                  </p:nvSpPr>
                  <p:spPr>
                    <a:xfrm flipH="1" rot="3480000">
                      <a:off x="4599000" y="1334160"/>
                      <a:ext cx="137160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4"/>
                    <p:cNvSpPr/>
                    <p:nvPr/>
                  </p:nvSpPr>
                  <p:spPr>
                    <a:xfrm flipH="1" rot="3480000">
                      <a:off x="3966480" y="395280"/>
                      <a:ext cx="736920" cy="63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5"/>
                  <p:cNvGrpSpPr/>
                  <p:nvPr/>
                </p:nvGrpSpPr>
                <p:grpSpPr>
                  <a:xfrm>
                    <a:off x="4341240" y="169560"/>
                    <a:ext cx="1454760" cy="2048400"/>
                    <a:chOff x="4341240" y="169560"/>
                    <a:chExt cx="1454760" cy="2048400"/>
                  </a:xfrm>
                </p:grpSpPr>
                <p:sp>
                  <p:nvSpPr>
                    <p:cNvPr id="241" name="Freeform 66"/>
                    <p:cNvSpPr/>
                    <p:nvPr/>
                  </p:nvSpPr>
                  <p:spPr>
                    <a:xfrm flipH="1" rot="4140000">
                      <a:off x="4705560" y="1333080"/>
                      <a:ext cx="134532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7"/>
                    <p:cNvSpPr/>
                    <p:nvPr/>
                  </p:nvSpPr>
                  <p:spPr>
                    <a:xfrm flipH="1" rot="4140000">
                      <a:off x="4385880" y="316800"/>
                      <a:ext cx="723240" cy="59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8"/>
                  <p:cNvGrpSpPr/>
                  <p:nvPr/>
                </p:nvGrpSpPr>
                <p:grpSpPr>
                  <a:xfrm>
                    <a:off x="5644800" y="825480"/>
                    <a:ext cx="2426040" cy="1512360"/>
                    <a:chOff x="5644800" y="825480"/>
                    <a:chExt cx="2426040" cy="1512360"/>
                  </a:xfrm>
                </p:grpSpPr>
                <p:sp>
                  <p:nvSpPr>
                    <p:cNvPr id="244" name="Freeform 69"/>
                    <p:cNvSpPr/>
                    <p:nvPr/>
                  </p:nvSpPr>
                  <p:spPr>
                    <a:xfrm rot="20280000">
                      <a:off x="5667480" y="1640520"/>
                      <a:ext cx="154800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0"/>
                    <p:cNvSpPr/>
                    <p:nvPr/>
                  </p:nvSpPr>
                  <p:spPr>
                    <a:xfrm rot="20280000">
                      <a:off x="7145280" y="956880"/>
                      <a:ext cx="831240" cy="66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1"/>
                  <p:cNvGrpSpPr/>
                  <p:nvPr/>
                </p:nvGrpSpPr>
                <p:grpSpPr>
                  <a:xfrm>
                    <a:off x="5533560" y="462600"/>
                    <a:ext cx="2304720" cy="1988280"/>
                    <a:chOff x="5533560" y="462600"/>
                    <a:chExt cx="2304720" cy="1988280"/>
                  </a:xfrm>
                </p:grpSpPr>
                <p:sp>
                  <p:nvSpPr>
                    <p:cNvPr id="247" name="Freeform 72"/>
                    <p:cNvSpPr/>
                    <p:nvPr/>
                  </p:nvSpPr>
                  <p:spPr>
                    <a:xfrm rot="19680000">
                      <a:off x="5532480" y="1648080"/>
                      <a:ext cx="1521360" cy="43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3"/>
                    <p:cNvSpPr/>
                    <p:nvPr/>
                  </p:nvSpPr>
                  <p:spPr>
                    <a:xfrm rot="19680000">
                      <a:off x="6903000" y="627120"/>
                      <a:ext cx="816480" cy="68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4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5"/>
                  <p:cNvSpPr/>
                  <p:nvPr/>
                </p:nvSpPr>
                <p:spPr>
                  <a:xfrm flipH="1" rot="4560000">
                    <a:off x="4795560" y="54720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6"/>
                  <p:cNvGrpSpPr/>
                  <p:nvPr/>
                </p:nvGrpSpPr>
                <p:grpSpPr>
                  <a:xfrm>
                    <a:off x="5079960" y="188640"/>
                    <a:ext cx="1598040" cy="1995840"/>
                    <a:chOff x="5079960" y="188640"/>
                    <a:chExt cx="1598040" cy="1995840"/>
                  </a:xfrm>
                </p:grpSpPr>
                <p:sp>
                  <p:nvSpPr>
                    <p:cNvPr id="252" name="Freeform 77"/>
                    <p:cNvSpPr/>
                    <p:nvPr/>
                  </p:nvSpPr>
                  <p:spPr>
                    <a:xfrm rot="17760000">
                      <a:off x="4862160" y="1340640"/>
                      <a:ext cx="1325880" cy="34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8"/>
                    <p:cNvSpPr/>
                    <p:nvPr/>
                  </p:nvSpPr>
                  <p:spPr>
                    <a:xfrm rot="17760000">
                      <a:off x="5924160" y="355680"/>
                      <a:ext cx="710280" cy="54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79"/>
                  <p:cNvGrpSpPr/>
                  <p:nvPr/>
                </p:nvGrpSpPr>
                <p:grpSpPr>
                  <a:xfrm>
                    <a:off x="4924440" y="229320"/>
                    <a:ext cx="2459160" cy="1935720"/>
                    <a:chOff x="4924440" y="229320"/>
                    <a:chExt cx="2459160" cy="1935720"/>
                  </a:xfrm>
                </p:grpSpPr>
                <p:sp>
                  <p:nvSpPr>
                    <p:cNvPr id="255" name="Freeform 80"/>
                    <p:cNvSpPr/>
                    <p:nvPr/>
                  </p:nvSpPr>
                  <p:spPr>
                    <a:xfrm rot="18840000">
                      <a:off x="4889520" y="1228680"/>
                      <a:ext cx="1415160" cy="50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1"/>
                    <p:cNvSpPr/>
                    <p:nvPr/>
                  </p:nvSpPr>
                  <p:spPr>
                    <a:xfrm rot="18840000">
                      <a:off x="6457320" y="381600"/>
                      <a:ext cx="758520" cy="78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2"/>
                  <p:cNvGrpSpPr/>
                  <p:nvPr/>
                </p:nvGrpSpPr>
                <p:grpSpPr>
                  <a:xfrm>
                    <a:off x="5384520" y="278280"/>
                    <a:ext cx="547920" cy="1824480"/>
                    <a:chOff x="5384520" y="278280"/>
                    <a:chExt cx="547920" cy="1824480"/>
                  </a:xfrm>
                </p:grpSpPr>
                <p:sp>
                  <p:nvSpPr>
                    <p:cNvPr id="258" name="Freeform 83"/>
                    <p:cNvSpPr/>
                    <p:nvPr/>
                  </p:nvSpPr>
                  <p:spPr>
                    <a:xfrm rot="16680000">
                      <a:off x="4950000" y="1433160"/>
                      <a:ext cx="118044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4"/>
                    <p:cNvSpPr/>
                    <p:nvPr/>
                  </p:nvSpPr>
                  <p:spPr>
                    <a:xfrm rot="16680000">
                      <a:off x="5455080" y="491400"/>
                      <a:ext cx="633960" cy="23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5"/>
                  <p:cNvGrpSpPr/>
                  <p:nvPr/>
                </p:nvGrpSpPr>
                <p:grpSpPr>
                  <a:xfrm>
                    <a:off x="2834640" y="2548800"/>
                    <a:ext cx="2985120" cy="3167280"/>
                    <a:chOff x="2834640" y="2548800"/>
                    <a:chExt cx="2985120" cy="3167280"/>
                  </a:xfrm>
                </p:grpSpPr>
                <p:sp>
                  <p:nvSpPr>
                    <p:cNvPr id="261" name="Freeform 86"/>
                    <p:cNvSpPr/>
                    <p:nvPr/>
                  </p:nvSpPr>
                  <p:spPr>
                    <a:xfrm flipH="1" rot="18360000">
                      <a:off x="3888000" y="3271320"/>
                      <a:ext cx="2109600" cy="63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7"/>
                    <p:cNvSpPr/>
                    <p:nvPr/>
                  </p:nvSpPr>
                  <p:spPr>
                    <a:xfrm flipH="1" rot="18360000">
                      <a:off x="3005280" y="4464720"/>
                      <a:ext cx="1131120" cy="9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8"/>
                  <p:cNvGrpSpPr/>
                  <p:nvPr/>
                </p:nvGrpSpPr>
                <p:grpSpPr>
                  <a:xfrm>
                    <a:off x="3625560" y="2608920"/>
                    <a:ext cx="1995480" cy="3175920"/>
                    <a:chOff x="3625560" y="2608920"/>
                    <a:chExt cx="1995480" cy="3175920"/>
                  </a:xfrm>
                </p:grpSpPr>
                <p:sp>
                  <p:nvSpPr>
                    <p:cNvPr id="264" name="Freeform 89"/>
                    <p:cNvSpPr/>
                    <p:nvPr/>
                  </p:nvSpPr>
                  <p:spPr>
                    <a:xfrm flipH="1" rot="17520000">
                      <a:off x="3957480" y="3355920"/>
                      <a:ext cx="2016000" cy="59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0"/>
                    <p:cNvSpPr/>
                    <p:nvPr/>
                  </p:nvSpPr>
                  <p:spPr>
                    <a:xfrm flipH="1" rot="17520000">
                      <a:off x="3723480" y="4636440"/>
                      <a:ext cx="1082160" cy="9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1"/>
                  <p:cNvGrpSpPr/>
                  <p:nvPr/>
                </p:nvGrpSpPr>
                <p:grpSpPr>
                  <a:xfrm>
                    <a:off x="4431240" y="2666520"/>
                    <a:ext cx="1126800" cy="3024360"/>
                    <a:chOff x="4431240" y="2666520"/>
                    <a:chExt cx="1126800" cy="3024360"/>
                  </a:xfrm>
                </p:grpSpPr>
                <p:sp>
                  <p:nvSpPr>
                    <p:cNvPr id="267" name="Freeform 92"/>
                    <p:cNvSpPr/>
                    <p:nvPr/>
                  </p:nvSpPr>
                  <p:spPr>
                    <a:xfrm flipH="1" rot="16860000">
                      <a:off x="4163760" y="3406680"/>
                      <a:ext cx="192492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3"/>
                    <p:cNvSpPr/>
                    <p:nvPr/>
                  </p:nvSpPr>
                  <p:spPr>
                    <a:xfrm flipH="1" rot="16860000">
                      <a:off x="4402800" y="4710240"/>
                      <a:ext cx="1033200" cy="79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4"/>
                  <p:cNvGrpSpPr/>
                  <p:nvPr/>
                </p:nvGrpSpPr>
                <p:grpSpPr>
                  <a:xfrm>
                    <a:off x="5095440" y="2514240"/>
                    <a:ext cx="3113640" cy="3099600"/>
                    <a:chOff x="5095440" y="2514240"/>
                    <a:chExt cx="3113640" cy="3099600"/>
                  </a:xfrm>
                </p:grpSpPr>
                <p:sp>
                  <p:nvSpPr>
                    <p:cNvPr id="270" name="Freeform 95"/>
                    <p:cNvSpPr/>
                    <p:nvPr/>
                  </p:nvSpPr>
                  <p:spPr>
                    <a:xfrm rot="3120000">
                      <a:off x="4941000" y="3218400"/>
                      <a:ext cx="209484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6"/>
                    <p:cNvSpPr/>
                    <p:nvPr/>
                  </p:nvSpPr>
                  <p:spPr>
                    <a:xfrm rot="3120000">
                      <a:off x="6910560" y="4369320"/>
                      <a:ext cx="1123200" cy="9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7"/>
                  <p:cNvGrpSpPr/>
                  <p:nvPr/>
                </p:nvGrpSpPr>
                <p:grpSpPr>
                  <a:xfrm>
                    <a:off x="5195160" y="2576160"/>
                    <a:ext cx="2415960" cy="3203640"/>
                    <a:chOff x="5195160" y="2576160"/>
                    <a:chExt cx="2415960" cy="3203640"/>
                  </a:xfrm>
                </p:grpSpPr>
                <p:sp>
                  <p:nvSpPr>
                    <p:cNvPr id="273" name="Freeform 98"/>
                    <p:cNvSpPr/>
                    <p:nvPr/>
                  </p:nvSpPr>
                  <p:spPr>
                    <a:xfrm rot="3720000">
                      <a:off x="4912200" y="3326760"/>
                      <a:ext cx="2059560" cy="59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99"/>
                    <p:cNvSpPr/>
                    <p:nvPr/>
                  </p:nvSpPr>
                  <p:spPr>
                    <a:xfrm rot="3720000">
                      <a:off x="6386040" y="4603680"/>
                      <a:ext cx="1104120" cy="9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0"/>
                  <p:cNvGrpSpPr/>
                  <p:nvPr/>
                </p:nvGrpSpPr>
                <p:grpSpPr>
                  <a:xfrm>
                    <a:off x="5265720" y="2685960"/>
                    <a:ext cx="1691640" cy="3102120"/>
                    <a:chOff x="5265720" y="2685960"/>
                    <a:chExt cx="1691640" cy="3102120"/>
                  </a:xfrm>
                </p:grpSpPr>
                <p:sp>
                  <p:nvSpPr>
                    <p:cNvPr id="276" name="Freeform 101"/>
                    <p:cNvSpPr/>
                    <p:nvPr/>
                  </p:nvSpPr>
                  <p:spPr>
                    <a:xfrm rot="4260000">
                      <a:off x="4823280" y="3466440"/>
                      <a:ext cx="2003040" cy="49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2"/>
                    <p:cNvSpPr/>
                    <p:nvPr/>
                  </p:nvSpPr>
                  <p:spPr>
                    <a:xfrm rot="4260000">
                      <a:off x="5878440" y="4765680"/>
                      <a:ext cx="1074600" cy="77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3"/>
                  <p:cNvGrpSpPr/>
                  <p:nvPr/>
                </p:nvGrpSpPr>
                <p:grpSpPr>
                  <a:xfrm>
                    <a:off x="5407920" y="2813400"/>
                    <a:ext cx="876600" cy="2837520"/>
                    <a:chOff x="5407920" y="2813400"/>
                    <a:chExt cx="876600" cy="2837520"/>
                  </a:xfrm>
                </p:grpSpPr>
                <p:sp>
                  <p:nvSpPr>
                    <p:cNvPr id="279" name="Freeform 104"/>
                    <p:cNvSpPr/>
                    <p:nvPr/>
                  </p:nvSpPr>
                  <p:spPr>
                    <a:xfrm rot="4920000">
                      <a:off x="4823280" y="3543840"/>
                      <a:ext cx="184068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5"/>
                    <p:cNvSpPr/>
                    <p:nvPr/>
                  </p:nvSpPr>
                  <p:spPr>
                    <a:xfrm rot="4920000">
                      <a:off x="5394960" y="4785840"/>
                      <a:ext cx="98892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6"/>
                  <p:cNvGrpSpPr/>
                  <p:nvPr/>
                </p:nvGrpSpPr>
                <p:grpSpPr>
                  <a:xfrm>
                    <a:off x="4921560" y="2875680"/>
                    <a:ext cx="799560" cy="2747520"/>
                    <a:chOff x="4921560" y="2875680"/>
                    <a:chExt cx="799560" cy="2747520"/>
                  </a:xfrm>
                </p:grpSpPr>
                <p:sp>
                  <p:nvSpPr>
                    <p:cNvPr id="282" name="Freeform 107"/>
                    <p:cNvSpPr/>
                    <p:nvPr/>
                  </p:nvSpPr>
                  <p:spPr>
                    <a:xfrm rot="5760000">
                      <a:off x="4588200" y="3631680"/>
                      <a:ext cx="1785960" cy="29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8"/>
                    <p:cNvSpPr/>
                    <p:nvPr/>
                  </p:nvSpPr>
                  <p:spPr>
                    <a:xfrm rot="5760000">
                      <a:off x="4721400" y="4892040"/>
                      <a:ext cx="958320" cy="46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09"/>
              <p:cNvGrpSpPr/>
              <p:nvPr/>
            </p:nvGrpSpPr>
            <p:grpSpPr>
              <a:xfrm>
                <a:off x="2174400" y="682560"/>
                <a:ext cx="6953400" cy="7346520"/>
                <a:chOff x="2174400" y="682560"/>
                <a:chExt cx="6953400" cy="7346520"/>
              </a:xfrm>
            </p:grpSpPr>
            <p:grpSp>
              <p:nvGrpSpPr>
                <p:cNvPr id="285" name="Group 110"/>
                <p:cNvGrpSpPr/>
                <p:nvPr/>
              </p:nvGrpSpPr>
              <p:grpSpPr>
                <a:xfrm>
                  <a:off x="2174400" y="682560"/>
                  <a:ext cx="6953400" cy="7346520"/>
                  <a:chOff x="2174400" y="682560"/>
                  <a:chExt cx="6953400" cy="7346520"/>
                </a:xfrm>
              </p:grpSpPr>
              <p:sp>
                <p:nvSpPr>
                  <p:cNvPr id="286" name="AutoShape 111"/>
                  <p:cNvSpPr/>
                  <p:nvPr/>
                </p:nvSpPr>
                <p:spPr>
                  <a:xfrm flipV="1">
                    <a:off x="5400000" y="858240"/>
                    <a:ext cx="3727800" cy="5043600"/>
                  </a:xfrm>
                  <a:custGeom>
                    <a:avLst/>
                    <a:gdLst>
                      <a:gd name="textAreaLeft" fmla="*/ 340920 w 3727800"/>
                      <a:gd name="textAreaRight" fmla="*/ 3504240 w 3727800"/>
                      <a:gd name="textAreaTop" fmla="*/ 2521800 h 5043600"/>
                      <a:gd name="textAreaBottom" fmla="*/ 5043960 h 50436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  <a:lnTo>
                          <a:pt x="10800" y="10800"/>
                        </a:lnTo>
                        <a:lnTo>
                          <a:pt x="20251" y="16025"/>
                        </a:lnTo>
                        <a:close/>
                      </a:path>
                      <a:path fill="none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utoShape 112"/>
                  <p:cNvSpPr/>
                  <p:nvPr/>
                </p:nvSpPr>
                <p:spPr>
                  <a:xfrm flipH="1">
                    <a:off x="2561040" y="2269440"/>
                    <a:ext cx="3516840" cy="5759640"/>
                  </a:xfrm>
                  <a:custGeom>
                    <a:avLst/>
                    <a:gdLst>
                      <a:gd name="textAreaLeft" fmla="*/ 1031400 w 3516840"/>
                      <a:gd name="textAreaRight" fmla="*/ 3517200 w 3516840"/>
                      <a:gd name="textAreaTop" fmla="*/ 0 h 5759640"/>
                      <a:gd name="textAreaBottom" fmla="*/ 2932920 h 57596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6363" y="953"/>
                        </a:lnTo>
                        <a:close/>
                      </a:path>
                      <a:path fill="none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utoShape 113"/>
                  <p:cNvSpPr/>
                  <p:nvPr/>
                </p:nvSpPr>
                <p:spPr>
                  <a:xfrm>
                    <a:off x="5385600" y="1752120"/>
                    <a:ext cx="2191680" cy="5759640"/>
                  </a:xfrm>
                  <a:custGeom>
                    <a:avLst/>
                    <a:gdLst>
                      <a:gd name="textAreaLeft" fmla="*/ 433080 w 2191680"/>
                      <a:gd name="textAreaRight" fmla="*/ 2192040 w 2191680"/>
                      <a:gd name="textAreaTop" fmla="*/ 0 h 5759640"/>
                      <a:gd name="textAreaBottom" fmla="*/ 2932920 h 57596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114"/>
                  <p:cNvSpPr/>
                  <p:nvPr/>
                </p:nvSpPr>
                <p:spPr>
                  <a:xfrm flipH="1">
                    <a:off x="2174040" y="1298160"/>
                    <a:ext cx="3694680" cy="5759640"/>
                  </a:xfrm>
                  <a:custGeom>
                    <a:avLst/>
                    <a:gdLst>
                      <a:gd name="textAreaLeft" fmla="*/ 563400 w 3694680"/>
                      <a:gd name="textAreaRight" fmla="*/ 3695040 w 3694680"/>
                      <a:gd name="textAreaTop" fmla="*/ 0 h 5759640"/>
                      <a:gd name="textAreaBottom" fmla="*/ 2932920 h 57596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3185" y="3141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115"/>
                  <p:cNvSpPr/>
                  <p:nvPr/>
                </p:nvSpPr>
                <p:spPr>
                  <a:xfrm flipH="1">
                    <a:off x="2510280" y="682560"/>
                    <a:ext cx="3080520" cy="5680440"/>
                  </a:xfrm>
                  <a:custGeom>
                    <a:avLst/>
                    <a:gdLst>
                      <a:gd name="textAreaLeft" fmla="*/ 251640 w 3080520"/>
                      <a:gd name="textAreaRight" fmla="*/ 2532600 w 3080520"/>
                      <a:gd name="textAreaTop" fmla="*/ 0 h 5680440"/>
                      <a:gd name="textAreaBottom" fmla="*/ 2839320 h 56804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  <a:lnTo>
                          <a:pt x="10800" y="10800"/>
                        </a:lnTo>
                        <a:lnTo>
                          <a:pt x="1684" y="5007"/>
                        </a:lnTo>
                        <a:close/>
                      </a:path>
                      <a:path fill="none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utoShape 116"/>
                  <p:cNvSpPr/>
                  <p:nvPr/>
                </p:nvSpPr>
                <p:spPr>
                  <a:xfrm>
                    <a:off x="5231520" y="1874520"/>
                    <a:ext cx="1307880" cy="5680080"/>
                  </a:xfrm>
                  <a:custGeom>
                    <a:avLst/>
                    <a:gdLst>
                      <a:gd name="textAreaLeft" fmla="*/ 258480 w 1307880"/>
                      <a:gd name="textAreaRight" fmla="*/ 1201680 w 1307880"/>
                      <a:gd name="textAreaTop" fmla="*/ 0 h 5680080"/>
                      <a:gd name="textAreaBottom" fmla="*/ 2839320 h 5680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7"/>
                  <p:cNvSpPr/>
                  <p:nvPr/>
                </p:nvSpPr>
                <p:spPr>
                  <a:xfrm flipH="1">
                    <a:off x="4303080" y="836280"/>
                    <a:ext cx="515520" cy="18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8"/>
                <p:cNvSpPr/>
                <p:nvPr/>
              </p:nvSpPr>
              <p:spPr>
                <a:xfrm rot="20220000">
                  <a:off x="6127560" y="218880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19"/>
            <p:cNvGrpSpPr/>
            <p:nvPr/>
          </p:nvGrpSpPr>
          <p:grpSpPr>
            <a:xfrm>
              <a:off x="2343240" y="712800"/>
              <a:ext cx="6408360" cy="7544880"/>
              <a:chOff x="2343240" y="712800"/>
              <a:chExt cx="6408360" cy="7544880"/>
            </a:xfrm>
          </p:grpSpPr>
          <p:sp>
            <p:nvSpPr>
              <p:cNvPr id="295" name="Freeform 120"/>
              <p:cNvSpPr/>
              <p:nvPr/>
            </p:nvSpPr>
            <p:spPr>
              <a:xfrm flipH="1">
                <a:off x="4465800" y="3234600"/>
                <a:ext cx="59796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AutoShape 121"/>
              <p:cNvSpPr/>
              <p:nvPr/>
            </p:nvSpPr>
            <p:spPr>
              <a:xfrm flipH="1">
                <a:off x="3384360" y="2475720"/>
                <a:ext cx="5230800" cy="5781960"/>
              </a:xfrm>
              <a:custGeom>
                <a:avLst/>
                <a:gdLst>
                  <a:gd name="textAreaLeft" fmla="*/ 2615760 w 5230800"/>
                  <a:gd name="textAreaRight" fmla="*/ 5231160 w 5230800"/>
                  <a:gd name="textAreaTop" fmla="*/ 102960 h 5781960"/>
                  <a:gd name="textAreaBottom" fmla="*/ 2944080 h 5781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AutoShape 122"/>
              <p:cNvSpPr/>
              <p:nvPr/>
            </p:nvSpPr>
            <p:spPr>
              <a:xfrm flipH="1">
                <a:off x="3644640" y="2122200"/>
                <a:ext cx="2301120" cy="5761080"/>
              </a:xfrm>
              <a:custGeom>
                <a:avLst/>
                <a:gdLst>
                  <a:gd name="textAreaLeft" fmla="*/ 767880 w 2301120"/>
                  <a:gd name="textAreaRight" fmla="*/ 2301480 w 230112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AutoShape 123"/>
              <p:cNvSpPr/>
              <p:nvPr/>
            </p:nvSpPr>
            <p:spPr>
              <a:xfrm flipH="1">
                <a:off x="2343240" y="1736280"/>
                <a:ext cx="3683520" cy="5759640"/>
              </a:xfrm>
              <a:custGeom>
                <a:avLst/>
                <a:gdLst>
                  <a:gd name="textAreaLeft" fmla="*/ 754200 w 3683520"/>
                  <a:gd name="textAreaRight" fmla="*/ 3684240 w 3683520"/>
                  <a:gd name="textAreaTop" fmla="*/ 0 h 5759640"/>
                  <a:gd name="textAreaBottom" fmla="*/ 2932920 h 5759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AutoShape 124"/>
              <p:cNvSpPr/>
              <p:nvPr/>
            </p:nvSpPr>
            <p:spPr>
              <a:xfrm>
                <a:off x="5469840" y="2150640"/>
                <a:ext cx="585360" cy="5761080"/>
              </a:xfrm>
              <a:custGeom>
                <a:avLst/>
                <a:gdLst>
                  <a:gd name="textAreaLeft" fmla="*/ 115560 w 585360"/>
                  <a:gd name="textAreaRight" fmla="*/ 585720 w 58536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AutoShape 125"/>
              <p:cNvSpPr/>
              <p:nvPr/>
            </p:nvSpPr>
            <p:spPr>
              <a:xfrm>
                <a:off x="5404680" y="2136240"/>
                <a:ext cx="1542600" cy="5761440"/>
              </a:xfrm>
              <a:custGeom>
                <a:avLst/>
                <a:gdLst>
                  <a:gd name="textAreaLeft" fmla="*/ 304560 w 1542600"/>
                  <a:gd name="textAreaRight" fmla="*/ 1542960 w 1542600"/>
                  <a:gd name="textAreaTop" fmla="*/ 0 h 5761440"/>
                  <a:gd name="textAreaBottom" fmla="*/ 2932920 h 57614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26"/>
              <p:cNvSpPr/>
              <p:nvPr/>
            </p:nvSpPr>
            <p:spPr>
              <a:xfrm>
                <a:off x="6153480" y="354564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27"/>
              <p:cNvSpPr/>
              <p:nvPr/>
            </p:nvSpPr>
            <p:spPr>
              <a:xfrm flipV="1" rot="19680000">
                <a:off x="5223600" y="2946240"/>
                <a:ext cx="54432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8"/>
              <p:cNvSpPr/>
              <p:nvPr/>
            </p:nvSpPr>
            <p:spPr>
              <a:xfrm flipH="1">
                <a:off x="2684880" y="3384000"/>
                <a:ext cx="133812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29"/>
              <p:cNvSpPr/>
              <p:nvPr/>
            </p:nvSpPr>
            <p:spPr>
              <a:xfrm flipH="1">
                <a:off x="3316680" y="1398240"/>
                <a:ext cx="85860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30"/>
              <p:cNvSpPr/>
              <p:nvPr/>
            </p:nvSpPr>
            <p:spPr>
              <a:xfrm>
                <a:off x="7510680" y="3107520"/>
                <a:ext cx="124092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31"/>
              <p:cNvSpPr/>
              <p:nvPr/>
            </p:nvSpPr>
            <p:spPr>
              <a:xfrm>
                <a:off x="6864840" y="2109600"/>
                <a:ext cx="187092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2"/>
              <p:cNvSpPr/>
              <p:nvPr/>
            </p:nvSpPr>
            <p:spPr>
              <a:xfrm>
                <a:off x="6934680" y="712800"/>
                <a:ext cx="817200" cy="176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33"/>
              <p:cNvSpPr/>
              <p:nvPr/>
            </p:nvSpPr>
            <p:spPr>
              <a:xfrm flipH="1" rot="1380000">
                <a:off x="4182120" y="2161800"/>
                <a:ext cx="54396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7046E6-19B1-4BBE-9DB8-F21908C295D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560" y="3080880"/>
            <a:ext cx="889308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Великая Отечественная 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война.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22 июня 1941 – 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9 мая 1945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4714920" cy="431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tretch/>
        </p:blipFill>
        <p:spPr>
          <a:xfrm>
            <a:off x="5256360" y="1260360"/>
            <a:ext cx="3743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360360" y="623880"/>
            <a:ext cx="4140360" cy="54957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86480" y="539280"/>
            <a:ext cx="395424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20 февраля 1942 г. Фрунзенский район — 987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Свердловский район — 749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Василеостровский район — 870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Куйбышевский район — 680 труп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Петроградский ..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Выборгский ..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Всего в этот день на кладбище привезли 10043 ленинградце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324000" y="539640"/>
            <a:ext cx="4356000" cy="5580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824360" y="539640"/>
            <a:ext cx="39942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2340000" y="179280"/>
            <a:ext cx="468000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3588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7920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"/>
          <p:cNvPicPr/>
          <p:nvPr/>
        </p:nvPicPr>
        <p:blipFill>
          <a:blip r:embed="rId1"/>
          <a:stretch/>
        </p:blipFill>
        <p:spPr>
          <a:xfrm>
            <a:off x="3600360" y="2160720"/>
            <a:ext cx="5302440" cy="4098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1"/>
          <a:stretch/>
        </p:blipFill>
        <p:spPr>
          <a:xfrm>
            <a:off x="2486160" y="317520"/>
            <a:ext cx="471492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3600360" y="2879640"/>
            <a:ext cx="5486400" cy="3840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225360" y="255600"/>
            <a:ext cx="57150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281160" y="360360"/>
            <a:ext cx="4578120" cy="3357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4000680" y="3240000"/>
            <a:ext cx="481932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560" y="2565360"/>
            <a:ext cx="8569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Arial Black"/>
              </a:rPr>
              <a:t>Блокада Ленинграда.</a:t>
            </a:r>
            <a:br>
              <a:rPr sz="5200"/>
            </a:br>
            <a:r>
              <a:rPr b="0" lang="en-GB" sz="5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GB" sz="5200" spc="-1" strike="noStrike">
                <a:solidFill>
                  <a:srgbClr val="ffffff"/>
                </a:solidFill>
                <a:latin typeface="Arial Black"/>
              </a:rPr>
              <a:t>8 сентября 1941 – </a:t>
            </a:r>
            <a:br>
              <a:rPr sz="5200"/>
            </a:br>
            <a:r>
              <a:rPr b="1" lang="en-GB" sz="5200" spc="-1" strike="noStrike">
                <a:solidFill>
                  <a:srgbClr val="ffffff"/>
                </a:solidFill>
                <a:latin typeface="Arial Black"/>
              </a:rPr>
              <a:t>27 января 1944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"/>
          <p:cNvGrpSpPr/>
          <p:nvPr/>
        </p:nvGrpSpPr>
        <p:grpSpPr>
          <a:xfrm>
            <a:off x="3411360" y="179280"/>
            <a:ext cx="5586480" cy="3784680"/>
            <a:chOff x="3411360" y="179280"/>
            <a:chExt cx="5586480" cy="3784680"/>
          </a:xfrm>
        </p:grpSpPr>
        <p:pic>
          <p:nvPicPr>
            <p:cNvPr id="387" name="Picture 2" descr=""/>
            <p:cNvPicPr/>
            <p:nvPr/>
          </p:nvPicPr>
          <p:blipFill>
            <a:blip r:embed="rId1"/>
            <a:stretch/>
          </p:blipFill>
          <p:spPr>
            <a:xfrm>
              <a:off x="3411360" y="179280"/>
              <a:ext cx="5586480" cy="37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3"/>
            <p:cNvSpPr/>
            <p:nvPr/>
          </p:nvSpPr>
          <p:spPr>
            <a:xfrm>
              <a:off x="3411360" y="179280"/>
              <a:ext cx="5586480" cy="37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179280" y="306072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"/>
          <p:cNvPicPr/>
          <p:nvPr/>
        </p:nvPicPr>
        <p:blipFill>
          <a:blip r:embed="rId1"/>
          <a:stretch/>
        </p:blipFill>
        <p:spPr>
          <a:xfrm>
            <a:off x="2519280" y="360360"/>
            <a:ext cx="3780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839880" y="539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2317680" y="179280"/>
            <a:ext cx="470232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6769080" cy="5079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4819680" y="3240000"/>
            <a:ext cx="4324320" cy="36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720720" y="360360"/>
            <a:ext cx="774072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360360" y="479520"/>
            <a:ext cx="8459640" cy="60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1800360" y="263520"/>
            <a:ext cx="504000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5632560" cy="4033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3600360" y="3240000"/>
            <a:ext cx="540072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214200" y="147600"/>
            <a:ext cx="4286520" cy="61531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"/>
          <p:cNvSpPr/>
          <p:nvPr/>
        </p:nvSpPr>
        <p:spPr>
          <a:xfrm>
            <a:off x="5130720" y="3959280"/>
            <a:ext cx="386892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ffcc00"/>
                </a:solidFill>
                <a:latin typeface="Arial"/>
              </a:rPr>
              <a:t>«С 4 сентября 1941 года по 22 января 1944 года на город было сброшено 107158 авиабомб, выпущено 148478 снарядов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4680000" y="720720"/>
            <a:ext cx="43196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1533600" y="360360"/>
            <a:ext cx="530676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7249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357800" cy="6303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4680000" y="2700360"/>
            <a:ext cx="4357800" cy="286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Секретарь</cp:lastModifiedBy>
  <dcterms:modified xsi:type="dcterms:W3CDTF">2014-01-22T08:08:51Z</dcterms:modified>
  <cp:revision>1</cp:revision>
  <dc:subject/>
  <dc:title>Великая Отечественная  война. 22 июня 1941 –  9 мая 1945</dc:title>
</cp:coreProperties>
</file>