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8.png" ContentType="image/png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350-8653-43E4-81C9-B09BC129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A59-D5FE-4B72-BB14-8EB3F57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80A-3E3F-4B03-9324-609B9E4D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802-290B-41DF-884F-5B59A49E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2ED-D570-49CD-B0F1-4BC93CD7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90D-380C-47F4-A786-2456CB1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F5B-EFCA-4347-8A57-96D293EB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66F-BF21-425C-ADAE-CA1A32F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BDA-512B-415C-84A7-B224182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D59-B19B-4D87-AF53-FB275EE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354-811F-4E92-BB08-79BB0BC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5D5-23FB-4920-BFF2-E9B881C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EBCD-2FF1-416B-925F-F4BC9B077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826920" y="1989000"/>
            <a:ext cx="763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ро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русского язы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43" name="Picture 6" descr="звонок 5"/>
          <p:cNvPicPr/>
          <p:nvPr/>
        </p:nvPicPr>
        <p:blipFill>
          <a:blip r:embed="rId2"/>
          <a:stretch/>
        </p:blipFill>
        <p:spPr>
          <a:xfrm>
            <a:off x="6516720" y="189000"/>
            <a:ext cx="2411280" cy="1708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669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Муниципальное обще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«Школа – детский сад с. Катрав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икифорова Снежана Вадим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39528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1"/>
          <p:cNvSpPr/>
          <p:nvPr/>
        </p:nvSpPr>
        <p:spPr>
          <a:xfrm>
            <a:off x="0" y="17730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Ужастно  интерестно  всё то, что    неизвест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3" descr="ОЧКАРИК"/>
          <p:cNvPicPr/>
          <p:nvPr/>
        </p:nvPicPr>
        <p:blipFill>
          <a:blip r:embed="rId2"/>
          <a:stretch/>
        </p:blipFill>
        <p:spPr>
          <a:xfrm>
            <a:off x="539640" y="3645000"/>
            <a:ext cx="3602160" cy="303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5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6"/>
          <p:cNvSpPr/>
          <p:nvPr/>
        </p:nvSpPr>
        <p:spPr>
          <a:xfrm>
            <a:off x="324000" y="24192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Подум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9528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755640" y="18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119"/>
          <p:cNvPicPr/>
          <p:nvPr/>
        </p:nvPicPr>
        <p:blipFill>
          <a:blip r:embed="rId3"/>
          <a:stretch/>
        </p:blipFill>
        <p:spPr>
          <a:xfrm>
            <a:off x="2627280" y="3500280"/>
            <a:ext cx="4029120" cy="293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324000" y="220464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Упражнение 93, стр. 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9528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826920" y="4365720"/>
            <a:ext cx="7490160" cy="20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8" descr="звонок 5"/>
          <p:cNvPicPr/>
          <p:nvPr/>
        </p:nvPicPr>
        <p:blipFill>
          <a:blip r:embed="rId2"/>
          <a:stretch/>
        </p:blipFill>
        <p:spPr>
          <a:xfrm>
            <a:off x="2700360" y="665280"/>
            <a:ext cx="3672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357280" y="642960"/>
            <a:ext cx="4857840" cy="55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! Проверь, дру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 ли ты начать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ли на месте, все л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в поряд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жки, ручки и тетрад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у нас девиз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к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, что надо, – под рукой!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4"/>
          <p:cNvSpPr/>
          <p:nvPr/>
        </p:nvSpPr>
        <p:spPr>
          <a:xfrm>
            <a:off x="380880" y="152280"/>
            <a:ext cx="8763120" cy="6172200"/>
          </a:xfrm>
          <a:prstGeom prst="pie">
            <a:avLst/>
          </a:pr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457200" y="533520"/>
            <a:ext cx="2057400" cy="556236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609480" y="228600"/>
            <a:ext cx="4191120" cy="601992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010280" y="533520"/>
            <a:ext cx="1981440" cy="5486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4800600" y="304920"/>
            <a:ext cx="3946680" cy="594360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438120" y="5334120"/>
            <a:ext cx="8705880" cy="914400"/>
          </a:xfrm>
          <a:prstGeom prst="pie">
            <a:avLst/>
          </a:pr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j0428261"/>
          <p:cNvPicPr/>
          <p:nvPr/>
        </p:nvPicPr>
        <p:blipFill>
          <a:blip r:embed="rId2"/>
          <a:stretch/>
        </p:blipFill>
        <p:spPr>
          <a:xfrm>
            <a:off x="0" y="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24000" y="1484280"/>
            <a:ext cx="5760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зы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о Киева дове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вы понимаете пословицу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ставьте ударение, подчеркните безударную гласну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4" descr=""/>
          <p:cNvPicPr/>
          <p:nvPr/>
        </p:nvPicPr>
        <p:blipFill>
          <a:blip r:embed="rId2"/>
          <a:stretch/>
        </p:blipFill>
        <p:spPr>
          <a:xfrm>
            <a:off x="317520" y="-109440"/>
            <a:ext cx="915516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Рисунок1 Копировать"/>
          <p:cNvPicPr/>
          <p:nvPr/>
        </p:nvPicPr>
        <p:blipFill>
          <a:blip r:embed="rId3"/>
          <a:stretch/>
        </p:blipFill>
        <p:spPr>
          <a:xfrm>
            <a:off x="6135840" y="3141720"/>
            <a:ext cx="2663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зверь, и не птиц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гда бои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вит мух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 воду плюх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262673"/>
                </a:solidFill>
                <a:latin typeface="Arial"/>
              </a:rPr>
              <a:t>Л</a:t>
            </a:r>
            <a:r>
              <a:rPr b="0" i="1" lang="ru-RU" sz="4400" spc="-1" strike="noStrike" u="sng">
                <a:solidFill>
                  <a:srgbClr val="262673"/>
                </a:solidFill>
                <a:uFillTx/>
                <a:latin typeface="Arial"/>
              </a:rPr>
              <a:t>Я</a:t>
            </a:r>
            <a:r>
              <a:rPr b="0" i="1" lang="ru-RU" sz="4400" spc="-1" strike="noStrike">
                <a:solidFill>
                  <a:srgbClr val="262673"/>
                </a:solidFill>
                <a:latin typeface="Arial"/>
              </a:rPr>
              <a:t>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ritingonbook"/>
          <p:cNvPicPr/>
          <p:nvPr/>
        </p:nvPicPr>
        <p:blipFill>
          <a:blip r:embed="rId2"/>
          <a:stretch/>
        </p:blipFill>
        <p:spPr>
          <a:xfrm>
            <a:off x="7451640" y="260280"/>
            <a:ext cx="1476360" cy="130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русяз"/>
          <p:cNvPicPr/>
          <p:nvPr/>
        </p:nvPicPr>
        <p:blipFill>
          <a:blip r:embed="rId3"/>
          <a:stretch/>
        </p:blipFill>
        <p:spPr>
          <a:xfrm rot="20056200">
            <a:off x="5024520" y="196488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785880" y="0"/>
            <a:ext cx="81151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 какому признаку слова распределены в три столби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191628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с             темный    зелене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нежинка   легкая   пад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лнышко  яркое    св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211640" y="4437000"/>
            <a:ext cx="460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а какие вопросы отвечают сло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42960" y="1714680"/>
            <a:ext cx="788508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52280" y="1797480"/>
            <a:ext cx="8491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 столбик                2 столбик               3столб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?                        КАКОЙ?          Что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                       КАКАЯ?          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PE02285_"/>
          <p:cNvPicPr/>
          <p:nvPr/>
        </p:nvPicPr>
        <p:blipFill>
          <a:blip r:embed="rId2"/>
          <a:stretch/>
        </p:blipFill>
        <p:spPr>
          <a:xfrm rot="1329600">
            <a:off x="4828680" y="3738600"/>
            <a:ext cx="229572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928800" y="500040"/>
            <a:ext cx="742932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Упражнение 9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Прочитай строки из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Запиши слова с 1 * в первый столб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Запиши слова с 2 * во второй столб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Читаем высказывание пр. Самовар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-252360" y="4365720"/>
            <a:ext cx="9791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OL"/>
          <p:cNvPicPr/>
          <p:nvPr/>
        </p:nvPicPr>
        <p:blipFill>
          <a:blip r:embed="rId2"/>
          <a:stretch/>
        </p:blipFill>
        <p:spPr>
          <a:xfrm>
            <a:off x="684360" y="260280"/>
            <a:ext cx="331128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286000" y="3157200"/>
            <a:ext cx="642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кие вопросы отвечают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изна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95280" y="260280"/>
            <a:ext cx="8248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чему надо уметь определять части реч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ие группы слов научились определять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части слова отличаются от частей реч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28:02Z</dcterms:created>
  <dc:creator>user</dc:creator>
  <dc:description/>
  <dc:language>en-US</dc:language>
  <cp:lastModifiedBy>home</cp:lastModifiedBy>
  <dcterms:modified xsi:type="dcterms:W3CDTF">2015-03-17T18:32:55Z</dcterms:modified>
  <cp:revision>22</cp:revision>
  <dc:subject/>
  <dc:title>Слайд 1</dc:title>
</cp:coreProperties>
</file>