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7.jpeg" ContentType="image/jpeg"/>
  <Override PartName="/ppt/media/image11.png" ContentType="image/png"/>
  <Override PartName="/ppt/media/image1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gif" ContentType="image/gif"/>
  <Override PartName="/ppt/media/image9.wmf" ContentType="image/x-wmf"/>
  <Override PartName="/ppt/media/image8.png" ContentType="image/png"/>
  <Override PartName="/ppt/media/image13.png" ContentType="image/png"/>
  <Override PartName="/ppt/media/image10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BC8-1B18-4B57-A8FD-B6EB4203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EE4-CD48-4431-95A3-2B7FDA03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861-DA66-48B1-AB66-01B99B9D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B3B7-F499-47E6-A4BF-B78F7E48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B9DA-BA5D-4C67-A90E-0D3B7D53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AF4-42F5-4FA3-A982-1DB7BE9A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FE3-14E8-48F6-A0C4-51B81694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832D-97E8-48F9-8F39-A667F2F0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3D8-3296-45A3-81DA-468DFEE7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B1C-28FC-499A-88EF-D64A445B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C4F-3059-4AF6-B222-0FFADE52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563-7A5A-4848-ACFC-71D7E550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762D-DDF1-47EC-A4C1-22B847EE1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826920" y="1989000"/>
            <a:ext cx="763272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Урок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русского язы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43" name="Picture 6" descr="звонок 5"/>
          <p:cNvPicPr/>
          <p:nvPr/>
        </p:nvPicPr>
        <p:blipFill>
          <a:blip r:embed="rId2"/>
          <a:stretch/>
        </p:blipFill>
        <p:spPr>
          <a:xfrm>
            <a:off x="6516720" y="189000"/>
            <a:ext cx="2411280" cy="1708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6697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Муниципальное общеобразовательное учреждение 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«Школа – детский сад с. Катраво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икифорова Снежана Вадим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395280" y="907920"/>
            <a:ext cx="842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1"/>
          <p:cNvSpPr/>
          <p:nvPr/>
        </p:nvSpPr>
        <p:spPr>
          <a:xfrm>
            <a:off x="0" y="1773000"/>
            <a:ext cx="88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Ужастно  интерестно  всё то, что    неизвестн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3" descr="ОЧКАРИК"/>
          <p:cNvPicPr/>
          <p:nvPr/>
        </p:nvPicPr>
        <p:blipFill>
          <a:blip r:embed="rId2"/>
          <a:stretch/>
        </p:blipFill>
        <p:spPr>
          <a:xfrm>
            <a:off x="539640" y="3645000"/>
            <a:ext cx="3602160" cy="3038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5" descr="dotbordr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6"/>
          <p:cNvSpPr/>
          <p:nvPr/>
        </p:nvSpPr>
        <p:spPr>
          <a:xfrm>
            <a:off x="324000" y="24192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Подумай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395280" y="907920"/>
            <a:ext cx="842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dotbordr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755640" y="18828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119"/>
          <p:cNvPicPr/>
          <p:nvPr/>
        </p:nvPicPr>
        <p:blipFill>
          <a:blip r:embed="rId3"/>
          <a:stretch/>
        </p:blipFill>
        <p:spPr>
          <a:xfrm>
            <a:off x="2627280" y="3500280"/>
            <a:ext cx="4029120" cy="29307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"/>
          <p:cNvSpPr/>
          <p:nvPr/>
        </p:nvSpPr>
        <p:spPr>
          <a:xfrm>
            <a:off x="324000" y="2204640"/>
            <a:ext cx="88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Упражнение 93, стр. 7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395280" y="907920"/>
            <a:ext cx="842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826920" y="4365720"/>
            <a:ext cx="7490160" cy="20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8" descr="звонок 5"/>
          <p:cNvPicPr/>
          <p:nvPr/>
        </p:nvPicPr>
        <p:blipFill>
          <a:blip r:embed="rId2"/>
          <a:stretch/>
        </p:blipFill>
        <p:spPr>
          <a:xfrm>
            <a:off x="2700360" y="665280"/>
            <a:ext cx="36720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2357280" y="642960"/>
            <a:ext cx="4857840" cy="55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имание! Проверь, друж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тов ли ты начать ур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ли на месте, все л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в поряд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ижки, ручки и тетрад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у нас девиз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ако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, что надо, – под рукой!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4"/>
          <p:cNvSpPr/>
          <p:nvPr/>
        </p:nvSpPr>
        <p:spPr>
          <a:xfrm>
            <a:off x="380880" y="152280"/>
            <a:ext cx="8763120" cy="6172200"/>
          </a:xfrm>
          <a:prstGeom prst="pie">
            <a:avLst/>
          </a:pr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457200" y="533520"/>
            <a:ext cx="2057400" cy="5562360"/>
          </a:xfrm>
          <a:prstGeom prst="pie">
            <a:avLst/>
          </a:pr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609480" y="228600"/>
            <a:ext cx="4191120" cy="6019920"/>
          </a:xfrm>
          <a:prstGeom prst="pie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7010280" y="533520"/>
            <a:ext cx="1981440" cy="5486400"/>
          </a:xfrm>
          <a:prstGeom prst="pie">
            <a:avLst/>
          </a:pr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8"/>
          <p:cNvSpPr/>
          <p:nvPr/>
        </p:nvSpPr>
        <p:spPr>
          <a:xfrm>
            <a:off x="4800600" y="304920"/>
            <a:ext cx="3946680" cy="5943600"/>
          </a:xfrm>
          <a:prstGeom prst="pie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438120" y="5334120"/>
            <a:ext cx="8705880" cy="914400"/>
          </a:xfrm>
          <a:prstGeom prst="pie">
            <a:avLst/>
          </a:pr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j0428261"/>
          <p:cNvPicPr/>
          <p:nvPr/>
        </p:nvPicPr>
        <p:blipFill>
          <a:blip r:embed="rId2"/>
          <a:stretch/>
        </p:blipFill>
        <p:spPr>
          <a:xfrm>
            <a:off x="0" y="0"/>
            <a:ext cx="19620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324000" y="1484280"/>
            <a:ext cx="5760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Язык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до Киева дове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к вы понимаете пословицу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ставьте ударение, подчеркните безударную гласну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tangle 4" descr=""/>
          <p:cNvPicPr/>
          <p:nvPr/>
        </p:nvPicPr>
        <p:blipFill>
          <a:blip r:embed="rId2"/>
          <a:stretch/>
        </p:blipFill>
        <p:spPr>
          <a:xfrm>
            <a:off x="317520" y="-109440"/>
            <a:ext cx="9155160" cy="158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Рисунок1 Копировать"/>
          <p:cNvPicPr/>
          <p:nvPr/>
        </p:nvPicPr>
        <p:blipFill>
          <a:blip r:embed="rId3"/>
          <a:stretch/>
        </p:blipFill>
        <p:spPr>
          <a:xfrm>
            <a:off x="6135840" y="3141720"/>
            <a:ext cx="26636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0"/>
          <p:cNvSpPr/>
          <p:nvPr/>
        </p:nvSpPr>
        <p:spPr>
          <a:xfrm>
            <a:off x="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 зверь, и не птиц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егда боит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ловит мух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в воду плюх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262673"/>
                </a:solidFill>
                <a:latin typeface="Arial"/>
              </a:rPr>
              <a:t>Л</a:t>
            </a:r>
            <a:r>
              <a:rPr b="0" i="1" lang="ru-RU" sz="4400" spc="-1" strike="noStrike" u="sng">
                <a:solidFill>
                  <a:srgbClr val="262673"/>
                </a:solidFill>
                <a:uFillTx/>
                <a:latin typeface="Arial"/>
              </a:rPr>
              <a:t>Я</a:t>
            </a:r>
            <a:r>
              <a:rPr b="0" i="1" lang="ru-RU" sz="4400" spc="-1" strike="noStrike">
                <a:solidFill>
                  <a:srgbClr val="262673"/>
                </a:solidFill>
                <a:latin typeface="Arial"/>
              </a:rPr>
              <a:t>Г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writingonbook"/>
          <p:cNvPicPr/>
          <p:nvPr/>
        </p:nvPicPr>
        <p:blipFill>
          <a:blip r:embed="rId2"/>
          <a:stretch/>
        </p:blipFill>
        <p:spPr>
          <a:xfrm>
            <a:off x="7451640" y="260280"/>
            <a:ext cx="1476360" cy="130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русяз"/>
          <p:cNvPicPr/>
          <p:nvPr/>
        </p:nvPicPr>
        <p:blipFill>
          <a:blip r:embed="rId3"/>
          <a:stretch/>
        </p:blipFill>
        <p:spPr>
          <a:xfrm rot="20056200">
            <a:off x="5024520" y="1964880"/>
            <a:ext cx="3078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dotbordr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WordArt 4"/>
          <p:cNvSpPr txBox="1"/>
          <p:nvPr/>
        </p:nvSpPr>
        <p:spPr>
          <a:xfrm>
            <a:off x="785880" y="0"/>
            <a:ext cx="811512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По какому признаку слова распределены в три столбик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191628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Лес             темный    зелене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нежинка   легкая   пада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олнышко  яркое    свет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4211640" y="4437000"/>
            <a:ext cx="460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68436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На какие вопросы отвечают слов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642960" y="1714680"/>
            <a:ext cx="788508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52280" y="1797480"/>
            <a:ext cx="8491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 столбик                2 столбик               3столб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?                        КАКОЙ?          Что д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?                        КАКАЯ?          Что сд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PE02285_"/>
          <p:cNvPicPr/>
          <p:nvPr/>
        </p:nvPicPr>
        <p:blipFill>
          <a:blip r:embed="rId2"/>
          <a:stretch/>
        </p:blipFill>
        <p:spPr>
          <a:xfrm rot="1329600">
            <a:off x="4828680" y="3738600"/>
            <a:ext cx="229572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928800" y="500040"/>
            <a:ext cx="7429320" cy="57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Упражнение 9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.Прочитай строки из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. Запиши слова с 1 * в первый столб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. Запиши слова с 2 * во второй столб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(Читаем высказывание пр. Самовар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-252360" y="4365720"/>
            <a:ext cx="9791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SOL"/>
          <p:cNvPicPr/>
          <p:nvPr/>
        </p:nvPicPr>
        <p:blipFill>
          <a:blip r:embed="rId2"/>
          <a:stretch/>
        </p:blipFill>
        <p:spPr>
          <a:xfrm>
            <a:off x="684360" y="260280"/>
            <a:ext cx="331128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2286000" y="3157200"/>
            <a:ext cx="642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какие вопросы отвечают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едм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призна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395280" y="260280"/>
            <a:ext cx="8248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чему надо уметь определять части речи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ие группы слов научились определять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ем части слова отличаются от частей реч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2:28:02Z</dcterms:created>
  <dc:creator>user</dc:creator>
  <dc:description/>
  <dc:language>en-US</dc:language>
  <cp:lastModifiedBy>home</cp:lastModifiedBy>
  <dcterms:modified xsi:type="dcterms:W3CDTF">2015-03-17T18:32:55Z</dcterms:modified>
  <cp:revision>22</cp:revision>
  <dc:subject/>
  <dc:title>Слайд 1</dc:title>
</cp:coreProperties>
</file>