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E8A6-3155-4C54-97D1-F687D61DFA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3492-44F0-4139-AB40-C965F281D2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C4C7-D2C0-47FB-9DFE-94268E60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B21E-9703-4726-BFB3-41836447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7955-CA56-47A5-9433-A440FA0C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6385-C80C-488B-86E0-259A6D50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C645-278A-4F4B-8077-6656A743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BB0B-4982-498D-B2A3-EE43EB81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B0AD-CD06-41B3-BAD7-A2EC9D3B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07D1-FA3F-4C8E-BF34-459E4FDD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0C27-0A3F-46C3-89B7-D55BC3C1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9EA8-1108-4565-8051-BE404E26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EB2C-43D5-42DA-B086-7DF69A59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2AB-B6A0-44D2-8052-CC973B21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639F-C094-43A1-A4B4-E1371C55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557E-169F-4F37-8217-B60511A6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CAB3-D256-45FC-8649-24015FF7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8C48-D184-4268-9D62-DBC2BFC2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ABB1-7060-4F94-8157-B3D9D4D3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3722C-182B-424A-BE50-28A4C6E7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F20BA-CC83-4B9A-B7D4-E51B933B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4EB43-1C14-44DC-9074-73280828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431F8-02BC-46B1-8BD1-DC909241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D53AC-B502-4A62-8135-FD608046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DD4E-2935-438B-AC57-696B22B7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E9A4E-DF8B-4EBA-BC00-D4D0DDB6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94010-69AD-4366-8A59-48189183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7FF76-4DEF-4778-90D3-5C2CC825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FA381-D4E9-4F34-B7D2-49489A97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3B0E9-77E8-49EF-869C-7F68F424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1A45A-63C7-41A9-B248-795DD5FE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554D4-17BC-4655-9FED-3E22FC04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E267B-40D3-4909-A62F-D7E208F7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B9E18-9B15-4638-9D9A-40521F19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0EB81-B259-44CE-9E5C-18C890D0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F40D-4F4F-484F-A251-C77402F5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733AB-0EDE-4CC4-B6B3-4B3D8883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B8FBF-CD44-4CDB-BF3B-3F5D13CD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CDB01-3217-41A7-95A7-3E863CD1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243DB-F2F2-4E17-9989-87038EEA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3E389-49FC-4A72-BEC1-9B6460EF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43803-FD33-494D-B454-6B13E00C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B1254-1E68-4420-948B-3028E664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5128C-05D5-4CEE-A890-4CC7AB5E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516E5-57A1-44EC-B5C0-A64D7053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6FE5C-6E01-4E2C-A2FD-EA3BD1C3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943E-63D4-474C-852F-52AE13A3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C6670-46CD-4BFC-99A2-65564192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E9965-A5F8-4518-B7DA-2CF4825A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17B99-9AA2-458C-BAF3-F03AF376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7A136-D81F-4E08-AEDF-98D4A8E8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346B9-426E-4548-A4A2-7E094D94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883EF-F13A-45B9-B41C-D50096A8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48A7C-9E53-4C22-BBA4-FB8C23FF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80BA2-3424-4A65-AFB7-A74997ED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88318-62DD-4D9D-89A3-E5771440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D4647-4E82-4D3D-B162-64D56497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EC0E-193C-4423-B9FF-EFD1F1CD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42FE1-77E0-4561-BDBB-B1813FAF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AFD57-A693-467C-8FEF-D36808B7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6BC95-22A7-460F-BEED-468016DE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BBC9E-8956-4D7D-A81E-1E877A7E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12A5C-BC63-4043-896E-0944B565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A0DA6-8251-478A-9950-B48CF66A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E3F04-1337-4D96-9C1D-0C80217A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B3BE2-DC17-419B-8184-82DB5944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FFEC7-3499-43B2-8D92-10DB4536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FA1D6-5C0E-49FF-92B0-3A2B1F05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AF1-8ED2-47D1-90AF-D0F7D1B7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B4547-1C50-4DAA-AE99-D807D088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010B3-1587-4FEC-891F-A8720641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0F104-7274-4222-B109-8C3133F5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541D2-2C6B-41E0-95AD-E69CFF60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93880-941A-4920-8F1B-24B5952D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ACC4D-A0F5-4731-BF46-EBB67D5E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6B3B6-B461-4D82-97CC-958A555D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8E2A3-51F2-4311-928A-29D602C1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AA606-2DDA-4146-8199-46BD83DE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82BDB-018A-406A-B814-EB0DF58B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751A-0820-4673-B203-D96165CC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D1371-C4DA-43D4-82CD-107E7FE8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24DB8-F95F-4D46-A9B6-62B05087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37EDB-7619-4A8E-96CD-23FCB42C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D55F1-89F8-4F89-8842-200EB569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D1BEE-2119-4B27-929D-EEC49538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59FF-1F46-41D3-907E-ECDB2301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B9D8-AAFF-461D-8F83-034CA62DB2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3000-F35F-4CA9-A697-F0154A875B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B22F-7EEC-43B2-93BB-CBA8BE8F80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1277-23A3-4287-B6E4-805475791A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1336-1D79-41E7-8A6F-A9DA7B05C66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2D75-B624-4F92-B2D4-355C5A1697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DB8F-8A76-4C91-BC3A-4626DE716E4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Наша любимая групп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к мы весело живем!</a:t>
            </a:r>
            <a:endParaRPr b="0" lang="en-US" sz="20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44" name="Улыбающееся лицо 3"/>
          <p:cNvSpPr/>
          <p:nvPr/>
        </p:nvSpPr>
        <p:spPr>
          <a:xfrm>
            <a:off x="2411280" y="498600"/>
            <a:ext cx="2232000" cy="21384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45" name="Сердце 4"/>
          <p:cNvSpPr/>
          <p:nvPr/>
        </p:nvSpPr>
        <p:spPr>
          <a:xfrm>
            <a:off x="6516720" y="3780000"/>
            <a:ext cx="2138400" cy="1922400"/>
          </a:xfrm>
          <a:custGeom>
            <a:avLst/>
            <a:gdLst>
              <a:gd name="textAreaLeft" fmla="*/ 356400 w 2138400"/>
              <a:gd name="textAreaRight" fmla="*/ 1782000 w 2138400"/>
              <a:gd name="textAreaTop" fmla="*/ 480600 h 1922400"/>
              <a:gd name="textAreaBottom" fmla="*/ 1281600 h 1922400"/>
            </a:gdLst>
            <a:ahLst/>
            <a:rect l="textAreaLeft" t="textAreaTop" r="textAreaRight" b="textAreaBottom"/>
            <a:pathLst>
              <a:path w="2138362" h="1922462">
                <a:moveTo>
                  <a:pt x="1069181" y="480616"/>
                </a:moveTo>
                <a:cubicBezTo>
                  <a:pt x="1514673" y="-640821"/>
                  <a:pt x="3252092" y="480616"/>
                  <a:pt x="1069181" y="1922462"/>
                </a:cubicBezTo>
                <a:cubicBezTo>
                  <a:pt x="-1113730" y="480616"/>
                  <a:pt x="623689" y="-640821"/>
                  <a:pt x="1069181" y="480616"/>
                </a:cubicBezTo>
                <a:close/>
              </a:path>
            </a:pathLst>
          </a:custGeom>
          <a:solidFill>
            <a:srgbClr val="ff0000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Мы любим праздники,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2" name="Picture 4" descr="IMG_0058"/>
          <p:cNvPicPr/>
          <p:nvPr/>
        </p:nvPicPr>
        <p:blipFill>
          <a:blip r:embed="rId1"/>
          <a:stretch/>
        </p:blipFill>
        <p:spPr>
          <a:xfrm>
            <a:off x="-264960" y="1484280"/>
            <a:ext cx="9408960" cy="7056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Мы любим гулять,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5" name="Picture 4" descr="IMGP3429"/>
          <p:cNvPicPr/>
          <p:nvPr/>
        </p:nvPicPr>
        <p:blipFill>
          <a:blip r:embed="rId1"/>
          <a:stretch/>
        </p:blipFill>
        <p:spPr>
          <a:xfrm>
            <a:off x="324000" y="1557360"/>
            <a:ext cx="8378640" cy="6283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Мы спортивные,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8" name="Picture 4" descr="Изображение 023"/>
          <p:cNvPicPr/>
          <p:nvPr/>
        </p:nvPicPr>
        <p:blipFill>
          <a:blip r:embed="rId1"/>
          <a:stretch/>
        </p:blipFill>
        <p:spPr>
          <a:xfrm>
            <a:off x="1116000" y="1773360"/>
            <a:ext cx="6804000" cy="4562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 Кощей и Баба-Яга – это наши воспитательницы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1" name="Picture 4" descr="Фото0165"/>
          <p:cNvPicPr/>
          <p:nvPr/>
        </p:nvPicPr>
        <p:blipFill>
          <a:blip r:embed="rId1"/>
          <a:stretch/>
        </p:blipFill>
        <p:spPr>
          <a:xfrm>
            <a:off x="1258920" y="1628640"/>
            <a:ext cx="638640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8" name="Picture 4" descr="2012-10-11-002"/>
          <p:cNvPicPr/>
          <p:nvPr/>
        </p:nvPicPr>
        <p:blipFill>
          <a:blip r:embed="rId1"/>
          <a:stretch/>
        </p:blipFill>
        <p:spPr>
          <a:xfrm>
            <a:off x="622440" y="1209600"/>
            <a:ext cx="7900920" cy="4438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Пока девочки занят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Picture 4" descr="2012-10-30-004"/>
          <p:cNvPicPr/>
          <p:nvPr/>
        </p:nvPicPr>
        <p:blipFill>
          <a:blip r:embed="rId1"/>
          <a:stretch/>
        </p:blipFill>
        <p:spPr>
          <a:xfrm>
            <a:off x="539640" y="1700280"/>
            <a:ext cx="7900920" cy="4438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очень важными делам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4" name="Picture 4" descr="2012-10-30-006"/>
          <p:cNvPicPr/>
          <p:nvPr/>
        </p:nvPicPr>
        <p:blipFill>
          <a:blip r:embed="rId1"/>
          <a:stretch/>
        </p:blipFill>
        <p:spPr>
          <a:xfrm>
            <a:off x="622440" y="1209600"/>
            <a:ext cx="7900920" cy="4438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мальчики заняты хозяйство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7" name="Picture 4" descr="2012-11-02-009"/>
          <p:cNvPicPr/>
          <p:nvPr/>
        </p:nvPicPr>
        <p:blipFill>
          <a:blip r:embed="rId1"/>
          <a:stretch/>
        </p:blipFill>
        <p:spPr>
          <a:xfrm>
            <a:off x="684360" y="1557360"/>
            <a:ext cx="7900920" cy="4438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мы бываем задумчивым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0" name="Picture 4" descr="2012-12-14-0009"/>
          <p:cNvPicPr/>
          <p:nvPr/>
        </p:nvPicPr>
        <p:blipFill>
          <a:blip r:embed="rId1"/>
          <a:stretch/>
        </p:blipFill>
        <p:spPr>
          <a:xfrm>
            <a:off x="468360" y="1844640"/>
            <a:ext cx="7900920" cy="4438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Мы не суеверны, девочки на корабле – это хорош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4" descr="2012-12-14-0008"/>
          <p:cNvPicPr/>
          <p:nvPr/>
        </p:nvPicPr>
        <p:blipFill>
          <a:blip r:embed="rId1"/>
          <a:stretch/>
        </p:blipFill>
        <p:spPr>
          <a:xfrm>
            <a:off x="611280" y="1700280"/>
            <a:ext cx="7900920" cy="4438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бывает засыпаем не воврем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6" name="Picture 4" descr="2013-01-16-0020"/>
          <p:cNvPicPr/>
          <p:nvPr/>
        </p:nvPicPr>
        <p:blipFill>
          <a:blip r:embed="rId1"/>
          <a:stretch/>
        </p:blipFill>
        <p:spPr>
          <a:xfrm>
            <a:off x="468360" y="1844640"/>
            <a:ext cx="7900920" cy="4438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Иногда очень не вовремя!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4" descr="IMG_0056"/>
          <p:cNvPicPr/>
          <p:nvPr/>
        </p:nvPicPr>
        <p:blipFill>
          <a:blip r:embed="rId1"/>
          <a:stretch/>
        </p:blipFill>
        <p:spPr>
          <a:xfrm>
            <a:off x="1116000" y="1989000"/>
            <a:ext cx="5977080" cy="407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4:41:42Z</dcterms:created>
  <dc:creator>Флора</dc:creator>
  <dc:description/>
  <dc:language>en-US</dc:language>
  <cp:lastModifiedBy>Пользователь Windows</cp:lastModifiedBy>
  <dcterms:modified xsi:type="dcterms:W3CDTF">2015-05-06T04:10:33Z</dcterms:modified>
  <cp:revision>7</cp:revision>
  <dc:subject/>
  <dc:title>Слайд 1</dc:title>
</cp:coreProperties>
</file>