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5582-93ED-4A11-9CAE-17F50350B0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9A4F-AB4C-4106-8F56-4D3BE2C394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3D36-B339-42F9-ADBE-E3770AA74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8402-76EA-44CA-B0A5-6F89C7EF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45EF-5C9F-4E76-8E15-E0A7C8100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CD7B-A647-4F0A-9746-234F51574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E6BB-4C62-4E2E-8443-706DF0B9B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26F7-F332-45AF-8F83-99016B3B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8780-1BC8-4F31-89C9-13721D7C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6859-E096-4BE8-B072-CF5CC4CF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364C-EEC3-49A9-BF52-4B53FF8B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890C-C7F3-4305-B698-4C7E63F1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257D-8CCC-41F2-8C3D-8C4B0E53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0C94-8C22-4221-9C92-10394301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8582-5CD0-4EF8-80EF-F1B2DDF1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DC5D-0BD6-45D4-8313-9119867E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2C1F-8664-49C4-9E84-C10323DA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68EA-007C-47DF-B892-5F11032E1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1439-AA34-43D1-9A84-884ED91D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C06A1-131B-4D66-8C04-EAEE7B91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2584C-0845-49A7-B8D8-2D8017B9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99496-521E-4E3B-8E36-57348ADD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B4CA7-A4A0-46CC-A8A0-E4FBBE29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52864-F493-4846-8E3C-72A0D5F0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912F-BD67-40AD-8069-F65AF315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699E9-8050-435A-9661-31F2CBEB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CE209-CD08-4FAA-AE8A-5A9C25FC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3CB86-41C5-4F5D-AA56-007D93B7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30F8E-1D66-4CC2-83F0-BD520765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C2652-19C3-407C-9844-D3397F7E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95448-E07A-4585-87AC-AE9DBBF3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7C0B3-1391-4A16-874B-9699DBF2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B6A2F-2430-4A00-8CB7-DD210116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F587F-2A9F-4321-9FF5-5F9C54CC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D4E1C-0F39-4087-B203-A70C3BDA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6E0B-2BD5-4BD1-925C-36644FDE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C30FF-AF7B-4C2B-A14E-0ABF55E7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A6720-96C0-47F7-B9F2-CF0FD720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45ACD-7341-4A14-AF89-FE9EF46C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89033-3E23-42EB-AF5D-10D1E776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6ABCC-5051-4AFA-95E4-239235BC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4FF1F-5D8F-4297-AB69-DBD3B93C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0924A-7A17-4749-9AED-950F4E04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6380E-256A-46E9-99EF-0F2A5B028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4C4D2-84A7-44CC-BD4C-8712AA5BD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4C218-494E-4E91-8388-4D07B732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3EAE-9A8C-4298-9572-071A626E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9C37C-1B7F-4C15-8692-295F13DE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9DF87-C735-43BF-B4FA-22EAD1FC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22465-AF61-4F5F-9585-9CC5776A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D6D7E-8A5B-4A58-B33F-0F26AAC6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80B45-F0BA-432F-923A-2763C913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97DA0-03D9-4980-AEB4-2B19024C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9E194-5214-400D-884B-C4353FE4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EBF16-BBE9-4E4F-B10F-3F3C6EE6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9C0BC-F9DF-4B9A-B604-C3237A4F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A4F16-6CE0-41D7-B34D-86491264F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0A84-0AD1-450C-AAFB-A77CE23B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6160C-9020-407E-899E-8533FB38C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5084C-CDC0-4FC3-9347-045DF6BE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1CE06-D759-4024-AECE-A8BBDB8C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2A935-6ADE-49B8-B172-5F4D0A1B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F570B-881D-4EB7-84C8-6BECF347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A0DA2-7E10-49D3-9EB6-07DEA6C7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01033-57CE-4107-A459-AA40A760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C3CED-47F3-4819-BCBF-29C8486C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D804F-E4F2-44AC-B3BE-43EA6E1E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755E2-44DB-42A2-8B76-B79A553A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7D30-8208-45CC-8F6F-6E9324A5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256E7-DECE-4935-AD5D-81C0E4BB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86C8F-DCC8-40B5-83BE-723A3761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73424-9ECF-4F2D-84A1-240845DCD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9ECE6-69F0-46C2-9D28-FD47A63C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3CE57-4420-4C39-821B-69DC418A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D9297-4791-49A4-A29E-BD49380C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5F588-FF36-49B6-94BA-1B2CDA5D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9FC3B-7F84-492D-823B-6A94C13C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02B40-C2B5-4ACD-B212-5F588548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10329-96BC-4FD0-826D-F96DD0E8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002B-B6E6-45EB-990E-F34E1643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7CA83-AFC7-4DAE-9DD6-DC8047E9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3E56F-81BA-42C7-A86E-6A8B4724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08C7B-84B2-42FD-96C4-C03A50AA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D8D8A-E29F-4EED-BA0C-98B83732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9455F-6369-4486-B930-921DBBEAE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DE90-CFD9-40A8-887B-E4FC618D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25CC-24FA-4FCC-B0D9-379F137003B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A80E-8E7F-4E98-96D3-18D4AF04F20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C2B2-ECDE-4A82-8AF7-F25A3B54356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140A-043F-40E3-AF7F-91BD236A69A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A66C-122E-4BDA-8FAF-E426F7105A7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81F9-6A90-46E5-922A-C08DD6EC9AB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C0CE-3CFD-488E-B7A6-E660A8472D9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Наша любимая групп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к мы весело живем!</a:t>
            </a:r>
            <a:endParaRPr b="0" lang="en-US" sz="20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44" name="Улыбающееся лицо 3"/>
          <p:cNvSpPr/>
          <p:nvPr/>
        </p:nvSpPr>
        <p:spPr>
          <a:xfrm>
            <a:off x="2411280" y="498600"/>
            <a:ext cx="2232000" cy="21384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45" name="Сердце 4"/>
          <p:cNvSpPr/>
          <p:nvPr/>
        </p:nvSpPr>
        <p:spPr>
          <a:xfrm>
            <a:off x="6516720" y="3780000"/>
            <a:ext cx="2138400" cy="1922400"/>
          </a:xfrm>
          <a:custGeom>
            <a:avLst/>
            <a:gdLst>
              <a:gd name="textAreaLeft" fmla="*/ 356400 w 2138400"/>
              <a:gd name="textAreaRight" fmla="*/ 1782000 w 2138400"/>
              <a:gd name="textAreaTop" fmla="*/ 480600 h 1922400"/>
              <a:gd name="textAreaBottom" fmla="*/ 1281600 h 1922400"/>
            </a:gdLst>
            <a:ahLst/>
            <a:rect l="textAreaLeft" t="textAreaTop" r="textAreaRight" b="textAreaBottom"/>
            <a:pathLst>
              <a:path w="2138362" h="1922462">
                <a:moveTo>
                  <a:pt x="1069181" y="480616"/>
                </a:moveTo>
                <a:cubicBezTo>
                  <a:pt x="1514673" y="-640821"/>
                  <a:pt x="3252092" y="480616"/>
                  <a:pt x="1069181" y="1922462"/>
                </a:cubicBezTo>
                <a:cubicBezTo>
                  <a:pt x="-1113730" y="480616"/>
                  <a:pt x="623689" y="-640821"/>
                  <a:pt x="1069181" y="480616"/>
                </a:cubicBezTo>
                <a:close/>
              </a:path>
            </a:pathLst>
          </a:custGeom>
          <a:solidFill>
            <a:srgbClr val="ff0000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Мы любим праздники,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2" name="Picture 4" descr="IMG_0058"/>
          <p:cNvPicPr/>
          <p:nvPr/>
        </p:nvPicPr>
        <p:blipFill>
          <a:blip r:embed="rId1"/>
          <a:stretch/>
        </p:blipFill>
        <p:spPr>
          <a:xfrm>
            <a:off x="-264960" y="1484280"/>
            <a:ext cx="9408960" cy="7056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Мы любим гулять,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5" name="Picture 4" descr="IMGP3429"/>
          <p:cNvPicPr/>
          <p:nvPr/>
        </p:nvPicPr>
        <p:blipFill>
          <a:blip r:embed="rId1"/>
          <a:stretch/>
        </p:blipFill>
        <p:spPr>
          <a:xfrm>
            <a:off x="324000" y="1557360"/>
            <a:ext cx="8378640" cy="6283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Мы спортивные,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8" name="Picture 4" descr="Изображение 023"/>
          <p:cNvPicPr/>
          <p:nvPr/>
        </p:nvPicPr>
        <p:blipFill>
          <a:blip r:embed="rId1"/>
          <a:stretch/>
        </p:blipFill>
        <p:spPr>
          <a:xfrm>
            <a:off x="1116000" y="1773360"/>
            <a:ext cx="6804000" cy="4562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А Кощей и Баба-Яга – это наши воспитательницы!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1" name="Picture 4" descr="Фото0165"/>
          <p:cNvPicPr/>
          <p:nvPr/>
        </p:nvPicPr>
        <p:blipFill>
          <a:blip r:embed="rId1"/>
          <a:stretch/>
        </p:blipFill>
        <p:spPr>
          <a:xfrm>
            <a:off x="1258920" y="1628640"/>
            <a:ext cx="638640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8" name="Picture 4" descr="2012-10-11-002"/>
          <p:cNvPicPr/>
          <p:nvPr/>
        </p:nvPicPr>
        <p:blipFill>
          <a:blip r:embed="rId1"/>
          <a:stretch/>
        </p:blipFill>
        <p:spPr>
          <a:xfrm>
            <a:off x="622440" y="1209600"/>
            <a:ext cx="7900920" cy="4438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Пока девочки заняты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1" name="Picture 4" descr="2012-10-30-004"/>
          <p:cNvPicPr/>
          <p:nvPr/>
        </p:nvPicPr>
        <p:blipFill>
          <a:blip r:embed="rId1"/>
          <a:stretch/>
        </p:blipFill>
        <p:spPr>
          <a:xfrm>
            <a:off x="539640" y="1700280"/>
            <a:ext cx="7900920" cy="4438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очень важными делам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4" name="Picture 4" descr="2012-10-30-006"/>
          <p:cNvPicPr/>
          <p:nvPr/>
        </p:nvPicPr>
        <p:blipFill>
          <a:blip r:embed="rId1"/>
          <a:stretch/>
        </p:blipFill>
        <p:spPr>
          <a:xfrm>
            <a:off x="622440" y="1209600"/>
            <a:ext cx="7900920" cy="4438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мальчики заняты хозяйство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7" name="Picture 4" descr="2012-11-02-009"/>
          <p:cNvPicPr/>
          <p:nvPr/>
        </p:nvPicPr>
        <p:blipFill>
          <a:blip r:embed="rId1"/>
          <a:stretch/>
        </p:blipFill>
        <p:spPr>
          <a:xfrm>
            <a:off x="684360" y="1557360"/>
            <a:ext cx="7900920" cy="4438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мы бываем задумчивым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0" name="Picture 4" descr="2012-12-14-0009"/>
          <p:cNvPicPr/>
          <p:nvPr/>
        </p:nvPicPr>
        <p:blipFill>
          <a:blip r:embed="rId1"/>
          <a:stretch/>
        </p:blipFill>
        <p:spPr>
          <a:xfrm>
            <a:off x="468360" y="1844640"/>
            <a:ext cx="7900920" cy="4438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Мы не суеверны, девочки на корабле – это хорошо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3" name="Picture 4" descr="2012-12-14-0008"/>
          <p:cNvPicPr/>
          <p:nvPr/>
        </p:nvPicPr>
        <p:blipFill>
          <a:blip r:embed="rId1"/>
          <a:stretch/>
        </p:blipFill>
        <p:spPr>
          <a:xfrm>
            <a:off x="611280" y="1700280"/>
            <a:ext cx="7900920" cy="4438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бывает засыпаем не воврем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6" name="Picture 4" descr="2013-01-16-0020"/>
          <p:cNvPicPr/>
          <p:nvPr/>
        </p:nvPicPr>
        <p:blipFill>
          <a:blip r:embed="rId1"/>
          <a:stretch/>
        </p:blipFill>
        <p:spPr>
          <a:xfrm>
            <a:off x="468360" y="1844640"/>
            <a:ext cx="7900920" cy="4438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Verdan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Иногда очень не вовремя!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9" name="Picture 4" descr="IMG_0056"/>
          <p:cNvPicPr/>
          <p:nvPr/>
        </p:nvPicPr>
        <p:blipFill>
          <a:blip r:embed="rId1"/>
          <a:stretch/>
        </p:blipFill>
        <p:spPr>
          <a:xfrm>
            <a:off x="1116000" y="1989000"/>
            <a:ext cx="5977080" cy="4078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4:41:42Z</dcterms:created>
  <dc:creator>Флора</dc:creator>
  <dc:description/>
  <dc:language>en-US</dc:language>
  <cp:lastModifiedBy>Пользователь Windows</cp:lastModifiedBy>
  <dcterms:modified xsi:type="dcterms:W3CDTF">2015-05-06T04:10:33Z</dcterms:modified>
  <cp:revision>7</cp:revision>
  <dc:subject/>
  <dc:title>Слайд 1</dc:title>
</cp:coreProperties>
</file>