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9912-27A5-4B07-BAEA-9EE41F0C3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B027-8487-4141-9C20-86A3E1E6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1C4B-9BB8-4DBE-9500-4271CC7CF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909E-4EC4-467E-BB63-D212DB539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F3E1-1C98-4DDA-9315-8DAB4FBE0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C930-43E0-4AD7-8D18-CFC7B313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A0EF-B578-4D52-9C7F-31A0A05C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CB63-F094-4EA0-895B-A97E6280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C586-316B-4544-BB6A-E47FB8F5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F585-4491-47C4-A8EA-1192DA23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621E-1C57-44C5-BDB4-6B31D134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B1A1-FC81-4402-9161-EB0A438E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4397-1E4C-4498-8FA2-F52F4DF9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D934-E5AA-4261-8BD1-45BF872F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1704-93FB-4077-A5B7-0033B234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F6E8-5BAA-4272-82DC-2D145CC46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A3E9-0649-4024-B5E3-A009282A7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D566-CCC5-4328-8B19-1FCD7D97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903C-0090-402D-94AE-946D1E7D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753F-490C-417D-8D7C-EA2F0061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D2F6-FE8D-4BF5-9127-9B9097E8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4348-E715-4C5D-B552-C5F80997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F521-8DF8-43CC-A35D-CDDE7072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6F66-07D7-44A3-AC27-6B2D8AC9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831A-E1C9-4532-AF87-9748DEACEA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8295-0E8B-4AFF-A29E-A0E1389D5A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оломеев Дмитрий Сергееви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2149560"/>
            <a:ext cx="3201840" cy="4708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804000" y="620640"/>
            <a:ext cx="2340000" cy="2303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103640" y="4843440"/>
            <a:ext cx="504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Arial"/>
              </a:rPr>
              <a:t>В городе Хабаровск Хабаровского края и городе Россошь Воронежской области названы улицы имени Дмитрия Сергеевича Фоломеева – танкиста 106-й танковой бригад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Arial"/>
              </a:rPr>
              <a:t>старшего лейтенанта, Героя Советского Союза.</a:t>
            </a: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6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219640" y="141120"/>
            <a:ext cx="3924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.С. Фоломеев родился 18 сентября 191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да в д. Ивановке Рязанской области. И сейчас там сохранился его дом. На нём табличка, свидетельствующая о том, что это дом героя Фоломеева. В этом доме живут родственники героя. Фоломеев участвовал в ожесточенных боях на западном фронте в составе 1-й гвардейской танковой брига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августа 1942 года участвовал в боях на Степном и Воронежском фронтах. 14 января 1943 года экипаж Фоломеева при захвате совхоза "Красный Молот" застрял в овраге, отстав от колонны 106-й танковой брига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олотой Звезды Героя Советского Союза был удостоен Дмитрий Сергеевич Фоломеев за заслуги в Острогожско-Россошанской опер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2000" y="1197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ил Литвинов Вячеслав 7 «Б» к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2:18:52Z</dcterms:created>
  <dc:creator>Admin</dc:creator>
  <dc:description/>
  <dc:language>en-US</dc:language>
  <cp:lastModifiedBy>Надя</cp:lastModifiedBy>
  <dcterms:modified xsi:type="dcterms:W3CDTF">2015-03-16T05:38:43Z</dcterms:modified>
  <cp:revision>8</cp:revision>
  <dc:subject/>
  <dc:title>Слайд 1</dc:title>
</cp:coreProperties>
</file>