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AC2-92F6-4B53-B887-264AF13D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F13-34BF-42FC-85B4-2B100DDE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8ED-8AE4-4680-B645-6DD50E58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594-DB6A-42FB-9B84-E1D66637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DA42-DB27-4D48-96F8-0755BC8C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1A53-E213-4A6F-AD6A-9A1053F7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4EEA-FC31-4262-93E0-9979490F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BDCA-7EE5-4F7B-BE7D-948D3AE4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4CF3-9C84-4FF2-8A95-F7E38F4C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0CFE-0699-4156-A3AC-076C1E9A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3FDE-CABF-4ACE-878C-E08F3B6F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3F7-ED18-4216-B7C5-1D0CC573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D701-210F-4E2F-A630-B8720827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300B-795B-41BE-813B-4C9F2068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3119-D08B-4BE2-92AF-0598AA9E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21B-9779-4E5C-8FDD-F84E47A3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B919-6A6E-4E90-A998-3589B8EE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30D-3A19-4B2C-B77B-7EDB38C7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9FC-84F8-4D99-A4A0-A8AF999F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A2B-48FB-4EA2-ACE8-1873860E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A20-AD81-49D2-B179-52B044FC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6E5-A7C2-46F1-B532-D02F0B3C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17E-E26B-4F82-90EE-63431432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F1D-83F4-4675-A7E7-1929F484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9543-2777-4363-8F46-6FD7CE4AE6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FF16-302D-469C-B17A-F1E3D400FF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оломеев Дмитрий Сергееви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2149560"/>
            <a:ext cx="3201840" cy="4708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04000" y="620640"/>
            <a:ext cx="2340000" cy="2303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03640" y="4843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В городе Хабаровск Хабаровского края и городе Россошь Воронежской области названы улицы имени Дмитрия Сергеевича Фоломеева – танкиста 106-й танковой бригад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старшего лейтенанта, Героя Советского Союза.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19640" y="141120"/>
            <a:ext cx="392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.С. Фоломеев родился 18 сентября 191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а в д. Ивановке Рязанской области. И сейчас там сохранился его дом. На нём табличка, свидетельствующая о том, что это дом героя Фоломеева. В этом доме живут родственники героя. Фоломеев участвовал в ожесточенных боях на западном фронте в составе 1-й гвардейской танковой бриг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августа 1942 года участвовал в боях на Степном и Воронежском фронтах. 14 января 1943 года экипаж Фоломеева при захвате совхоза "Красный Молот" застрял в овраге, отстав от колонны 106-й танковой брига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й Звезды Героя Советского Союза был удостоен Дмитрий Сергеевич Фоломеев за заслуги в Острогожско-Россошанской оп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119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 Литвинов Вячеслав 7 «Б» к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2:18:52Z</dcterms:created>
  <dc:creator>Admin</dc:creator>
  <dc:description/>
  <dc:language>en-US</dc:language>
  <cp:lastModifiedBy>Надя</cp:lastModifiedBy>
  <dcterms:modified xsi:type="dcterms:W3CDTF">2015-03-16T05:38:43Z</dcterms:modified>
  <cp:revision>8</cp:revision>
  <dc:subject/>
  <dc:title>Слайд 1</dc:title>
</cp:coreProperties>
</file>