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E15-118E-4413-94FC-3B8322EC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608-898D-4600-974A-80200E3C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E12-264A-4E8E-ACC4-7A01D838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731-652D-4C93-B3F0-FB4540D6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2976-4695-4F0A-BC1A-E9552D7F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60DB-755E-463F-ABB6-3C30F2ED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D73A-C82F-4B34-9A61-B1FFC078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24D8-7156-4AE0-A412-9649A419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844C-043D-4F8F-9764-0C810610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3E51-F76E-4516-BB87-ED556F1F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55CC-9811-4A64-9EF2-5CBFE22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C6F-A7A0-43E3-81C2-18E96562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AC92-20C4-490D-BBA2-65A3D58D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BF45-11FA-419F-BF19-6C62DB94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A51F-4CCF-4CBB-AFFA-16BF3F98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75ED-F88A-464F-947D-99654037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D669-58BF-4A4C-8AC6-B42D44A9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C0D-70EB-4771-A440-2468F62D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531-D31C-42CB-83F8-13FAAF5C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798-3583-4CBB-B966-FBE95EDB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113-0B15-46E8-8D07-FF850639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866-29A2-4DB9-874D-A8234292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45F-31E0-4425-8FC2-DC54E88C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3BB-2CAE-4C5A-B9DE-46B378DA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529-012A-447B-8E90-D745B8871C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3578-006C-4A4C-8C64-6B44D1947A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596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Геометрический турнир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 Эта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Мозгол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сякий зн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же лучш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я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задачку прочит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м же думать и реш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роще сложног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Разными способами разрезать прямоугольник на равные ча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4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морочки из боч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расшифровать полученную телефонограмм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5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636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Каждой руке – свое дел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попробуйте построить чертеж фигуры сразу обеими рука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6 Этап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эзия в геометр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«Вдохновение нужно в геометрии не меньше, чем  в поэзии.»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А.С.Пушкин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498920" cy="450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7 Эта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мнастика 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проверим ваши способности видеть невидим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b2b2b2"/>
                </a:solidFill>
                <a:uFillTx/>
                <a:latin typeface="Arial"/>
              </a:rPr>
              <a:t>Желаем успехов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Я подарить хочу вам свой секр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н будет  вас хранить от всяких бе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могут в геометрии достичь уме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мекалка, дружба и терпень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еометрия- это наука о свойствах геометрических фигур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сновными понятиями в геометрии являются точка , прямая, плоскост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736640"/>
            <a:ext cx="8353440" cy="512136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 помощью этих понятий мы можем построить любую фигур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249640"/>
            <a:ext cx="4930920" cy="460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959280" cy="288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5292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сновной теоремой в геометрии является теорема Пифагор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вадрат гипотенузы равен сумме квадратов кат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икатура"/>
          <p:cNvPicPr/>
          <p:nvPr/>
        </p:nvPicPr>
        <p:blipFill>
          <a:blip r:embed="rId1"/>
          <a:stretch/>
        </p:blipFill>
        <p:spPr>
          <a:xfrm>
            <a:off x="7667640" y="189000"/>
            <a:ext cx="1773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ифагор Самосский- древнегреческий математ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л в 6 веке до нашей эры. Пифагор – это не имя, а прозвище, которое он получил за то, что всегда говорил верно и убедительно. (Пифагор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 убеждающий речью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wheel spokes="1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Чертёж для доказательства №1"/>
          <p:cNvPicPr/>
          <p:nvPr/>
        </p:nvPicPr>
        <p:blipFill>
          <a:blip r:embed="rId1"/>
          <a:stretch/>
        </p:blipFill>
        <p:spPr>
          <a:xfrm>
            <a:off x="1908000" y="692280"/>
            <a:ext cx="532944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Этапы турнир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Этап «Геометрическое ралл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Вам предстоит совершить скоростной пробег по геометрическим понятия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8:44:24Z</dcterms:created>
  <dc:creator>User</dc:creator>
  <dc:description/>
  <dc:language>en-US</dc:language>
  <cp:lastModifiedBy>НПО</cp:lastModifiedBy>
  <dcterms:modified xsi:type="dcterms:W3CDTF">2008-12-17T13:22:49Z</dcterms:modified>
  <cp:revision>7</cp:revision>
  <dc:subject/>
  <dc:title>Геометрический турнир</dc:title>
</cp:coreProperties>
</file>