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E0C-D572-4A0A-9DC7-D7A5D658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9A2-3B4E-47EF-B9BD-A1A55153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0FE-9BF9-4EE6-ADB7-447A1762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355-83EC-49D5-B249-C89F8D86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7C91-908C-4948-821E-AEAAB398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D903-0CCA-4C3E-8CA2-341B4EB7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E8CE-9F5A-4E51-B064-0B514C4D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CD90-ED3E-4DA9-8827-C2A1F56D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F109-E99D-4171-9BD7-68A117A6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B4FC-DF93-4262-8DBC-66B44E9D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03B1-AF25-4D00-84E6-427E2210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941-934A-4AEA-966F-5F2EFA25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DBCD-1343-434E-8074-DA632823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CBE8-870B-40D0-8447-FA5E1562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04BA-4119-495E-BAAF-20F6336E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6946-5F80-49FC-97D5-C9BEE947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34C5-E745-4F93-9DA4-024F9938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2D5-3BAD-4FB7-8488-64EDA704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184-8AB8-49F7-A74D-23BC1574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A16-C8E5-400B-A9E5-38BFFF42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0E9-04C9-4A42-B6A0-AF40DEB2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19C-363E-4FC9-82CE-6A5BFD4A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3C3-16E8-4C1C-A9EE-12677A04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E18-DCA1-4179-B86B-AC3FBF17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9B18-98A3-4768-80E1-557C2FE8F3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0E77-EABA-4BE3-BDE3-5D93BC2F4B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596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Геометрический турнир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 Этап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Мозголо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сякий зн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же лучш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числя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задачку прочит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м же думать и реш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3000"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 этап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роще сложног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Разными способами разрезать прямоугольник на равные част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4 Этап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аморочки из боч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 расшифровать полученную телефонограмм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5 Этап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76364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Каждой руке – свое дел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попробуйте построить чертеж фигуры сразу обеими рука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6 Этап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оэзия в геометр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«Вдохновение нужно в геометрии не меньше, чем  в поэзии.»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А.С.Пушкин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4498920" cy="4508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7 Этап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320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имнастика 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проверим ваши способности видеть невидим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b2b2b2"/>
                </a:solidFill>
                <a:uFillTx/>
                <a:latin typeface="Arial"/>
              </a:rPr>
              <a:t>Желаем успехов!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Я подарить хочу вам свой секр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н будет  вас хранить от всяких бе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могут в геометрии достичь уме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мекалка, дружба и терпень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еометрия- это наука о свойствах геометрических фигур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ransition advTm="9000">
    <p:pull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сновными понятиями в геометрии являются точка , прямая, плоскост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736640"/>
            <a:ext cx="8353440" cy="512136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 помощью этих понятий мы можем построить любую фигур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2249640"/>
            <a:ext cx="4930920" cy="460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3959280" cy="2886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92720" y="1844640"/>
            <a:ext cx="529272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сновной теоремой в геометрии является теорема Пифагора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вадрат гипотенузы равен сумме квадратов кате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Карикатура"/>
          <p:cNvPicPr/>
          <p:nvPr/>
        </p:nvPicPr>
        <p:blipFill>
          <a:blip r:embed="rId1"/>
          <a:stretch/>
        </p:blipFill>
        <p:spPr>
          <a:xfrm>
            <a:off x="7667640" y="189000"/>
            <a:ext cx="17733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ифагор Самосский- древнегреческий математи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л в 6 веке до нашей эры. Пифагор – это не имя, а прозвище, которое он получил за то, что всегда говорил верно и убедительно. (Пифагор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 убеждающий речью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wheel spokes="1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Чертёж для доказательства №1"/>
          <p:cNvPicPr/>
          <p:nvPr/>
        </p:nvPicPr>
        <p:blipFill>
          <a:blip r:embed="rId1"/>
          <a:stretch/>
        </p:blipFill>
        <p:spPr>
          <a:xfrm>
            <a:off x="1908000" y="692280"/>
            <a:ext cx="532944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Этапы турнир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Этап «Геометрическое ралл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Вам предстоит совершить скоростной пробег по геометрическим понятия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8:44:24Z</dcterms:created>
  <dc:creator>User</dc:creator>
  <dc:description/>
  <dc:language>en-US</dc:language>
  <cp:lastModifiedBy>НПО</cp:lastModifiedBy>
  <dcterms:modified xsi:type="dcterms:W3CDTF">2008-12-17T13:22:49Z</dcterms:modified>
  <cp:revision>7</cp:revision>
  <dc:subject/>
  <dc:title>Геометрический турнир</dc:title>
</cp:coreProperties>
</file>