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9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7.jpeg" ContentType="image/jpeg"/>
  <Override PartName="/ppt/media/image1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79C-A0D3-4926-B24B-E79A41FC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2FDF-1549-44BA-A0BE-64C8BFE5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8B4-74AE-4A21-8342-C9A839CC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728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27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21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728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27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98B-6B01-417C-984A-CE3E2C87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B869-F538-43ED-A290-DC96360C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CDA9-4119-4F83-9C60-B9397A4F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7ECB-10D5-4342-85DC-23FA8B91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63F3-DE42-4D3E-9A80-DFAE2289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5A78-E209-41D8-8F92-516DCF4D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22160" y="1820880"/>
            <a:ext cx="7764480" cy="84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603B-D017-4E1F-930F-1BE7575A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5B63-0EAB-4681-A080-2CFF1973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2D6-07DD-4E07-B061-B4B2815E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F9C7-FF4B-49F3-ACCC-13A1610A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0FEE-1F29-4618-AB19-F6D03B3C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F783-BDB7-4036-8C14-0BA18C48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A494-B6FE-437D-9233-E3C65073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728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27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221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728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27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BEA4-FF2A-43B2-96C1-97FEF22A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35048-CE61-417C-A3E1-5C8D65F7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2FF9A-C7CF-44B4-BBBB-C02B331A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12D4B-7B8C-4004-8598-3EC3635F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68281-81C1-47F3-93BA-C237CA15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59645-947C-4601-9260-AEF37CC6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D66-FEE6-4C11-9FE9-B67B781A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22160" y="1820880"/>
            <a:ext cx="7764480" cy="84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32D68-0802-4A0A-BF85-1D34A070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F5054-812E-418B-979F-2D0CEC17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96AED-0B8C-4A39-A029-BEB9A78D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967D-4DA1-416B-BECC-7A7E601C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B9570-2FE0-435E-9F02-591B6760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751F9-D900-41CE-9900-19977D39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4728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27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221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4728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27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E4FBF-FE71-427A-A456-FA38BE67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C2A6C-D073-45E3-AF20-1A3AFC2B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759DE-A36D-48A7-9A8A-9F8F63E8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B492D-A899-4ECA-B0E5-B7A41088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90C-A5A3-451C-9F50-5B0A6A79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CFB29-242F-4DAA-B31B-712CE9DF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D8DB2-8EA4-4F6A-BE26-1C64D050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22160" y="1820880"/>
            <a:ext cx="7764480" cy="84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B66A-448C-4A5D-B0C8-7F17390A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6CAA6-5E8B-4B6D-8F27-C53D35FD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2BB70-50CE-4C78-9807-BD415D81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D95AC-E5FE-42C9-AFDE-688A92F5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02E67-B5B3-4BDB-9CBD-7FA55B60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A6D57-2A24-4DF4-97A2-227CA0FD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4728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727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221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4728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727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FBA11-1616-4480-A311-AB3819A0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12799-9FEE-461B-A2F4-8547A3D1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193-BD36-40A9-B622-53BE5578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9D98F-B92F-4947-996E-06A95599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76049-5019-4BC5-BDD2-85EC9EE1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56939-75E0-45EC-99F6-E660E022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720CD-CFBC-4650-9E67-94F11B12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22160" y="1820880"/>
            <a:ext cx="7764480" cy="84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0473F-429A-4CC3-8ED5-32756B1C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66B4A-59D1-4C7D-9DA6-BBACAEF5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C23A1-0BDB-4460-B1A3-D904815A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0D596-1AEE-44D5-805F-7A675B60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5B330-CF8A-463D-9931-D32DD424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00189-A4FC-4006-B2FE-CE3478EF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2160" y="1820880"/>
            <a:ext cx="7764480" cy="84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EA1-681D-4A38-814E-0C1251BC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4728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727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221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4728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727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09C3A-DA63-4035-91DE-E118FE3B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4AB-8D77-4700-AFD6-B498C2D2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E04-7804-4D54-8E22-4EE86AAD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30C-42DD-465C-9368-1AFF9F9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9040" y="433440"/>
            <a:ext cx="8305920" cy="310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9000"/>
          </a:bodyPr>
          <a:p>
            <a:pPr marL="6516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160" indent="-651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65160" indent="-651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65160" indent="-651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65160" indent="-651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65160" indent="-651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65160" indent="-651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78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6.5.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78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492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A57B8-1835-4808-9287-28AB9CEED6B6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fld id="{4457788C-9A1E-4B34-BF22-17A465F3AB6A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78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6.5.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760" y="6111720"/>
            <a:ext cx="227808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492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7D36B0-E48A-4007-A42F-C3E9893D2952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fld id="{161D3DE8-D276-42FD-B752-6499C6E51319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14080" y="529920"/>
            <a:ext cx="3924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4754520" y="530280"/>
            <a:ext cx="39322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5520" indent="-3207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Втор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826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Трети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10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Четвер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10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Пя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10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Шест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10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Сед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10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Вос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02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102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Font typeface="Verdana"/>
              <a:buChar char="◦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Arial"/>
              </a:rPr>
              <a:t>Второй уров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102000"/>
              </a:lnSpc>
              <a:spcAft>
                <a:spcPts val="1137"/>
              </a:spcAft>
              <a:buClr>
                <a:srgbClr val="f07f09"/>
              </a:buClr>
              <a:buFont typeface="Verdana"/>
              <a:buChar char="◦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82600">
              <a:lnSpc>
                <a:spcPct val="102000"/>
              </a:lnSpc>
              <a:spcAft>
                <a:spcPts val="850"/>
              </a:spcAft>
              <a:buClr>
                <a:srgbClr val="ea3a45"/>
              </a:buClr>
              <a:buFont typeface="Wingdings 2" charset="2"/>
              <a:buChar char="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102000"/>
              </a:lnSpc>
              <a:spcAft>
                <a:spcPts val="575"/>
              </a:spcAft>
              <a:buClr>
                <a:srgbClr val="ea3a45"/>
              </a:buClr>
              <a:buSzPct val="112000"/>
              <a:buFont typeface="Verdana"/>
              <a:buChar char="◦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78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6.5.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760" y="6111720"/>
            <a:ext cx="227808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492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163442-A94E-47EA-81FA-6F1F80A20772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fld id="{0C8616BE-59A1-4499-A018-DBEB1374A158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78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6.5.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11"/>
          </p:nvPr>
        </p:nvSpPr>
        <p:spPr>
          <a:xfrm>
            <a:off x="6062760" y="6111720"/>
            <a:ext cx="227808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492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DAD1C4-5BFE-48A0-B0D7-B4BAF6A0B17A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fld id="{18480A95-2367-4DD9-9468-BC49B68CD225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78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6.5.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4"/>
          </p:nvPr>
        </p:nvSpPr>
        <p:spPr>
          <a:xfrm>
            <a:off x="6062760" y="6111720"/>
            <a:ext cx="227808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492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B08F4A-1CCB-476D-ACCC-169CA7D672CA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fld id="{CFE54D03-C120-430D-84D3-13F9345FA29E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2637000"/>
            <a:ext cx="8785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50151b"/>
                </a:solidFill>
                <a:latin typeface="Times New Roman"/>
              </a:rPr>
              <a:t>«КРЫМ  НАШ»</a:t>
            </a:r>
            <a:br>
              <a:rPr sz="4900"/>
            </a:br>
            <a:br>
              <a:rPr sz="4500"/>
            </a:br>
            <a:r>
              <a:rPr b="1" i="1" lang="ru-RU" sz="4000" spc="-1" strike="noStrike">
                <a:solidFill>
                  <a:srgbClr val="0e2c3e"/>
                </a:solidFill>
                <a:latin typeface="Times New Roman"/>
              </a:rPr>
              <a:t>межпредметный урок по географии и</a:t>
            </a:r>
            <a:br>
              <a:rPr sz="4000"/>
            </a:br>
            <a:r>
              <a:rPr b="1" i="1" lang="ru-RU" sz="4000" spc="-1" strike="noStrike">
                <a:solidFill>
                  <a:srgbClr val="0e2c3e"/>
                </a:solidFill>
                <a:latin typeface="Times New Roman"/>
              </a:rPr>
              <a:t> биологии </a:t>
            </a:r>
            <a:br>
              <a:rPr sz="45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4292280"/>
            <a:ext cx="84960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7240" bIns="45000" anchor="t">
            <a:normAutofit/>
          </a:bodyPr>
          <a:p>
            <a:pPr marL="343080"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4425d"/>
                </a:solidFill>
                <a:latin typeface="Times New Roman"/>
              </a:rPr>
              <a:t>                                                                </a:t>
            </a:r>
            <a:r>
              <a:rPr b="1" i="1" lang="ru-RU" sz="2400" spc="-1" strike="noStrike">
                <a:solidFill>
                  <a:srgbClr val="274321"/>
                </a:solidFill>
                <a:latin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74321"/>
                </a:solidFill>
                <a:latin typeface="Times New Roman"/>
              </a:rPr>
              <a:t>                                                      </a:t>
            </a:r>
            <a:r>
              <a:rPr b="1" i="1" lang="ru-RU" sz="2400" spc="-1" strike="noStrike">
                <a:solidFill>
                  <a:srgbClr val="274321"/>
                </a:solidFill>
                <a:latin typeface="Times New Roman"/>
              </a:rPr>
              <a:t>Богатов А.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74321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2400" spc="-1" strike="noStrike">
                <a:solidFill>
                  <a:srgbClr val="274321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74321"/>
                </a:solidFill>
                <a:latin typeface="Times New Roman"/>
              </a:rPr>
              <a:t>                                                   </a:t>
            </a:r>
            <a:r>
              <a:rPr b="1" i="1" lang="ru-RU" sz="2400" spc="-1" strike="noStrike">
                <a:solidFill>
                  <a:srgbClr val="274321"/>
                </a:solidFill>
                <a:latin typeface="Times New Roman"/>
              </a:rPr>
              <a:t>Авезова О.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71680" y="37148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56760" y="3285720"/>
            <a:ext cx="857268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9257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нерин башмачок               игл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391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160" bIns="45000" anchor="t">
            <a:normAutofit/>
          </a:bodyPr>
          <a:p>
            <a:pPr marL="343080"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0151b"/>
                </a:solidFill>
                <a:latin typeface="Times New Roman"/>
              </a:rPr>
              <a:t>Реликты Кры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86080" y="1071720"/>
            <a:ext cx="2592360" cy="2376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357960" y="1000080"/>
            <a:ext cx="1992240" cy="2428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500040" y="3929040"/>
            <a:ext cx="2519280" cy="2303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3429000" y="4000680"/>
            <a:ext cx="2467080" cy="2286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57120" y="3500280"/>
            <a:ext cx="8429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жевельник               земляничник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428760"/>
            <a:ext cx="829152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0151b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50151b"/>
                </a:solidFill>
                <a:latin typeface="Times New Roman"/>
              </a:rPr>
              <a:t>Животные Кры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160360" cy="2230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3000240" y="1143000"/>
            <a:ext cx="2619360" cy="2303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929200" y="1214280"/>
            <a:ext cx="2448000" cy="2214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468360" y="407664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3060720" y="4076640"/>
            <a:ext cx="2619360" cy="223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6000840" y="4000680"/>
            <a:ext cx="2394000" cy="2286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85840" y="3086280"/>
            <a:ext cx="850104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b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менный  краб           павлиноглазка      леопардовый  полоз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5840" y="6294960"/>
            <a:ext cx="86439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b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5840" y="6366240"/>
            <a:ext cx="85010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b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тон                    журавль-краска        енотовидная со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6760" y="785880"/>
            <a:ext cx="84963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0151b"/>
                </a:solidFill>
                <a:latin typeface="Times New Roman"/>
              </a:rPr>
              <a:t>План изучения туристической привлекательности Крым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24720" cy="57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just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1.Чем Крым может быть привлекательным для турис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5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2.Известные крымские курорт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5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Севастополь, Симферополь, Ялта, Евпатория, Феодосия, Керч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5694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768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50151b"/>
                </a:solidFill>
                <a:latin typeface="Times New Roman"/>
              </a:rPr>
              <a:t>Туристическая привлекательность Крыма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1628640"/>
            <a:ext cx="84247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1. Санаторно-оздоровительный отд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2. Морской отд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3.Природные заповедн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4. Памятники архитек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5. Горнолыжные курор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6. Музыкальные и танцевальные фестива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7. Музеи и выста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286160" y="4572000"/>
            <a:ext cx="2279880" cy="1709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643800" y="4572000"/>
            <a:ext cx="207144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2643120" cy="2143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214800" y="571680"/>
            <a:ext cx="2571480" cy="2143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2436840"/>
            <a:ext cx="3643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b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0151b"/>
                </a:solidFill>
                <a:latin typeface="Times New Roman"/>
              </a:rPr>
              <a:t>Севастоп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86040" y="2436840"/>
            <a:ext cx="3643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b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0151b"/>
                </a:solidFill>
                <a:latin typeface="Times New Roman"/>
              </a:rPr>
              <a:t>Симфероп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857920" y="571680"/>
            <a:ext cx="2643120" cy="2143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643720" y="2436840"/>
            <a:ext cx="3643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b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0151b"/>
                </a:solidFill>
                <a:latin typeface="Times New Roman"/>
              </a:rPr>
              <a:t>Ял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28760" y="3214800"/>
            <a:ext cx="271440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-142920" y="5006880"/>
            <a:ext cx="3643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b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0151b"/>
                </a:solidFill>
                <a:latin typeface="Times New Roman"/>
              </a:rPr>
              <a:t>Евп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3214800" y="3214800"/>
            <a:ext cx="2571480" cy="2000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714760" y="5006880"/>
            <a:ext cx="3643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b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0151b"/>
                </a:solidFill>
                <a:latin typeface="Times New Roman"/>
              </a:rPr>
              <a:t>Феодо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5857920" y="321480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5500800" y="5006880"/>
            <a:ext cx="3643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b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0151b"/>
                </a:solidFill>
                <a:latin typeface="Times New Roman"/>
              </a:rPr>
              <a:t>Кер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16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0151b"/>
                </a:solidFill>
                <a:latin typeface="Times New Roman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22160" y="1428480"/>
            <a:ext cx="7772400" cy="11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0243c"/>
                </a:solidFill>
                <a:latin typeface="Times New Roman"/>
              </a:rPr>
              <a:t>1. Республика Крым и город Севастополь вошли в состав Российской Федерации ……………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0243c"/>
                </a:solidFill>
                <a:latin typeface="Times New Roman"/>
              </a:rPr>
              <a:t>2. Крымский полуостров омывается водами двух морей: ……………….. и ……………………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0243c"/>
                </a:solidFill>
                <a:latin typeface="Times New Roman"/>
              </a:rPr>
              <a:t>3. Большую часть территории полуострова занимает природная зона …………………………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0243c"/>
                </a:solidFill>
                <a:latin typeface="Times New Roman"/>
              </a:rPr>
              <a:t>4. Животные и растения, которые встречаются только на определенной ограниченной территории, называются …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0243c"/>
                </a:solidFill>
                <a:latin typeface="Times New Roman"/>
              </a:rPr>
              <a:t>5. К реликтовым растениям Крыма относятся ……………………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0243c"/>
                </a:solidFill>
                <a:latin typeface="Times New Roman"/>
              </a:rPr>
              <a:t>6. Крупнейшие туристические центры Крымского полуостров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0243c"/>
                </a:solidFill>
                <a:latin typeface="Times New Roman"/>
              </a:rPr>
              <a:t>…………………………………………………………………………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16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0151b"/>
                </a:solidFill>
                <a:latin typeface="Times New Roman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2160" y="1428480"/>
            <a:ext cx="7772400" cy="69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0243c"/>
                </a:solidFill>
                <a:latin typeface="Times New Roman"/>
              </a:rPr>
              <a:t>1. Республика Крым и город Севастополь вошли в состав Российской Федерации </a:t>
            </a:r>
            <a:r>
              <a:rPr b="1" lang="ru-RU" sz="1800" spc="-1" strike="noStrike">
                <a:solidFill>
                  <a:srgbClr val="30243c"/>
                </a:solidFill>
                <a:latin typeface="Times New Roman"/>
              </a:rPr>
              <a:t>18 марта 2014 г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0243c"/>
                </a:solidFill>
                <a:latin typeface="Times New Roman"/>
              </a:rPr>
              <a:t>2. Крымский полуостров омывается водами двух морей: </a:t>
            </a:r>
            <a:r>
              <a:rPr b="1" lang="ru-RU" sz="1800" spc="-1" strike="noStrike">
                <a:solidFill>
                  <a:srgbClr val="30243c"/>
                </a:solidFill>
                <a:latin typeface="Times New Roman"/>
              </a:rPr>
              <a:t>Черного и Азовско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0243c"/>
                </a:solidFill>
                <a:latin typeface="Times New Roman"/>
              </a:rPr>
              <a:t>3. Большую часть территории полуострова занимает природная зона </a:t>
            </a:r>
            <a:r>
              <a:rPr b="1" lang="ru-RU" sz="1800" spc="-1" strike="noStrike">
                <a:solidFill>
                  <a:srgbClr val="30243c"/>
                </a:solidFill>
                <a:latin typeface="Times New Roman"/>
              </a:rPr>
              <a:t>лесостепей и степ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0243c"/>
                </a:solidFill>
                <a:latin typeface="Times New Roman"/>
              </a:rPr>
              <a:t>4. Животные и растения, которые встречаются только на определенной ограниченной территории, называются </a:t>
            </a:r>
            <a:r>
              <a:rPr b="1" lang="ru-RU" sz="1800" spc="-1" strike="noStrike">
                <a:solidFill>
                  <a:srgbClr val="30243c"/>
                </a:solidFill>
                <a:latin typeface="Times New Roman"/>
              </a:rPr>
              <a:t>эндеми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0243c"/>
                </a:solidFill>
                <a:latin typeface="Times New Roman"/>
              </a:rPr>
              <a:t>5. К реликтовым растениям Крыма относятся </a:t>
            </a:r>
            <a:r>
              <a:rPr b="1" lang="ru-RU" sz="1800" spc="-1" strike="noStrike">
                <a:solidFill>
                  <a:srgbClr val="30243c"/>
                </a:solidFill>
                <a:latin typeface="Times New Roman"/>
              </a:rPr>
              <a:t>можжевельник, земляничник, подснежник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0243c"/>
                </a:solidFill>
                <a:latin typeface="Times New Roman"/>
              </a:rPr>
              <a:t>6. Крупнейшие туристические центры Крымского полуостров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0243c"/>
                </a:solidFill>
                <a:latin typeface="Times New Roman"/>
              </a:rPr>
              <a:t>Севастополь, Ялта, Керчь, Феодосия, Симферополь, Евпатор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6435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5000" anchor="t">
            <a:noAutofit/>
          </a:bodyPr>
          <a:p>
            <a:pPr indent="0" algn="just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0243c"/>
                </a:solidFill>
                <a:latin typeface="Times New Roman"/>
              </a:rPr>
              <a:t>Крым неповторим и уникален. В нем есть то, что может сделать человека счастливым. И для этого не нужно иметь ни загранпаспорта, ни визы, ни многочасового перелета на край света. Нужно просто его видеть, знать и любить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285920" y="4214880"/>
            <a:ext cx="3163680" cy="2109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643280" y="4214880"/>
            <a:ext cx="31435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28400" y="428400"/>
            <a:ext cx="3786120" cy="10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8 марта 2014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года был подписан договор о вхождении Автономной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еспублики Кры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города федерального значени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евастопол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в состав Российской Федерации на правах субъектов Российской Федерации. Таким образом, административно-территориальное деление России теперь включает в себ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85 равноправных субъект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92060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429080" y="3429000"/>
            <a:ext cx="4359240" cy="2786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429080" y="549360"/>
            <a:ext cx="4438800" cy="27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0151b"/>
                </a:solidFill>
                <a:latin typeface="Times New Roman"/>
              </a:rPr>
              <a:t>План изучения истории Крым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917360"/>
            <a:ext cx="835344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1.Крымское хан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2.Крым в составе Российской имп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3.Крым в составе Украи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4.Современный Кр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73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50151b"/>
                </a:solidFill>
                <a:latin typeface="Times New Roman"/>
              </a:rPr>
              <a:t>История  Крым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67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482400" indent="-4478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87440"/>
                <a:tab algn="l" pos="592200"/>
                <a:tab algn="l" pos="1041480"/>
                <a:tab algn="l" pos="1490760"/>
                <a:tab algn="l" pos="1940040"/>
                <a:tab algn="l" pos="2389320"/>
                <a:tab algn="l" pos="2838600"/>
                <a:tab algn="l" pos="3287880"/>
                <a:tab algn="l" pos="3736800"/>
                <a:tab algn="l" pos="4186080"/>
                <a:tab algn="l" pos="4635360"/>
                <a:tab algn="l" pos="5084640"/>
                <a:tab algn="l" pos="5533920"/>
                <a:tab algn="l" pos="5983200"/>
                <a:tab algn="l" pos="6432480"/>
                <a:tab algn="l" pos="6881760"/>
                <a:tab algn="l" pos="7331040"/>
                <a:tab algn="l" pos="7780320"/>
                <a:tab algn="l" pos="8229600"/>
                <a:tab algn="l" pos="8678880"/>
                <a:tab algn="l" pos="912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478 году Крымское ханство стало частью Османской импер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2400" indent="-447840">
              <a:lnSpc>
                <a:spcPct val="1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87440"/>
                <a:tab algn="l" pos="592200"/>
                <a:tab algn="l" pos="1041480"/>
                <a:tab algn="l" pos="1490760"/>
                <a:tab algn="l" pos="1940040"/>
                <a:tab algn="l" pos="2389320"/>
                <a:tab algn="l" pos="2838600"/>
                <a:tab algn="l" pos="3287880"/>
                <a:tab algn="l" pos="3736800"/>
                <a:tab algn="l" pos="4186080"/>
                <a:tab algn="l" pos="4635360"/>
                <a:tab algn="l" pos="5084640"/>
                <a:tab algn="l" pos="5533920"/>
                <a:tab algn="l" pos="5983200"/>
                <a:tab algn="l" pos="6432480"/>
                <a:tab algn="l" pos="6881760"/>
                <a:tab algn="l" pos="7331040"/>
                <a:tab algn="l" pos="7780320"/>
                <a:tab algn="l" pos="8229600"/>
                <a:tab algn="l" pos="8678880"/>
                <a:tab algn="l" pos="912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сско-турецкая война 1768—1774 годов, положила конец османскому господству и по мирному договору 1774 года османы отказались от претензий на Кры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2400" indent="-447840">
              <a:lnSpc>
                <a:spcPct val="1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87440"/>
                <a:tab algn="l" pos="592200"/>
                <a:tab algn="l" pos="1041480"/>
                <a:tab algn="l" pos="1490760"/>
                <a:tab algn="l" pos="1940040"/>
                <a:tab algn="l" pos="2389320"/>
                <a:tab algn="l" pos="2838600"/>
                <a:tab algn="l" pos="3287880"/>
                <a:tab algn="l" pos="3736800"/>
                <a:tab algn="l" pos="4186080"/>
                <a:tab algn="l" pos="4635360"/>
                <a:tab algn="l" pos="5084640"/>
                <a:tab algn="l" pos="5533920"/>
                <a:tab algn="l" pos="5983200"/>
                <a:tab algn="l" pos="6432480"/>
                <a:tab algn="l" pos="6881760"/>
                <a:tab algn="l" pos="7331040"/>
                <a:tab algn="l" pos="7780320"/>
                <a:tab algn="l" pos="8229600"/>
                <a:tab algn="l" pos="8678880"/>
                <a:tab algn="l" pos="912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7c797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 апреля 1783 год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катерина II издала манифест о принятии «полуострова Крымского», а также Кубанской стороны в состав Российской Импер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2400" indent="-447840">
              <a:lnSpc>
                <a:spcPct val="1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87440"/>
                <a:tab algn="l" pos="592200"/>
                <a:tab algn="l" pos="1041480"/>
                <a:tab algn="l" pos="1490760"/>
                <a:tab algn="l" pos="1940040"/>
                <a:tab algn="l" pos="2389320"/>
                <a:tab algn="l" pos="2838600"/>
                <a:tab algn="l" pos="3287880"/>
                <a:tab algn="l" pos="3736800"/>
                <a:tab algn="l" pos="4186080"/>
                <a:tab algn="l" pos="4635360"/>
                <a:tab algn="l" pos="5084640"/>
                <a:tab algn="l" pos="5533920"/>
                <a:tab algn="l" pos="5983200"/>
                <a:tab algn="l" pos="6432480"/>
                <a:tab algn="l" pos="6881760"/>
                <a:tab algn="l" pos="7331040"/>
                <a:tab algn="l" pos="7780320"/>
                <a:tab algn="l" pos="8229600"/>
                <a:tab algn="l" pos="8678880"/>
                <a:tab algn="l" pos="912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декабря 1991 года на Всеукраинском референдум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240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487440"/>
                <a:tab algn="l" pos="592200"/>
                <a:tab algn="l" pos="1041480"/>
                <a:tab algn="l" pos="1490760"/>
                <a:tab algn="l" pos="1940040"/>
                <a:tab algn="l" pos="2389320"/>
                <a:tab algn="l" pos="2838600"/>
                <a:tab algn="l" pos="3287880"/>
                <a:tab algn="l" pos="3736800"/>
                <a:tab algn="l" pos="4186080"/>
                <a:tab algn="l" pos="4635360"/>
                <a:tab algn="l" pos="5084640"/>
                <a:tab algn="l" pos="5533920"/>
                <a:tab algn="l" pos="5983200"/>
                <a:tab algn="l" pos="6432480"/>
                <a:tab algn="l" pos="6881760"/>
                <a:tab algn="l" pos="7331040"/>
                <a:tab algn="l" pos="7780320"/>
                <a:tab algn="l" pos="8229600"/>
                <a:tab algn="l" pos="8678880"/>
                <a:tab algn="l" pos="912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тели Крыма участвовали в голосовании о независ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240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487440"/>
                <a:tab algn="l" pos="592200"/>
                <a:tab algn="l" pos="1041480"/>
                <a:tab algn="l" pos="1490760"/>
                <a:tab algn="l" pos="1940040"/>
                <a:tab algn="l" pos="2389320"/>
                <a:tab algn="l" pos="2838600"/>
                <a:tab algn="l" pos="3287880"/>
                <a:tab algn="l" pos="3736800"/>
                <a:tab algn="l" pos="4186080"/>
                <a:tab algn="l" pos="4635360"/>
                <a:tab algn="l" pos="5084640"/>
                <a:tab algn="l" pos="5533920"/>
                <a:tab algn="l" pos="5983200"/>
                <a:tab algn="l" pos="6432480"/>
                <a:tab algn="l" pos="6881760"/>
                <a:tab algn="l" pos="7331040"/>
                <a:tab algn="l" pos="7780320"/>
                <a:tab algn="l" pos="8229600"/>
                <a:tab algn="l" pos="8678880"/>
                <a:tab algn="l" pos="912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ра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2400" indent="-447840">
              <a:lnSpc>
                <a:spcPct val="1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87440"/>
                <a:tab algn="l" pos="592200"/>
                <a:tab algn="l" pos="1041480"/>
                <a:tab algn="l" pos="1490760"/>
                <a:tab algn="l" pos="1940040"/>
                <a:tab algn="l" pos="2389320"/>
                <a:tab algn="l" pos="2838600"/>
                <a:tab algn="l" pos="3287880"/>
                <a:tab algn="l" pos="3736800"/>
                <a:tab algn="l" pos="4186080"/>
                <a:tab algn="l" pos="4635360"/>
                <a:tab algn="l" pos="5084640"/>
                <a:tab algn="l" pos="5533920"/>
                <a:tab algn="l" pos="5983200"/>
                <a:tab algn="l" pos="6432480"/>
                <a:tab algn="l" pos="6881760"/>
                <a:tab algn="l" pos="7331040"/>
                <a:tab algn="l" pos="7780320"/>
                <a:tab algn="l" pos="8229600"/>
                <a:tab algn="l" pos="8678880"/>
                <a:tab algn="l" pos="912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 марта 2014 года подписан межгосударственный Договор между Российской Федерацией и Республикой Крым о принятии в состав РФ Кры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50151b"/>
                </a:solidFill>
                <a:latin typeface="Times New Roman"/>
              </a:rPr>
              <a:t>История  Крым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55640" y="1339920"/>
            <a:ext cx="3240000" cy="2663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348000" y="4076640"/>
            <a:ext cx="330048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24000" y="-346680"/>
            <a:ext cx="849600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320" bIns="45000" anchor="b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50151b"/>
                </a:solidFill>
                <a:latin typeface="Times New Roman"/>
              </a:rPr>
              <a:t>План изучения географического положения Кры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7120" y="1214280"/>
            <a:ext cx="607212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spAutoFit/>
          </a:bodyPr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акой части страны располож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ение по отношению к соседним стран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ение по отношению к океанам, морям, залив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 полуостро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родные  зоны Кры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ьеф полуостро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ение по отношению к месторождениям природн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ение по отношению к транспортным пу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857920" y="4429080"/>
            <a:ext cx="27226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4000" y="333720"/>
            <a:ext cx="849600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0" bIns="45000" anchor="b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0151b"/>
                </a:solidFill>
                <a:latin typeface="Times New Roman"/>
              </a:rPr>
              <a:t>Географическое положение Кры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7120" y="981000"/>
            <a:ext cx="80726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920" bIns="45000" anchor="t">
            <a:noAutofit/>
          </a:bodyPr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уостров в северной части Черного моря, окраинная юго-западная республика в составе Ро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севера граничит с Украиной, имеет морские границы с Турцией, Болгарией, Румынией, Молдавией, Грузией, Абхази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лубоко выдаётся в Чёрное море, которым омывается с юга и запада, с востока омывается Азовским мор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имат северной части умеренно-континентальный, на южном берегу — с чертами похожими на субтропический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родные  зоны Крыма: лесостепи, степи; в горах – области высотной пояс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характеру рельефа полуостров делится на три неравные части: Северо-Крымская равнина с Тарханкутской возвышенностью (около 70 % территории), грядово-холмистые равнины Керченского полуострова с проявлением грязевого вулканизма и горный Крым, простирающийся тремя грядами — Главной (южной), Внутренней и Внешней (северной), разделёнными продольными равнин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лежи полезных ископаемых: нефти, природного газа, минеральных солей, строительного сырья, горючего газа, термальных вод, железной ру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жение по отношению к транспортным путям: имеется международный аэропорт Симферополь. Портами Чёрного моря являются Евпатория, Севастополь, Ялта, Феодосия и Керчь. В Керчи находится паромная переправа через Керченский пролив, связывающая Крым с Краснодарским краем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16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0151b"/>
                </a:solidFill>
                <a:latin typeface="Times New Roman"/>
              </a:rPr>
              <a:t>План изучения природных особенносте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424720" cy="63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1.Эндемики среди растений Кры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2.Реликтовые виды раст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3.Разнообразие  животных Кры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4.Животный мир Азовского и Черного мор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1800" y="785880"/>
            <a:ext cx="745020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50151b"/>
                </a:solidFill>
                <a:latin typeface="Times New Roman"/>
              </a:rPr>
              <a:t>Эндемики Крым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5840" y="3357720"/>
            <a:ext cx="850104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7240" bIns="45000" anchor="t">
            <a:normAutofit/>
          </a:bodyPr>
          <a:p>
            <a:pPr marL="343080"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агал               крымский эдельвей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14800" y="1000080"/>
            <a:ext cx="2533680" cy="2232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072120" y="1000080"/>
            <a:ext cx="2476440" cy="22082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286080" y="378612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85840" y="3286080"/>
            <a:ext cx="82152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0040" y="6286680"/>
            <a:ext cx="7939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5840" y="6199200"/>
            <a:ext cx="82152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ен Стевена                     чаб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5929200" y="3857760"/>
            <a:ext cx="272412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