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29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27.jpeg" ContentType="image/jpeg"/>
  <Override PartName="/ppt/media/image10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D3D3-FB60-46E4-93A5-1672E3EB3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776448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22160" y="4158360"/>
            <a:ext cx="776448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C779-CA98-4B7D-9892-8673DBF5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088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22160" y="415836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0880" y="415836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C731-DB3A-439E-8842-68B09EE30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47280" y="368460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2760" y="368460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22160" y="415836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47280" y="415836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2760" y="415836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AABC-79D9-4B11-9472-87C6013C8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BBDA-2213-40E9-B0CD-EDE34CD99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64480" cy="90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59D4-61BF-4F0E-9302-4EBE6B24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77644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63B7-4027-4C61-9131-FB4BF95D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37890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0880" y="3684600"/>
            <a:ext cx="37890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E998-6B25-443D-85C5-7717DC40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BF7F-7133-42CE-B776-99360253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22160" y="1820880"/>
            <a:ext cx="7764480" cy="84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5FBF-67A8-4534-AC39-EF09C99A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0880" y="3684600"/>
            <a:ext cx="37890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22160" y="415836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613C-BBD3-4D8D-B3DC-03FB07DA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64480" cy="90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F0BE-AF36-4AEA-AA48-0D641078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37890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088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0880" y="415836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B2E6-3A86-4000-B03A-90E78C4F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088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22160" y="4158360"/>
            <a:ext cx="776448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FF33-9117-414B-A0E5-2574DD44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776448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22160" y="4158360"/>
            <a:ext cx="776448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60BA-4C07-43B1-A758-107055FC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088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22160" y="415836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0880" y="415836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AE9A-F814-4CEF-B556-CFFD5BA99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47280" y="368460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72760" y="368460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22160" y="415836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47280" y="415836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72760" y="415836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7071-079D-43E7-AFB2-98B0B8BBC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19F35-FAE8-48E5-ABA7-881A5AAC6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64480" cy="90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D7DDF-5B66-4D96-BCCA-46993C43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77644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3DE30-7F58-4369-8F00-34747ADD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37890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0880" y="3684600"/>
            <a:ext cx="37890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C733C-FB17-48F0-823B-52B829E4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EC606-4218-4CEA-9EA5-6B71CC6F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77644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7F1E-B12A-46CA-BFA3-8F696B25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22160" y="1820880"/>
            <a:ext cx="7764480" cy="84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57BBE-A69F-4AF7-ADB6-C747AE0D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0880" y="3684600"/>
            <a:ext cx="37890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22160" y="415836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49449-D698-474F-8339-5780D0E6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37890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088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00880" y="415836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2DBAF-17DD-4056-BD09-DD5A615F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0088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22160" y="4158360"/>
            <a:ext cx="776448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E933A-B97E-4DFF-9C81-AB035B3B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776448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22160" y="4158360"/>
            <a:ext cx="776448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ACF57-DEDF-4969-A3F6-E1432F26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088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722160" y="415836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00880" y="415836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C2CDF-532F-4CE7-ACF9-5F9FB16E8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47280" y="368460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72760" y="368460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22160" y="415836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47280" y="415836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72760" y="415836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07432-2027-4192-90DC-A61D86F6C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99AAD-187F-4C2A-991C-1D4F6ED78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64480" cy="90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52351-CE51-4467-803D-197B27A5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77644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17D52-7670-4709-8488-56F0526A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37890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0880" y="3684600"/>
            <a:ext cx="37890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5AB5-A3EC-49C7-8415-DB7FDF08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37890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0880" y="3684600"/>
            <a:ext cx="37890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6CBAC-3318-4E0B-9DC3-1D97112E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5C850-D513-4901-97C0-A473931D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22160" y="1820880"/>
            <a:ext cx="7764480" cy="84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EB968-D030-4FAB-9D1C-13D599BB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00880" y="3684600"/>
            <a:ext cx="37890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22160" y="415836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09E0C-B6A8-4194-BD00-943598F3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37890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088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00880" y="415836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5A30B-2855-4FE7-BEDF-D7FB9246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0088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22160" y="4158360"/>
            <a:ext cx="776448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A271B-0207-4098-8C34-500D9F2B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776448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722160" y="4158360"/>
            <a:ext cx="776448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E22DD-47B4-4D75-98C1-3931133A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088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22160" y="415836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00880" y="415836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1EFEF-793A-4B55-88E6-360D020EA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47280" y="368460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72760" y="368460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722160" y="415836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47280" y="415836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72760" y="415836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8D954-FB93-4AE2-AEAB-065189FE5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17837-74E1-45DD-B508-49D1BD450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5F86-61E5-43BE-9245-5CA6EB88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64480" cy="90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A6EB9-744C-4B5F-8B93-53909060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77644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9770C-D175-4430-BE84-FA16811D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37890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00880" y="3684600"/>
            <a:ext cx="37890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DA54E-1F8C-4CB7-A239-718AD584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9D0A9-0812-4AA5-9456-DB07CD60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722160" y="1820880"/>
            <a:ext cx="7764480" cy="84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50B24-CD95-4D27-93B9-7916D67F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00880" y="3684600"/>
            <a:ext cx="37890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22160" y="415836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13722-9430-4617-B7DE-01C266D8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37890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0088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700880" y="415836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53C11-3C86-46DF-A113-1FA751F7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0088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22160" y="4158360"/>
            <a:ext cx="776448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78C7B-3E30-4BBE-A54C-7F53D8C5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776448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722160" y="4158360"/>
            <a:ext cx="776448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66FF1-858E-4301-A594-1937D130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0088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22160" y="415836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700880" y="415836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26295-8359-4ED4-9E05-88D27424B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22160" y="1820880"/>
            <a:ext cx="7764480" cy="84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349E-E57F-4F77-8796-DE745160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347280" y="368460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972760" y="368460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722160" y="415836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347280" y="415836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972760" y="4158360"/>
            <a:ext cx="249984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638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A057D-829D-4DD5-8F84-10B16BF71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0880" y="3684600"/>
            <a:ext cx="37890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22160" y="415836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F0C3-DE3A-456A-8CC0-FA3D851C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37890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088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0880" y="415836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3833-F855-416B-96A7-45D047E5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216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0880" y="3684600"/>
            <a:ext cx="378900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22160" y="4158360"/>
            <a:ext cx="7764480" cy="4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70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C268-A3E7-4A84-B154-80E4FD97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w="2160">
            <a:solidFill>
              <a:srgbClr val="a4a4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19040" y="433440"/>
            <a:ext cx="8305920" cy="548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w="2160">
            <a:solidFill>
              <a:srgbClr val="a4a4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19040" y="433440"/>
            <a:ext cx="8305920" cy="3108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644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22160" y="3684600"/>
            <a:ext cx="77644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19000"/>
          </a:bodyPr>
          <a:p>
            <a:pPr marL="6516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160" indent="-651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65160" indent="-651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65160" indent="-651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65160" indent="-651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65160" indent="-651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65160" indent="-651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78080" cy="3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r>
              <a:rPr b="0" lang="ru-RU" sz="1000" spc="-1" strike="noStrike">
                <a:solidFill>
                  <a:srgbClr val="a7a49a"/>
                </a:solidFill>
                <a:latin typeface="Verdana"/>
              </a:rPr>
              <a:t>6.5.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78080" cy="3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492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78BE16-193F-409F-95A5-A402D18AA20F}" type="slidenum">
              <a:rPr b="0" lang="ru-RU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fld id="{B5B4250D-7AF1-44E0-97AA-4D49D5C4B584}" type="slidenum">
              <a:rPr b="0" lang="ru-RU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w="2160">
            <a:solidFill>
              <a:srgbClr val="a4a4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040" y="433440"/>
            <a:ext cx="8305920" cy="548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7560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78080" cy="3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r>
              <a:rPr b="0" lang="ru-RU" sz="1000" spc="-1" strike="noStrike">
                <a:solidFill>
                  <a:srgbClr val="a7a49a"/>
                </a:solidFill>
                <a:latin typeface="Verdana"/>
              </a:rPr>
              <a:t>6.5.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62760" y="6111720"/>
            <a:ext cx="2278080" cy="4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492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719A0B7-CF37-4803-9669-62C75D23034F}" type="slidenum">
              <a:rPr b="0" lang="ru-RU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fld id="{D230AF7E-53AA-4E6E-A6DB-024B5302B696}" type="slidenum">
              <a:rPr b="0" lang="ru-RU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w="2160">
            <a:solidFill>
              <a:srgbClr val="a4a4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9040" y="433440"/>
            <a:ext cx="8305920" cy="548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14080" y="529920"/>
            <a:ext cx="3924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2000"/>
          </a:bodyPr>
          <a:p>
            <a:pPr marL="24696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246960" indent="-2469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246960" indent="-2469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246960" indent="-2469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46960" indent="-2469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46960" indent="-2469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46960" indent="-2469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4754520" y="530280"/>
            <a:ext cx="393228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25520" indent="-3207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ля правки структуры щелкните мышь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076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Второ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8260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Трети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20800" indent="-209520">
              <a:lnSpc>
                <a:spcPct val="102000"/>
              </a:lnSpc>
              <a:spcAft>
                <a:spcPts val="57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Четверты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2800" indent="-211320">
              <a:lnSpc>
                <a:spcPct val="102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Пяты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2800" indent="-211320">
              <a:lnSpc>
                <a:spcPct val="102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Шесто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2800" indent="-211320">
              <a:lnSpc>
                <a:spcPct val="102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Седьмо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2800" indent="-211320">
              <a:lnSpc>
                <a:spcPct val="102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Восьмой уровень струк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102000"/>
              </a:lnSpc>
              <a:spcBef>
                <a:spcPts val="249"/>
              </a:spcBef>
              <a:spcAft>
                <a:spcPts val="1426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евятый уровень структурыОбразец текс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0760">
              <a:lnSpc>
                <a:spcPct val="102000"/>
              </a:lnSpc>
              <a:spcBef>
                <a:spcPts val="249"/>
              </a:spcBef>
              <a:spcAft>
                <a:spcPts val="1426"/>
              </a:spcAft>
              <a:buClr>
                <a:srgbClr val="f07f09"/>
              </a:buClr>
              <a:buFont typeface="Verdana"/>
              <a:buChar char="◦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Arial"/>
              </a:rPr>
              <a:t>Второй уровен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0760">
              <a:lnSpc>
                <a:spcPct val="102000"/>
              </a:lnSpc>
              <a:spcAft>
                <a:spcPts val="1137"/>
              </a:spcAft>
              <a:buClr>
                <a:srgbClr val="f07f09"/>
              </a:buClr>
              <a:buFont typeface="Verdana"/>
              <a:buChar char="◦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82600">
              <a:lnSpc>
                <a:spcPct val="102000"/>
              </a:lnSpc>
              <a:spcAft>
                <a:spcPts val="850"/>
              </a:spcAft>
              <a:buClr>
                <a:srgbClr val="ea3a45"/>
              </a:buClr>
              <a:buFont typeface="Wingdings 2" charset="2"/>
              <a:buChar char="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0800" indent="-209520">
              <a:lnSpc>
                <a:spcPct val="102000"/>
              </a:lnSpc>
              <a:spcAft>
                <a:spcPts val="575"/>
              </a:spcAft>
              <a:buClr>
                <a:srgbClr val="ea3a45"/>
              </a:buClr>
              <a:buSzPct val="112000"/>
              <a:buFont typeface="Verdana"/>
              <a:buChar char="◦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78080" cy="3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r>
              <a:rPr b="0" lang="ru-RU" sz="1000" spc="-1" strike="noStrike">
                <a:solidFill>
                  <a:srgbClr val="a7a49a"/>
                </a:solidFill>
                <a:latin typeface="Verdana"/>
              </a:rPr>
              <a:t>6.5.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62760" y="6111720"/>
            <a:ext cx="2278080" cy="4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492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0F08F66-6D04-41B3-B751-109B374273AC}" type="slidenum">
              <a:rPr b="0" lang="ru-RU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fld id="{E272B4FC-33C2-4969-AC34-D4B4B20D09F5}" type="slidenum">
              <a:rPr b="0" lang="ru-RU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w="2160">
            <a:solidFill>
              <a:srgbClr val="a4a4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9040" y="433440"/>
            <a:ext cx="8305920" cy="548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w="2160">
            <a:solidFill>
              <a:srgbClr val="a4a4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78080" cy="3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r>
              <a:rPr b="0" lang="ru-RU" sz="1000" spc="-1" strike="noStrike">
                <a:solidFill>
                  <a:srgbClr val="a7a49a"/>
                </a:solidFill>
                <a:latin typeface="Verdana"/>
              </a:rPr>
              <a:t>6.5.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ftr" idx="11"/>
          </p:nvPr>
        </p:nvSpPr>
        <p:spPr>
          <a:xfrm>
            <a:off x="6062760" y="6111720"/>
            <a:ext cx="2278080" cy="4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492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8B27BCB-510C-4442-9D7C-8A29B3B9AD64}" type="slidenum">
              <a:rPr b="0" lang="ru-RU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fld id="{8E6EC21A-8E32-40CD-831A-50D6CF557E92}" type="slidenum">
              <a:rPr b="0" lang="ru-RU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w="2160">
            <a:solidFill>
              <a:srgbClr val="a4a4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9040" y="433440"/>
            <a:ext cx="8305920" cy="548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75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78080" cy="3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r>
              <a:rPr b="0" lang="ru-RU" sz="1000" spc="-1" strike="noStrike">
                <a:solidFill>
                  <a:srgbClr val="a7a49a"/>
                </a:solidFill>
                <a:latin typeface="Verdana"/>
              </a:rPr>
              <a:t>6.5.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ftr" idx="14"/>
          </p:nvPr>
        </p:nvSpPr>
        <p:spPr>
          <a:xfrm>
            <a:off x="6062760" y="6111720"/>
            <a:ext cx="2278080" cy="4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492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8E4FC81-DA8F-4265-8637-33BFF6CD70EF}" type="slidenum">
              <a:rPr b="0" lang="ru-RU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fld id="{22E9353C-E36F-4EC6-81C1-FDA9B9A6979E}" type="slidenum">
              <a:rPr b="0" lang="ru-RU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280" y="2637000"/>
            <a:ext cx="87854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900"/>
            </a:br>
            <a:br>
              <a:rPr sz="4900"/>
            </a:br>
            <a:r>
              <a:rPr b="1" lang="ru-RU" sz="4900" spc="-1" strike="noStrike">
                <a:solidFill>
                  <a:srgbClr val="50151b"/>
                </a:solidFill>
                <a:latin typeface="Times New Roman"/>
              </a:rPr>
              <a:t>«КРЫМ  НАШ»</a:t>
            </a:r>
            <a:br>
              <a:rPr sz="4900"/>
            </a:br>
            <a:br>
              <a:rPr sz="4500"/>
            </a:br>
            <a:r>
              <a:rPr b="1" i="1" lang="ru-RU" sz="4000" spc="-1" strike="noStrike">
                <a:solidFill>
                  <a:srgbClr val="0e2c3e"/>
                </a:solidFill>
                <a:latin typeface="Times New Roman"/>
              </a:rPr>
              <a:t>межпредметный урок по географии и</a:t>
            </a:r>
            <a:br>
              <a:rPr sz="4000"/>
            </a:br>
            <a:r>
              <a:rPr b="1" i="1" lang="ru-RU" sz="4000" spc="-1" strike="noStrike">
                <a:solidFill>
                  <a:srgbClr val="0e2c3e"/>
                </a:solidFill>
                <a:latin typeface="Times New Roman"/>
              </a:rPr>
              <a:t> биологии </a:t>
            </a:r>
            <a:br>
              <a:rPr sz="45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24000" y="4292280"/>
            <a:ext cx="84960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7240" bIns="45000" anchor="t">
            <a:normAutofit/>
          </a:bodyPr>
          <a:p>
            <a:pPr marL="343080" indent="0" algn="ctr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14425d"/>
                </a:solidFill>
                <a:latin typeface="Times New Roman"/>
              </a:rPr>
              <a:t>                                                                </a:t>
            </a:r>
            <a:r>
              <a:rPr b="1" i="1" lang="ru-RU" sz="2400" spc="-1" strike="noStrike">
                <a:solidFill>
                  <a:srgbClr val="274321"/>
                </a:solidFill>
                <a:latin typeface="Times New Roman"/>
              </a:rPr>
              <a:t>учитель географ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274321"/>
                </a:solidFill>
                <a:latin typeface="Times New Roman"/>
              </a:rPr>
              <a:t>                                                      </a:t>
            </a:r>
            <a:r>
              <a:rPr b="1" i="1" lang="ru-RU" sz="2400" spc="-1" strike="noStrike">
                <a:solidFill>
                  <a:srgbClr val="274321"/>
                </a:solidFill>
                <a:latin typeface="Times New Roman"/>
              </a:rPr>
              <a:t>Богатов А.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274321"/>
                </a:solidFill>
                <a:latin typeface="Times New Roman"/>
              </a:rPr>
              <a:t>                                                            </a:t>
            </a:r>
            <a:r>
              <a:rPr b="1" i="1" lang="ru-RU" sz="2400" spc="-1" strike="noStrike">
                <a:solidFill>
                  <a:srgbClr val="274321"/>
                </a:solidFill>
                <a:latin typeface="Times New Roman"/>
              </a:rPr>
              <a:t>учитель биолог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274321"/>
                </a:solidFill>
                <a:latin typeface="Times New Roman"/>
              </a:rPr>
              <a:t>                                                   </a:t>
            </a:r>
            <a:r>
              <a:rPr b="1" i="1" lang="ru-RU" sz="2400" spc="-1" strike="noStrike">
                <a:solidFill>
                  <a:srgbClr val="274321"/>
                </a:solidFill>
                <a:latin typeface="Times New Roman"/>
              </a:rPr>
              <a:t>Авезова О.Г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571680" y="371484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56760" y="3285720"/>
            <a:ext cx="857268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9257"/>
                </a:solidFill>
                <a:latin typeface="Verdan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нерин башмачок               иглиц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8391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5160" bIns="45000" anchor="t">
            <a:normAutofit/>
          </a:bodyPr>
          <a:p>
            <a:pPr marL="343080" indent="0" algn="ctr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50151b"/>
                </a:solidFill>
                <a:latin typeface="Times New Roman"/>
              </a:rPr>
              <a:t>Реликты Крым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286080" y="1071720"/>
            <a:ext cx="2592360" cy="23763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6357960" y="1000080"/>
            <a:ext cx="1992240" cy="24289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500040" y="3929040"/>
            <a:ext cx="2519280" cy="23036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3429000" y="4000680"/>
            <a:ext cx="2467080" cy="2286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57120" y="3500280"/>
            <a:ext cx="842976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жжевельник               земляничник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95280" y="428760"/>
            <a:ext cx="829152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algn="ctr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50151b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50151b"/>
                </a:solidFill>
                <a:latin typeface="Times New Roman"/>
              </a:rPr>
              <a:t>Животные Кры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571680" y="1143000"/>
            <a:ext cx="2160360" cy="22305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3000240" y="1143000"/>
            <a:ext cx="2619360" cy="23036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5929200" y="1214280"/>
            <a:ext cx="2448000" cy="22147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468360" y="4076640"/>
            <a:ext cx="2232000" cy="21607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>
            <a:off x="3060720" y="4076640"/>
            <a:ext cx="2619360" cy="22320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6"/>
          <a:stretch/>
        </p:blipFill>
        <p:spPr>
          <a:xfrm>
            <a:off x="6000840" y="4000680"/>
            <a:ext cx="2394000" cy="22860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85840" y="3086280"/>
            <a:ext cx="850104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b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менный  краб           павлиноглазка      леопардовый  полоз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5840" y="6294960"/>
            <a:ext cx="864396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b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85840" y="6366240"/>
            <a:ext cx="850104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b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итон                    журавль-краска        енотовидная соб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56760" y="785880"/>
            <a:ext cx="84963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5000" anchor="t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50151b"/>
                </a:solidFill>
                <a:latin typeface="Times New Roman"/>
              </a:rPr>
              <a:t>План изучения туристической привлекательности Крым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424720" cy="57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just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1.Чем Крым может быть привлекательным для туристов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5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2.Известные крымские курорты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5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Севастополь, Симферополь, Ялта, Евпатория, Феодосия, Керч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57120" y="642600"/>
            <a:ext cx="856944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7680" bIns="45000" anchor="t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500" spc="-1" strike="noStrike">
                <a:solidFill>
                  <a:srgbClr val="50151b"/>
                </a:solidFill>
                <a:latin typeface="Times New Roman"/>
              </a:rPr>
              <a:t>Туристическая привлекательность Крыма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4000" y="1628640"/>
            <a:ext cx="842472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1. Санаторно-оздоровительный отды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2. Морской отды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3.Природные заповедн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4. Памятники архитекту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5. Горнолыжные курор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6. Музыкальные и танцевальные фестивал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7. Музеи и выста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286160" y="4572000"/>
            <a:ext cx="2279880" cy="17096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6643800" y="4572000"/>
            <a:ext cx="2071440" cy="1714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500040" y="571680"/>
            <a:ext cx="2643120" cy="21430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3214800" y="571680"/>
            <a:ext cx="2571480" cy="21430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0" y="2436840"/>
            <a:ext cx="3643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5000" anchor="b">
            <a:sp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50151b"/>
                </a:solidFill>
                <a:latin typeface="Times New Roman"/>
              </a:rPr>
              <a:t>Севастопо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86040" y="2436840"/>
            <a:ext cx="3643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5000" anchor="b">
            <a:sp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50151b"/>
                </a:solidFill>
                <a:latin typeface="Times New Roman"/>
              </a:rPr>
              <a:t>Симферопо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5857920" y="571680"/>
            <a:ext cx="2643120" cy="21430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5643720" y="2436840"/>
            <a:ext cx="3643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5000" anchor="b">
            <a:sp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50151b"/>
                </a:solidFill>
                <a:latin typeface="Times New Roman"/>
              </a:rPr>
              <a:t>Ял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428760" y="3214800"/>
            <a:ext cx="271440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-142920" y="5006880"/>
            <a:ext cx="3643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5000" anchor="b">
            <a:sp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50151b"/>
                </a:solidFill>
                <a:latin typeface="Times New Roman"/>
              </a:rPr>
              <a:t>Евпато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5"/>
          <a:stretch/>
        </p:blipFill>
        <p:spPr>
          <a:xfrm>
            <a:off x="3214800" y="3214800"/>
            <a:ext cx="2571480" cy="20001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714760" y="5006880"/>
            <a:ext cx="3643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5000" anchor="b">
            <a:sp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50151b"/>
                </a:solidFill>
                <a:latin typeface="Times New Roman"/>
              </a:rPr>
              <a:t>Феодо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6"/>
          <a:stretch/>
        </p:blipFill>
        <p:spPr>
          <a:xfrm>
            <a:off x="5857920" y="3214800"/>
            <a:ext cx="2666880" cy="20001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5500800" y="5006880"/>
            <a:ext cx="3643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5000" anchor="b">
            <a:sp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50151b"/>
                </a:solidFill>
                <a:latin typeface="Times New Roman"/>
              </a:rPr>
              <a:t>Керч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960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5160" bIns="45000" anchor="t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50151b"/>
                </a:solidFill>
                <a:latin typeface="Times New Roman"/>
              </a:rPr>
              <a:t>Закреплени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22160" y="1428480"/>
            <a:ext cx="7772400" cy="110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30243c"/>
                </a:solidFill>
                <a:latin typeface="Times New Roman"/>
              </a:rPr>
              <a:t>1. Республика Крым и город Севастополь вошли в состав Российской Федерации ……………………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4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30243c"/>
                </a:solidFill>
                <a:latin typeface="Times New Roman"/>
              </a:rPr>
              <a:t>2. Крымский полуостров омывается водами двух морей: ……………….. и …………………….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4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30243c"/>
                </a:solidFill>
                <a:latin typeface="Times New Roman"/>
              </a:rPr>
              <a:t>3. Большую часть территории полуострова занимает природная зона ………………………….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4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30243c"/>
                </a:solidFill>
                <a:latin typeface="Times New Roman"/>
              </a:rPr>
              <a:t>4. Животные и растения, которые встречаются только на определенной ограниченной территории, называются …………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4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30243c"/>
                </a:solidFill>
                <a:latin typeface="Times New Roman"/>
              </a:rPr>
              <a:t>5. К реликтовым растениям Крыма относятся …………………….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4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30243c"/>
                </a:solidFill>
                <a:latin typeface="Times New Roman"/>
              </a:rPr>
              <a:t>6. Крупнейшие туристические центры Крымского полуострова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4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30243c"/>
                </a:solidFill>
                <a:latin typeface="Times New Roman"/>
              </a:rPr>
              <a:t>…………………………………………………………………………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4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4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960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5160" bIns="45000" anchor="t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50151b"/>
                </a:solidFill>
                <a:latin typeface="Times New Roman"/>
              </a:rPr>
              <a:t>Закреплени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22160" y="1428480"/>
            <a:ext cx="7772400" cy="69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0243c"/>
                </a:solidFill>
                <a:latin typeface="Times New Roman"/>
              </a:rPr>
              <a:t>1. Республика Крым и город Севастополь вошли в состав Российской Федерации </a:t>
            </a:r>
            <a:r>
              <a:rPr b="1" lang="ru-RU" sz="1800" spc="-1" strike="noStrike">
                <a:solidFill>
                  <a:srgbClr val="30243c"/>
                </a:solidFill>
                <a:latin typeface="Times New Roman"/>
              </a:rPr>
              <a:t>18 марта 2014 год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4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0243c"/>
                </a:solidFill>
                <a:latin typeface="Times New Roman"/>
              </a:rPr>
              <a:t>2. Крымский полуостров омывается водами двух морей: </a:t>
            </a:r>
            <a:r>
              <a:rPr b="1" lang="ru-RU" sz="1800" spc="-1" strike="noStrike">
                <a:solidFill>
                  <a:srgbClr val="30243c"/>
                </a:solidFill>
                <a:latin typeface="Times New Roman"/>
              </a:rPr>
              <a:t>Черного и Азовског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4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0243c"/>
                </a:solidFill>
                <a:latin typeface="Times New Roman"/>
              </a:rPr>
              <a:t>3. Большую часть территории полуострова занимает природная зона </a:t>
            </a:r>
            <a:r>
              <a:rPr b="1" lang="ru-RU" sz="1800" spc="-1" strike="noStrike">
                <a:solidFill>
                  <a:srgbClr val="30243c"/>
                </a:solidFill>
                <a:latin typeface="Times New Roman"/>
              </a:rPr>
              <a:t>лесостепей и степе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4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0243c"/>
                </a:solidFill>
                <a:latin typeface="Times New Roman"/>
              </a:rPr>
              <a:t>4. Животные и растения, которые встречаются только на определенной ограниченной территории, называются </a:t>
            </a:r>
            <a:r>
              <a:rPr b="1" lang="ru-RU" sz="1800" spc="-1" strike="noStrike">
                <a:solidFill>
                  <a:srgbClr val="30243c"/>
                </a:solidFill>
                <a:latin typeface="Times New Roman"/>
              </a:rPr>
              <a:t>эндемик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4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0243c"/>
                </a:solidFill>
                <a:latin typeface="Times New Roman"/>
              </a:rPr>
              <a:t>5. К реликтовым растениям Крыма относятся </a:t>
            </a:r>
            <a:r>
              <a:rPr b="1" lang="ru-RU" sz="1800" spc="-1" strike="noStrike">
                <a:solidFill>
                  <a:srgbClr val="30243c"/>
                </a:solidFill>
                <a:latin typeface="Times New Roman"/>
              </a:rPr>
              <a:t>можжевельник, земляничник, подснежник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4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0243c"/>
                </a:solidFill>
                <a:latin typeface="Times New Roman"/>
              </a:rPr>
              <a:t>6. Крупнейшие туристические центры Крымского полуостров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4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0243c"/>
                </a:solidFill>
                <a:latin typeface="Times New Roman"/>
              </a:rPr>
              <a:t>Севастополь, Ялта, Керчь, Феодосия, Симферополь, Евпатория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4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44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6435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5000" anchor="t">
            <a:noAutofit/>
          </a:bodyPr>
          <a:p>
            <a:pPr indent="0" algn="just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30243c"/>
                </a:solidFill>
                <a:latin typeface="Times New Roman"/>
              </a:rPr>
              <a:t>Крым неповторим и уникален. В нем есть то, что может сделать человека счастливым. И для этого не нужно иметь ни загранпаспорта, ни визы, ни многочасового перелета на край света. Нужно просто его видеть, знать и любить…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285920" y="4214880"/>
            <a:ext cx="3163680" cy="21096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4643280" y="4214880"/>
            <a:ext cx="3143520" cy="20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717480"/>
                <a:tab algn="l" pos="1441440"/>
                <a:tab algn="l" pos="2165400"/>
                <a:tab algn="l" pos="2889360"/>
                <a:tab algn="l" pos="3613320"/>
                <a:tab algn="l" pos="4343400"/>
                <a:tab algn="l" pos="5060880"/>
                <a:tab algn="l" pos="5784840"/>
                <a:tab algn="l" pos="6508800"/>
                <a:tab algn="l" pos="7232760"/>
                <a:tab algn="l" pos="7956720"/>
                <a:tab algn="l" pos="8080200"/>
                <a:tab algn="l" pos="8529480"/>
                <a:tab algn="l" pos="897876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28400" y="428400"/>
            <a:ext cx="3786120" cy="10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18 марта 2014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года был подписан договор о вхождении Автономной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еспублики Крым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и города федерального значения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евастополя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в состав Российской Федерации на правах субъектов Российской Федерации. Таким образом, административно-территориальное деление России теперь включает в себя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85 равноправных субъекто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8320" y="1920600"/>
            <a:ext cx="403848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429080" y="3429000"/>
            <a:ext cx="4359240" cy="27860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429080" y="549360"/>
            <a:ext cx="4438800" cy="27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5000" anchor="t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50151b"/>
                </a:solidFill>
                <a:latin typeface="Times New Roman"/>
              </a:rPr>
              <a:t>План изучения истории Крым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5280" y="1917360"/>
            <a:ext cx="835344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1.Крымское хан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2.Крым в составе Российской импе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3.Крым в составе Украин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4.Современный Кры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7320" bIns="45000" anchor="t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50151b"/>
                </a:solidFill>
                <a:latin typeface="Times New Roman"/>
              </a:rPr>
              <a:t>История  Крым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24720" cy="67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482400" indent="-4478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487440"/>
                <a:tab algn="l" pos="592200"/>
                <a:tab algn="l" pos="1041480"/>
                <a:tab algn="l" pos="1490760"/>
                <a:tab algn="l" pos="1940040"/>
                <a:tab algn="l" pos="2389320"/>
                <a:tab algn="l" pos="2838600"/>
                <a:tab algn="l" pos="3287880"/>
                <a:tab algn="l" pos="3736800"/>
                <a:tab algn="l" pos="4186080"/>
                <a:tab algn="l" pos="4635360"/>
                <a:tab algn="l" pos="5084640"/>
                <a:tab algn="l" pos="5533920"/>
                <a:tab algn="l" pos="5983200"/>
                <a:tab algn="l" pos="6432480"/>
                <a:tab algn="l" pos="6881760"/>
                <a:tab algn="l" pos="7331040"/>
                <a:tab algn="l" pos="7780320"/>
                <a:tab algn="l" pos="8229600"/>
                <a:tab algn="l" pos="8678880"/>
                <a:tab algn="l" pos="9128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1478 году Крымское ханство стало частью Османской импер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2400" indent="-447840">
              <a:lnSpc>
                <a:spcPct val="14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487440"/>
                <a:tab algn="l" pos="592200"/>
                <a:tab algn="l" pos="1041480"/>
                <a:tab algn="l" pos="1490760"/>
                <a:tab algn="l" pos="1940040"/>
                <a:tab algn="l" pos="2389320"/>
                <a:tab algn="l" pos="2838600"/>
                <a:tab algn="l" pos="3287880"/>
                <a:tab algn="l" pos="3736800"/>
                <a:tab algn="l" pos="4186080"/>
                <a:tab algn="l" pos="4635360"/>
                <a:tab algn="l" pos="5084640"/>
                <a:tab algn="l" pos="5533920"/>
                <a:tab algn="l" pos="5983200"/>
                <a:tab algn="l" pos="6432480"/>
                <a:tab algn="l" pos="6881760"/>
                <a:tab algn="l" pos="7331040"/>
                <a:tab algn="l" pos="7780320"/>
                <a:tab algn="l" pos="8229600"/>
                <a:tab algn="l" pos="8678880"/>
                <a:tab algn="l" pos="9128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усско-турецкая война 1768—1774 годов, положила конец османскому господству и по мирному договору 1774 года османы отказались от претензий на Кры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2400" indent="-447840">
              <a:lnSpc>
                <a:spcPct val="14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487440"/>
                <a:tab algn="l" pos="592200"/>
                <a:tab algn="l" pos="1041480"/>
                <a:tab algn="l" pos="1490760"/>
                <a:tab algn="l" pos="1940040"/>
                <a:tab algn="l" pos="2389320"/>
                <a:tab algn="l" pos="2838600"/>
                <a:tab algn="l" pos="3287880"/>
                <a:tab algn="l" pos="3736800"/>
                <a:tab algn="l" pos="4186080"/>
                <a:tab algn="l" pos="4635360"/>
                <a:tab algn="l" pos="5084640"/>
                <a:tab algn="l" pos="5533920"/>
                <a:tab algn="l" pos="5983200"/>
                <a:tab algn="l" pos="6432480"/>
                <a:tab algn="l" pos="6881760"/>
                <a:tab algn="l" pos="7331040"/>
                <a:tab algn="l" pos="7780320"/>
                <a:tab algn="l" pos="8229600"/>
                <a:tab algn="l" pos="8678880"/>
                <a:tab algn="l" pos="9128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7c7972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 апреля 1783 год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катерина II издала манифест о принятии «полуострова Крымского», а также Кубанской стороны в состав Российской Импери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2400" indent="-447840">
              <a:lnSpc>
                <a:spcPct val="14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487440"/>
                <a:tab algn="l" pos="592200"/>
                <a:tab algn="l" pos="1041480"/>
                <a:tab algn="l" pos="1490760"/>
                <a:tab algn="l" pos="1940040"/>
                <a:tab algn="l" pos="2389320"/>
                <a:tab algn="l" pos="2838600"/>
                <a:tab algn="l" pos="3287880"/>
                <a:tab algn="l" pos="3736800"/>
                <a:tab algn="l" pos="4186080"/>
                <a:tab algn="l" pos="4635360"/>
                <a:tab algn="l" pos="5084640"/>
                <a:tab algn="l" pos="5533920"/>
                <a:tab algn="l" pos="5983200"/>
                <a:tab algn="l" pos="6432480"/>
                <a:tab algn="l" pos="6881760"/>
                <a:tab algn="l" pos="7331040"/>
                <a:tab algn="l" pos="7780320"/>
                <a:tab algn="l" pos="8229600"/>
                <a:tab algn="l" pos="8678880"/>
                <a:tab algn="l" pos="9128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 декабря 1991 года на Всеукраинском референдум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2400" indent="0">
              <a:lnSpc>
                <a:spcPct val="144000"/>
              </a:lnSpc>
              <a:spcAft>
                <a:spcPts val="1426"/>
              </a:spcAft>
              <a:buNone/>
              <a:tabLst>
                <a:tab algn="l" pos="0"/>
                <a:tab algn="l" pos="487440"/>
                <a:tab algn="l" pos="592200"/>
                <a:tab algn="l" pos="1041480"/>
                <a:tab algn="l" pos="1490760"/>
                <a:tab algn="l" pos="1940040"/>
                <a:tab algn="l" pos="2389320"/>
                <a:tab algn="l" pos="2838600"/>
                <a:tab algn="l" pos="3287880"/>
                <a:tab algn="l" pos="3736800"/>
                <a:tab algn="l" pos="4186080"/>
                <a:tab algn="l" pos="4635360"/>
                <a:tab algn="l" pos="5084640"/>
                <a:tab algn="l" pos="5533920"/>
                <a:tab algn="l" pos="5983200"/>
                <a:tab algn="l" pos="6432480"/>
                <a:tab algn="l" pos="6881760"/>
                <a:tab algn="l" pos="7331040"/>
                <a:tab algn="l" pos="7780320"/>
                <a:tab algn="l" pos="8229600"/>
                <a:tab algn="l" pos="8678880"/>
                <a:tab algn="l" pos="9128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ители Крыма участвовали в голосовании о независим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2400" indent="0">
              <a:lnSpc>
                <a:spcPct val="144000"/>
              </a:lnSpc>
              <a:spcAft>
                <a:spcPts val="1426"/>
              </a:spcAft>
              <a:buNone/>
              <a:tabLst>
                <a:tab algn="l" pos="0"/>
                <a:tab algn="l" pos="487440"/>
                <a:tab algn="l" pos="592200"/>
                <a:tab algn="l" pos="1041480"/>
                <a:tab algn="l" pos="1490760"/>
                <a:tab algn="l" pos="1940040"/>
                <a:tab algn="l" pos="2389320"/>
                <a:tab algn="l" pos="2838600"/>
                <a:tab algn="l" pos="3287880"/>
                <a:tab algn="l" pos="3736800"/>
                <a:tab algn="l" pos="4186080"/>
                <a:tab algn="l" pos="4635360"/>
                <a:tab algn="l" pos="5084640"/>
                <a:tab algn="l" pos="5533920"/>
                <a:tab algn="l" pos="5983200"/>
                <a:tab algn="l" pos="6432480"/>
                <a:tab algn="l" pos="6881760"/>
                <a:tab algn="l" pos="7331040"/>
                <a:tab algn="l" pos="7780320"/>
                <a:tab algn="l" pos="8229600"/>
                <a:tab algn="l" pos="8678880"/>
                <a:tab algn="l" pos="9128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краин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2400" indent="-447840">
              <a:lnSpc>
                <a:spcPct val="14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487440"/>
                <a:tab algn="l" pos="592200"/>
                <a:tab algn="l" pos="1041480"/>
                <a:tab algn="l" pos="1490760"/>
                <a:tab algn="l" pos="1940040"/>
                <a:tab algn="l" pos="2389320"/>
                <a:tab algn="l" pos="2838600"/>
                <a:tab algn="l" pos="3287880"/>
                <a:tab algn="l" pos="3736800"/>
                <a:tab algn="l" pos="4186080"/>
                <a:tab algn="l" pos="4635360"/>
                <a:tab algn="l" pos="5084640"/>
                <a:tab algn="l" pos="5533920"/>
                <a:tab algn="l" pos="5983200"/>
                <a:tab algn="l" pos="6432480"/>
                <a:tab algn="l" pos="6881760"/>
                <a:tab algn="l" pos="7331040"/>
                <a:tab algn="l" pos="7780320"/>
                <a:tab algn="l" pos="8229600"/>
                <a:tab algn="l" pos="8678880"/>
                <a:tab algn="l" pos="9128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8 марта 2014 года подписан межгосударственный Договор между Российской Федерацией и Республикой Крым о принятии в состав РФ Кры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35344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120" bIns="45000" anchor="t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50151b"/>
                </a:solidFill>
                <a:latin typeface="Times New Roman"/>
              </a:rPr>
              <a:t>История  Крыма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755640" y="1339920"/>
            <a:ext cx="3240000" cy="26636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3348000" y="4076640"/>
            <a:ext cx="3300480" cy="26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24000" y="-346680"/>
            <a:ext cx="8496000" cy="13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7320" bIns="45000" anchor="b">
            <a:sp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50151b"/>
                </a:solidFill>
                <a:latin typeface="Times New Roman"/>
              </a:rPr>
              <a:t>План изучения географического положения Кры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7120" y="1214280"/>
            <a:ext cx="607212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spAutoFit/>
          </a:bodyPr>
          <a:p>
            <a:pPr marL="487440" indent="-452520" algn="just">
              <a:lnSpc>
                <a:spcPct val="96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487440"/>
                <a:tab algn="l" pos="934920"/>
                <a:tab algn="l" pos="1384200"/>
                <a:tab algn="l" pos="1833480"/>
                <a:tab algn="l" pos="2282760"/>
                <a:tab algn="l" pos="2732040"/>
                <a:tab algn="l" pos="3181320"/>
                <a:tab algn="l" pos="3630600"/>
                <a:tab algn="l" pos="4079880"/>
                <a:tab algn="l" pos="4529160"/>
                <a:tab algn="l" pos="4978440"/>
                <a:tab algn="l" pos="5427720"/>
                <a:tab algn="l" pos="5877000"/>
                <a:tab algn="l" pos="6326280"/>
                <a:tab algn="l" pos="6775560"/>
                <a:tab algn="l" pos="7224840"/>
                <a:tab algn="l" pos="7674120"/>
                <a:tab algn="l" pos="8123400"/>
                <a:tab algn="l" pos="8572680"/>
                <a:tab algn="l" pos="9021600"/>
                <a:tab algn="l" pos="9470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какой части страны расположе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7440" indent="-452520" algn="just">
              <a:lnSpc>
                <a:spcPct val="96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487440"/>
                <a:tab algn="l" pos="934920"/>
                <a:tab algn="l" pos="1384200"/>
                <a:tab algn="l" pos="1833480"/>
                <a:tab algn="l" pos="2282760"/>
                <a:tab algn="l" pos="2732040"/>
                <a:tab algn="l" pos="3181320"/>
                <a:tab algn="l" pos="3630600"/>
                <a:tab algn="l" pos="4079880"/>
                <a:tab algn="l" pos="4529160"/>
                <a:tab algn="l" pos="4978440"/>
                <a:tab algn="l" pos="5427720"/>
                <a:tab algn="l" pos="5877000"/>
                <a:tab algn="l" pos="6326280"/>
                <a:tab algn="l" pos="6775560"/>
                <a:tab algn="l" pos="7224840"/>
                <a:tab algn="l" pos="7674120"/>
                <a:tab algn="l" pos="8123400"/>
                <a:tab algn="l" pos="8572680"/>
                <a:tab algn="l" pos="9021600"/>
                <a:tab algn="l" pos="9470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ожение по отношению к соседним стран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7440" indent="-452520" algn="just">
              <a:lnSpc>
                <a:spcPct val="96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487440"/>
                <a:tab algn="l" pos="934920"/>
                <a:tab algn="l" pos="1384200"/>
                <a:tab algn="l" pos="1833480"/>
                <a:tab algn="l" pos="2282760"/>
                <a:tab algn="l" pos="2732040"/>
                <a:tab algn="l" pos="3181320"/>
                <a:tab algn="l" pos="3630600"/>
                <a:tab algn="l" pos="4079880"/>
                <a:tab algn="l" pos="4529160"/>
                <a:tab algn="l" pos="4978440"/>
                <a:tab algn="l" pos="5427720"/>
                <a:tab algn="l" pos="5877000"/>
                <a:tab algn="l" pos="6326280"/>
                <a:tab algn="l" pos="6775560"/>
                <a:tab algn="l" pos="7224840"/>
                <a:tab algn="l" pos="7674120"/>
                <a:tab algn="l" pos="8123400"/>
                <a:tab algn="l" pos="8572680"/>
                <a:tab algn="l" pos="9021600"/>
                <a:tab algn="l" pos="9470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ожение по отношению к океанам, морям, залив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7440" indent="-452520" algn="just">
              <a:lnSpc>
                <a:spcPct val="96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487440"/>
                <a:tab algn="l" pos="934920"/>
                <a:tab algn="l" pos="1384200"/>
                <a:tab algn="l" pos="1833480"/>
                <a:tab algn="l" pos="2282760"/>
                <a:tab algn="l" pos="2732040"/>
                <a:tab algn="l" pos="3181320"/>
                <a:tab algn="l" pos="3630600"/>
                <a:tab algn="l" pos="4079880"/>
                <a:tab algn="l" pos="4529160"/>
                <a:tab algn="l" pos="4978440"/>
                <a:tab algn="l" pos="5427720"/>
                <a:tab algn="l" pos="5877000"/>
                <a:tab algn="l" pos="6326280"/>
                <a:tab algn="l" pos="6775560"/>
                <a:tab algn="l" pos="7224840"/>
                <a:tab algn="l" pos="7674120"/>
                <a:tab algn="l" pos="8123400"/>
                <a:tab algn="l" pos="8572680"/>
                <a:tab algn="l" pos="9021600"/>
                <a:tab algn="l" pos="9470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имат полуостро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7440" indent="-452520" algn="just">
              <a:lnSpc>
                <a:spcPct val="96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487440"/>
                <a:tab algn="l" pos="934920"/>
                <a:tab algn="l" pos="1384200"/>
                <a:tab algn="l" pos="1833480"/>
                <a:tab algn="l" pos="2282760"/>
                <a:tab algn="l" pos="2732040"/>
                <a:tab algn="l" pos="3181320"/>
                <a:tab algn="l" pos="3630600"/>
                <a:tab algn="l" pos="4079880"/>
                <a:tab algn="l" pos="4529160"/>
                <a:tab algn="l" pos="4978440"/>
                <a:tab algn="l" pos="5427720"/>
                <a:tab algn="l" pos="5877000"/>
                <a:tab algn="l" pos="6326280"/>
                <a:tab algn="l" pos="6775560"/>
                <a:tab algn="l" pos="7224840"/>
                <a:tab algn="l" pos="7674120"/>
                <a:tab algn="l" pos="8123400"/>
                <a:tab algn="l" pos="8572680"/>
                <a:tab algn="l" pos="9021600"/>
                <a:tab algn="l" pos="9470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родные  зоны Крым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7440" indent="-452520" algn="just">
              <a:lnSpc>
                <a:spcPct val="96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487440"/>
                <a:tab algn="l" pos="934920"/>
                <a:tab algn="l" pos="1384200"/>
                <a:tab algn="l" pos="1833480"/>
                <a:tab algn="l" pos="2282760"/>
                <a:tab algn="l" pos="2732040"/>
                <a:tab algn="l" pos="3181320"/>
                <a:tab algn="l" pos="3630600"/>
                <a:tab algn="l" pos="4079880"/>
                <a:tab algn="l" pos="4529160"/>
                <a:tab algn="l" pos="4978440"/>
                <a:tab algn="l" pos="5427720"/>
                <a:tab algn="l" pos="5877000"/>
                <a:tab algn="l" pos="6326280"/>
                <a:tab algn="l" pos="6775560"/>
                <a:tab algn="l" pos="7224840"/>
                <a:tab algn="l" pos="7674120"/>
                <a:tab algn="l" pos="8123400"/>
                <a:tab algn="l" pos="8572680"/>
                <a:tab algn="l" pos="9021600"/>
                <a:tab algn="l" pos="9470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льеф полуостро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7440" indent="-452520" algn="just">
              <a:lnSpc>
                <a:spcPct val="96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487440"/>
                <a:tab algn="l" pos="934920"/>
                <a:tab algn="l" pos="1384200"/>
                <a:tab algn="l" pos="1833480"/>
                <a:tab algn="l" pos="2282760"/>
                <a:tab algn="l" pos="2732040"/>
                <a:tab algn="l" pos="3181320"/>
                <a:tab algn="l" pos="3630600"/>
                <a:tab algn="l" pos="4079880"/>
                <a:tab algn="l" pos="4529160"/>
                <a:tab algn="l" pos="4978440"/>
                <a:tab algn="l" pos="5427720"/>
                <a:tab algn="l" pos="5877000"/>
                <a:tab algn="l" pos="6326280"/>
                <a:tab algn="l" pos="6775560"/>
                <a:tab algn="l" pos="7224840"/>
                <a:tab algn="l" pos="7674120"/>
                <a:tab algn="l" pos="8123400"/>
                <a:tab algn="l" pos="8572680"/>
                <a:tab algn="l" pos="9021600"/>
                <a:tab algn="l" pos="9470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ожение по отношению к месторождениям природных ресур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7440" indent="-452520" algn="just">
              <a:lnSpc>
                <a:spcPct val="96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487440"/>
                <a:tab algn="l" pos="934920"/>
                <a:tab algn="l" pos="1384200"/>
                <a:tab algn="l" pos="1833480"/>
                <a:tab algn="l" pos="2282760"/>
                <a:tab algn="l" pos="2732040"/>
                <a:tab algn="l" pos="3181320"/>
                <a:tab algn="l" pos="3630600"/>
                <a:tab algn="l" pos="4079880"/>
                <a:tab algn="l" pos="4529160"/>
                <a:tab algn="l" pos="4978440"/>
                <a:tab algn="l" pos="5427720"/>
                <a:tab algn="l" pos="5877000"/>
                <a:tab algn="l" pos="6326280"/>
                <a:tab algn="l" pos="6775560"/>
                <a:tab algn="l" pos="7224840"/>
                <a:tab algn="l" pos="7674120"/>
                <a:tab algn="l" pos="8123400"/>
                <a:tab algn="l" pos="8572680"/>
                <a:tab algn="l" pos="9021600"/>
                <a:tab algn="l" pos="9470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ожение по отношению к транспортным пу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857920" y="4429080"/>
            <a:ext cx="2722680" cy="20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24000" y="333720"/>
            <a:ext cx="8496000" cy="5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0" bIns="45000" anchor="b">
            <a:sp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50151b"/>
                </a:solidFill>
                <a:latin typeface="Times New Roman"/>
              </a:rPr>
              <a:t>Географическое положение Кры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7120" y="981000"/>
            <a:ext cx="807264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2920" bIns="45000" anchor="t">
            <a:noAutofit/>
          </a:bodyPr>
          <a:p>
            <a:pPr marL="487440" indent="-452520" algn="just">
              <a:lnSpc>
                <a:spcPct val="96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487440"/>
                <a:tab algn="l" pos="934920"/>
                <a:tab algn="l" pos="1384200"/>
                <a:tab algn="l" pos="1833480"/>
                <a:tab algn="l" pos="2282760"/>
                <a:tab algn="l" pos="2732040"/>
                <a:tab algn="l" pos="3181320"/>
                <a:tab algn="l" pos="3630600"/>
                <a:tab algn="l" pos="4079880"/>
                <a:tab algn="l" pos="4529160"/>
                <a:tab algn="l" pos="4978440"/>
                <a:tab algn="l" pos="5427720"/>
                <a:tab algn="l" pos="5877000"/>
                <a:tab algn="l" pos="6326280"/>
                <a:tab algn="l" pos="6775560"/>
                <a:tab algn="l" pos="7224840"/>
                <a:tab algn="l" pos="7674120"/>
                <a:tab algn="l" pos="8123400"/>
                <a:tab algn="l" pos="8572680"/>
                <a:tab algn="l" pos="9021600"/>
                <a:tab algn="l" pos="947088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уостров в северной части Черного моря, окраинная юго-западная республика в составе Росс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7440" indent="-452520" algn="just">
              <a:lnSpc>
                <a:spcPct val="96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487440"/>
                <a:tab algn="l" pos="934920"/>
                <a:tab algn="l" pos="1384200"/>
                <a:tab algn="l" pos="1833480"/>
                <a:tab algn="l" pos="2282760"/>
                <a:tab algn="l" pos="2732040"/>
                <a:tab algn="l" pos="3181320"/>
                <a:tab algn="l" pos="3630600"/>
                <a:tab algn="l" pos="4079880"/>
                <a:tab algn="l" pos="4529160"/>
                <a:tab algn="l" pos="4978440"/>
                <a:tab algn="l" pos="5427720"/>
                <a:tab algn="l" pos="5877000"/>
                <a:tab algn="l" pos="6326280"/>
                <a:tab algn="l" pos="6775560"/>
                <a:tab algn="l" pos="7224840"/>
                <a:tab algn="l" pos="7674120"/>
                <a:tab algn="l" pos="8123400"/>
                <a:tab algn="l" pos="8572680"/>
                <a:tab algn="l" pos="9021600"/>
                <a:tab algn="l" pos="947088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 севера граничит с Украиной, имеет морские границы с Турцией, Болгарией, Румынией, Молдавией, Грузией, Абхази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7440" indent="-452520" algn="just">
              <a:lnSpc>
                <a:spcPct val="96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487440"/>
                <a:tab algn="l" pos="934920"/>
                <a:tab algn="l" pos="1384200"/>
                <a:tab algn="l" pos="1833480"/>
                <a:tab algn="l" pos="2282760"/>
                <a:tab algn="l" pos="2732040"/>
                <a:tab algn="l" pos="3181320"/>
                <a:tab algn="l" pos="3630600"/>
                <a:tab algn="l" pos="4079880"/>
                <a:tab algn="l" pos="4529160"/>
                <a:tab algn="l" pos="4978440"/>
                <a:tab algn="l" pos="5427720"/>
                <a:tab algn="l" pos="5877000"/>
                <a:tab algn="l" pos="6326280"/>
                <a:tab algn="l" pos="6775560"/>
                <a:tab algn="l" pos="7224840"/>
                <a:tab algn="l" pos="7674120"/>
                <a:tab algn="l" pos="8123400"/>
                <a:tab algn="l" pos="8572680"/>
                <a:tab algn="l" pos="9021600"/>
                <a:tab algn="l" pos="947088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лубоко выдаётся в Чёрное море, которым омывается с юга и запада, с востока омывается Азовским море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7440" indent="-452520" algn="just">
              <a:lnSpc>
                <a:spcPct val="96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487440"/>
                <a:tab algn="l" pos="934920"/>
                <a:tab algn="l" pos="1384200"/>
                <a:tab algn="l" pos="1833480"/>
                <a:tab algn="l" pos="2282760"/>
                <a:tab algn="l" pos="2732040"/>
                <a:tab algn="l" pos="3181320"/>
                <a:tab algn="l" pos="3630600"/>
                <a:tab algn="l" pos="4079880"/>
                <a:tab algn="l" pos="4529160"/>
                <a:tab algn="l" pos="4978440"/>
                <a:tab algn="l" pos="5427720"/>
                <a:tab algn="l" pos="5877000"/>
                <a:tab algn="l" pos="6326280"/>
                <a:tab algn="l" pos="6775560"/>
                <a:tab algn="l" pos="7224840"/>
                <a:tab algn="l" pos="7674120"/>
                <a:tab algn="l" pos="8123400"/>
                <a:tab algn="l" pos="8572680"/>
                <a:tab algn="l" pos="9021600"/>
                <a:tab algn="l" pos="947088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лимат северной части умеренно-континентальный, на южном берегу — с чертами похожими на субтропический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7440" indent="-452520" algn="just">
              <a:lnSpc>
                <a:spcPct val="96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487440"/>
                <a:tab algn="l" pos="934920"/>
                <a:tab algn="l" pos="1384200"/>
                <a:tab algn="l" pos="1833480"/>
                <a:tab algn="l" pos="2282760"/>
                <a:tab algn="l" pos="2732040"/>
                <a:tab algn="l" pos="3181320"/>
                <a:tab algn="l" pos="3630600"/>
                <a:tab algn="l" pos="4079880"/>
                <a:tab algn="l" pos="4529160"/>
                <a:tab algn="l" pos="4978440"/>
                <a:tab algn="l" pos="5427720"/>
                <a:tab algn="l" pos="5877000"/>
                <a:tab algn="l" pos="6326280"/>
                <a:tab algn="l" pos="6775560"/>
                <a:tab algn="l" pos="7224840"/>
                <a:tab algn="l" pos="7674120"/>
                <a:tab algn="l" pos="8123400"/>
                <a:tab algn="l" pos="8572680"/>
                <a:tab algn="l" pos="9021600"/>
                <a:tab algn="l" pos="947088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родные  зоны Крыма: лесостепи, степи; в горах – области высотной пояс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7440" indent="-452520" algn="just">
              <a:lnSpc>
                <a:spcPct val="96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487440"/>
                <a:tab algn="l" pos="934920"/>
                <a:tab algn="l" pos="1384200"/>
                <a:tab algn="l" pos="1833480"/>
                <a:tab algn="l" pos="2282760"/>
                <a:tab algn="l" pos="2732040"/>
                <a:tab algn="l" pos="3181320"/>
                <a:tab algn="l" pos="3630600"/>
                <a:tab algn="l" pos="4079880"/>
                <a:tab algn="l" pos="4529160"/>
                <a:tab algn="l" pos="4978440"/>
                <a:tab algn="l" pos="5427720"/>
                <a:tab algn="l" pos="5877000"/>
                <a:tab algn="l" pos="6326280"/>
                <a:tab algn="l" pos="6775560"/>
                <a:tab algn="l" pos="7224840"/>
                <a:tab algn="l" pos="7674120"/>
                <a:tab algn="l" pos="8123400"/>
                <a:tab algn="l" pos="8572680"/>
                <a:tab algn="l" pos="9021600"/>
                <a:tab algn="l" pos="947088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характеру рельефа полуостров делится на три неравные части: Северо-Крымская равнина с Тарханкутской возвышенностью (около 70 % территории), грядово-холмистые равнины Керченского полуострова с проявлением грязевого вулканизма и горный Крым, простирающийся тремя грядами — Главной (южной), Внутренней и Внешней (северной), разделёнными продольными равнин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7440" indent="-452520" algn="just">
              <a:lnSpc>
                <a:spcPct val="96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487440"/>
                <a:tab algn="l" pos="934920"/>
                <a:tab algn="l" pos="1384200"/>
                <a:tab algn="l" pos="1833480"/>
                <a:tab algn="l" pos="2282760"/>
                <a:tab algn="l" pos="2732040"/>
                <a:tab algn="l" pos="3181320"/>
                <a:tab algn="l" pos="3630600"/>
                <a:tab algn="l" pos="4079880"/>
                <a:tab algn="l" pos="4529160"/>
                <a:tab algn="l" pos="4978440"/>
                <a:tab algn="l" pos="5427720"/>
                <a:tab algn="l" pos="5877000"/>
                <a:tab algn="l" pos="6326280"/>
                <a:tab algn="l" pos="6775560"/>
                <a:tab algn="l" pos="7224840"/>
                <a:tab algn="l" pos="7674120"/>
                <a:tab algn="l" pos="8123400"/>
                <a:tab algn="l" pos="8572680"/>
                <a:tab algn="l" pos="9021600"/>
                <a:tab algn="l" pos="947088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лежи полезных ископаемых: нефти, природного газа, минеральных солей, строительного сырья, горючего газа, термальных вод, железной руд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7440" indent="-452520" algn="just">
              <a:lnSpc>
                <a:spcPct val="96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487440"/>
                <a:tab algn="l" pos="934920"/>
                <a:tab algn="l" pos="1384200"/>
                <a:tab algn="l" pos="1833480"/>
                <a:tab algn="l" pos="2282760"/>
                <a:tab algn="l" pos="2732040"/>
                <a:tab algn="l" pos="3181320"/>
                <a:tab algn="l" pos="3630600"/>
                <a:tab algn="l" pos="4079880"/>
                <a:tab algn="l" pos="4529160"/>
                <a:tab algn="l" pos="4978440"/>
                <a:tab algn="l" pos="5427720"/>
                <a:tab algn="l" pos="5877000"/>
                <a:tab algn="l" pos="6326280"/>
                <a:tab algn="l" pos="6775560"/>
                <a:tab algn="l" pos="7224840"/>
                <a:tab algn="l" pos="7674120"/>
                <a:tab algn="l" pos="8123400"/>
                <a:tab algn="l" pos="8572680"/>
                <a:tab algn="l" pos="9021600"/>
                <a:tab algn="l" pos="947088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ожение по отношению к транспортным путям: имеется международный аэропорт Симферополь. Портами Чёрного моря являются Евпатория, Севастополь, Ялта, Феодосия и Керчь. В Керчи находится паромная переправа через Керченский пролив, связывающая Крым с Краснодарским краем Росс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42472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5160" bIns="45000" anchor="t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50151b"/>
                </a:solidFill>
                <a:latin typeface="Times New Roman"/>
              </a:rPr>
              <a:t>План изучения природных особенностей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8424720" cy="63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1.Эндемики среди растений Крым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2.Реликтовые виды растен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3.Разнообразие  животных Крым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4.Животный мир Азовского и Черного мор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21800" y="785880"/>
            <a:ext cx="7450200" cy="15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120" bIns="45000" anchor="t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50151b"/>
                </a:solidFill>
                <a:latin typeface="Times New Roman"/>
              </a:rPr>
              <a:t>Эндемики Крыма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85840" y="3357720"/>
            <a:ext cx="8501040" cy="33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7240" bIns="45000" anchor="t">
            <a:normAutofit/>
          </a:bodyPr>
          <a:p>
            <a:pPr marL="343080" indent="0" algn="ctr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страгал               крымский эдельвей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214800" y="1000080"/>
            <a:ext cx="2533680" cy="2232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6072120" y="1000080"/>
            <a:ext cx="2476440" cy="22082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3286080" y="378612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285840" y="3286080"/>
            <a:ext cx="821520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00040" y="6286680"/>
            <a:ext cx="793908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85840" y="6199200"/>
            <a:ext cx="821520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ен Стевена                     чабр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5929200" y="3857760"/>
            <a:ext cx="2724120" cy="22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