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AFCD-9608-4889-AC56-0F4C3F8E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E05EE-511F-410B-A751-6BA05F15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C992-E9C8-4FBD-A7BE-8EF15B3E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59EE-EEC2-46CA-BE00-4A824826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5B38-AB4E-43BB-937C-829D7067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BD70-EF89-4D7B-BCB1-E5C2EA3E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DF27-D208-4243-83A3-5F47378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46D9-F9B6-49CF-AA59-46B1DA7B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E066-FB77-4958-8BFF-5445E208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CEDE-40D4-4F26-8621-24A70D54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F3E0-775D-42C3-8A3B-CBC48A9F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5F71-65CA-4B22-962B-E31368C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EB89-500A-4BEB-BC27-C80FE36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8C50-5917-4318-BDC4-17F2762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C57B-348C-4962-8E5A-13C26354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CC8-45E3-4BD2-AC0B-7D8E2730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544D-5A4E-4F6C-8926-512F8CCE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69C3-336C-4E90-8B6E-769156DC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6A05-254F-4F12-AB7E-700A167B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FD16-F593-494B-8D95-5FE4254A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ABE9-075C-40F0-8561-634FC176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1930-6D56-4F0D-A49E-7D791242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8E03-4D6B-43D6-BE5D-B17D3BA4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B592-2F71-4AE4-ADB4-E4DB5693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6AB2-2E63-4F0F-924A-FB928A36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D8A05-F862-4831-AB6A-2474E8C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495E-F3CA-47BD-B32E-0EF4AA0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258B-5A77-4142-9632-D6792873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5349-19C0-449A-91FB-E2B77A56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497A-6FEE-4BE6-9511-2BD11FBB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4913-3DD5-4976-8D66-1EAA0F6C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7861-A1E0-4F78-B9ED-E9719E2C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2B452-2E22-44F9-800E-84CBC41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689A-61AA-44EB-8113-4C411A4C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195E-134F-4ADD-AF32-83E87448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FA9F7-9878-478C-A462-79F98897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558D-E46B-46C4-94AE-FB246F94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1F30-90B8-43C8-AB7D-0281969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2717-2169-4447-B505-4766556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2E79-B4C9-4BA8-9D65-295D384A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E0D1-5331-448F-9DA7-1E230F81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664F-DEA2-464C-8AFB-D4CBFD3D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4669-052F-44E1-91B4-54F1449E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69E1-06E0-433A-A2D3-4623F769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4126-F7B6-4639-8544-41470DEC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7DA0-B264-4EC7-B684-2113B951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A22B-2E45-49AA-BE95-C09901F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2B19-67CF-46CB-98E5-95803F93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8EDE-364D-453C-A631-D841DD6685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9C3B-5CF2-415B-ADC4-9D370DBC9B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92FE-C4BB-4FB3-BDBD-3C6BF3FFBF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AAF6-E641-41E0-8193-6D79078292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Моя любимая книг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156360" y="5373360"/>
            <a:ext cx="273672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Выполнил Гоношилин Иван 6Б класс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Школа №18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 авторе книг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608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еймс Чайковски родился в Чикаго, США в многодетной семье. Детство Джима прошло на Среднем Западе и в сельских районах Кан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сательскую деятельность Джим начал ещё в 1995 году. Свой первый роман «Пещера» он написал ещё работая в ветеринарной клинике. С этим романом он обошел пятьдесят литагентов, лишь 50-й поверил в него и согласился представлять его интересы. В 1996 роман был продан издательству, но вышел лишь через три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2006 году он пишет книгу «Дар сгоревшего бог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Роллинс Джеймс - Собрание книг :: NoNaMe"/>
          <p:cNvPicPr/>
          <p:nvPr/>
        </p:nvPicPr>
        <p:blipFill>
          <a:blip r:embed="rId1"/>
          <a:stretch/>
        </p:blipFill>
        <p:spPr>
          <a:xfrm>
            <a:off x="6012000" y="1700280"/>
            <a:ext cx="294624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ермины книг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цари теней – воины, охраняющие бо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лар – бывший рыцарь теней, ставший б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ант – мальчик из Сейш Мэла, носивший камень Ривенскр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рт – дочь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ен – пес – призрак Да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рин Вейл – бывшая жена Тилара, смотрительни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фир – добрая часть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эфрин – злая часть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шижан – главная крепость рыцарей те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ггер – вор, помощник Тил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ань – прислужник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 чем книг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нига рассказывает о путешествиях Тилара, его длани, Роггера, Дарт и других, для спасения всего мира от нашествия наэфринов в их ми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ешествия длятся по несколько дней, герои разделяются, объединяются, и все сн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понять эту книгу нужно прочитать предысторию, первую часть «Хроники убийцы богов» - «И пала тьма…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нотация к книг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 разоренной Мириллии найден череп странного звероподобного существа, обладающий магическими свойствами. Кабал, заклятый враг Девяти земель, готовит новую войну богов и стремится любой ценой заполучить этот зловещий талисман. Но заговор Кабала — не единственная опасность, куда страшнее древняя угроза, что зреет в темных глубинах цитадели. Чтобы спасти мир от катастрофы, Тилар де Нох должен идти в окраинные земли, где рыщут бродячие боги и текут темные Милости и откуда не вернулся еще ни один рыцарь теней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а книга полна захватывающих приключений, интересных героев резкой сменой сюжетов, и ,конечно же, она огромна своим миром, ведь в начале каждой из книг можно увидеть карту этого воображаемого мира, он огром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чно же, в этой хронике есть большое количество битв и интр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очему мне нравится эта книг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Дар сгоревшего бога"/>
          <p:cNvPicPr/>
          <p:nvPr/>
        </p:nvPicPr>
        <p:blipFill>
          <a:blip r:embed="rId1"/>
          <a:stretch/>
        </p:blipFill>
        <p:spPr>
          <a:xfrm>
            <a:off x="3924360" y="3429000"/>
            <a:ext cx="4321080" cy="2641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0"/>
          <p:cNvSpPr/>
          <p:nvPr/>
        </p:nvSpPr>
        <p:spPr>
          <a:xfrm>
            <a:off x="1835280" y="4724280"/>
            <a:ext cx="2952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арта Милли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2b2b2"/>
                </a:solidFill>
                <a:latin typeface="Arial"/>
              </a:rPr>
              <a:t>Спасибо за просмотр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02:40:29Z</dcterms:created>
  <dc:creator>Диман</dc:creator>
  <dc:description/>
  <dc:language>en-US</dc:language>
  <cp:lastModifiedBy>user</cp:lastModifiedBy>
  <dcterms:modified xsi:type="dcterms:W3CDTF">2015-02-21T08:17:03Z</dcterms:modified>
  <cp:revision>3</cp:revision>
  <dc:subject/>
  <dc:title>Моя любимая книга</dc:title>
</cp:coreProperties>
</file>