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EB272-362C-4ED0-8FEB-80DBFB39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AD665-0160-408C-A388-98EA6231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AF577-B8C4-4B89-91AF-CDA7FBC3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610BE-B233-447F-B039-B4CA14798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974C-79C4-4AE0-9D2B-82FECEED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8375-8D4A-4982-8067-81C5040F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A649-46BE-4205-A8D4-85E4B418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7A62-780B-4B5A-B17D-1DE19604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B626-AA09-4DCA-93C8-EDF0470C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3F0A-5AB0-4D60-A127-37071F43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BBAF-CBEC-456D-BB7B-11835064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114DB-9CCF-4AB7-9D9D-2F07B668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5A6E-5442-41B5-A091-75D87B30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C5F1-9E25-4C3E-9069-11259611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AED6-CF92-470D-8B45-3D4AC924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6F6C-152F-41D7-B0D8-396C1E681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AF53-9F45-4B1F-86EA-7AFB74E7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241A9-3295-4834-B46D-B8100989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9E4B2-D607-4820-A8BC-6DF7C3B0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60354-13A9-424D-A42C-AA828090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C8042-3FA6-496D-B35A-1ECDA737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7F9C5-8AD1-4155-8A0D-3CEF7650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FAEF5-C213-4439-AAA2-66675C6C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EBAE4-A75D-42A7-A011-18A05DF3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0F975-1F24-4ABF-A9CD-6840142D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950B5-356A-420D-9249-3E37F6CF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D551E-78C4-4C05-9C2D-5BF41176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01A85-F612-4D4D-B61A-99EB0DC1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BBABE-E52C-4DB4-9FA1-34D97FDB9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87E18-D6DE-40A8-9FF0-F425B6FC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0C0CD-0BFF-43EE-B10A-3CBE8EEE5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49F01-07F4-4F16-952B-177E3705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313BF-32F9-4B67-A045-E3E9F5A9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93EDA-BFD9-4F21-8D74-E16CECB1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29193-76F2-4BFF-BC64-89C0FEC8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BEABA-6285-4FEB-B108-F29C5609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69E71-09BB-46D0-AD84-DA110134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0BCF0-120A-40DC-8114-147A6D18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C7EDA-278A-4AFB-8871-FDABBF34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CE433-FD49-4BC9-BBD0-EFDF1F48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F6377-DB27-47AE-9E2D-78D214B8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555D7-F364-426E-A9B3-9B18BEA21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2C879-2295-4679-B9D3-B1E70AF8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CC30E-19BA-4C2D-8680-D2CD3749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B1C25-5C48-4A1D-8F5B-E7285B11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A1BDD-9CB0-42DD-8FD0-288BA48C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89910-8C7C-47DC-990F-ABDB0874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21340-DE63-4F7E-8A53-646F7E90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C4DE-D557-424D-90F5-59CAD116A40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8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8EDF-63E5-4DEB-9723-0DCE127EF8B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08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AC3E-36A3-49E2-8713-0B98DB6CD95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64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CDD5-0681-4E93-BC0F-5D42CE47B78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Arial"/>
              </a:rPr>
              <a:t>Моя любимая книга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156360" y="5373360"/>
            <a:ext cx="273672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Выполнил Гоношилин Иван 6Б класс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Школа №18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Об авторе книг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6084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жеймс Чайковски родился в Чикаго, США в многодетной семье. Детство Джима прошло на Среднем Западе и в сельских районах Кана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исательскую деятельность Джим начал ещё в 1995 году. Свой первый роман «Пещера» он написал ещё работая в ветеринарной клинике. С этим романом он обошел пятьдесят литагентов, лишь 50-й поверил в него и согласился представлять его интересы. В 1996 роман был продан издательству, но вышел лишь через три го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2006 году он пишет книгу «Дар сгоревшего бог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5" descr="Роллинс Джеймс - Собрание книг :: NoNaMe"/>
          <p:cNvPicPr/>
          <p:nvPr/>
        </p:nvPicPr>
        <p:blipFill>
          <a:blip r:embed="rId1"/>
          <a:stretch/>
        </p:blipFill>
        <p:spPr>
          <a:xfrm>
            <a:off x="6012000" y="1700280"/>
            <a:ext cx="294624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Термины книги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ыцари теней – воины, охраняющие бог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илар – бывший рыцарь теней, ставший бог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рант – мальчик из Сейш Мэла, носивший камень Ривенскри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рт – дочь бог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Щен – пес – призрак Дар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трин Вейл – бывшая жена Тилара, смотрительниц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фир – добрая часть бог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эфрин – злая часть бог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шижан – главная крепость рыцарей тен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ггер – вор, помощник Тила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ань – прислужник бог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О чем книга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нига рассказывает о путешествиях Тилара, его длани, Роггера, Дарт и других, для спасения всего мира от нашествия наэфринов в их ми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ешествия длятся по несколько дней, герои разделяются, объединяются, и все сно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бы понять эту книгу нужно прочитать предысторию, первую часть «Хроники убийцы богов» - «И пала тьма…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нотация к книг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В разоренной Мириллии найден череп странного звероподобного существа, обладающий магическими свойствами. Кабал, заклятый враг Девяти земель, готовит новую войну богов и стремится любой ценой заполучить этот зловещий талисман. Но заговор Кабала — не единственная опасность, куда страшнее древняя угроза, что зреет в темных глубинах цитадели. Чтобы спасти мир от катастрофы, Тилар де Нох должен идти в окраинные земли, где рыщут бродячие боги и текут темные Милости и откуда не вернулся еще ни один рыцарь теней.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а книга полна захватывающих приключений, интересных героев резкой сменой сюжетов, и ,конечно же, она огромна своим миром, ведь в начале каждой из книг можно увидеть карту этого воображаемого мира, он огроме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ечно же, в этой хронике есть большое количество битв и интри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Почему мне нравится эта книга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7" descr="Дар сгоревшего бога"/>
          <p:cNvPicPr/>
          <p:nvPr/>
        </p:nvPicPr>
        <p:blipFill>
          <a:blip r:embed="rId1"/>
          <a:stretch/>
        </p:blipFill>
        <p:spPr>
          <a:xfrm>
            <a:off x="3924360" y="3429000"/>
            <a:ext cx="4321080" cy="264168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10"/>
          <p:cNvSpPr/>
          <p:nvPr/>
        </p:nvSpPr>
        <p:spPr>
          <a:xfrm>
            <a:off x="1835280" y="4724280"/>
            <a:ext cx="295272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Карта Миллир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24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b2b2b2"/>
                </a:solidFill>
                <a:latin typeface="Arial"/>
              </a:rPr>
              <a:t>Спасибо за просмотр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1T02:40:29Z</dcterms:created>
  <dc:creator>Диман</dc:creator>
  <dc:description/>
  <dc:language>en-US</dc:language>
  <cp:lastModifiedBy>user</cp:lastModifiedBy>
  <dcterms:modified xsi:type="dcterms:W3CDTF">2015-02-21T08:17:03Z</dcterms:modified>
  <cp:revision>3</cp:revision>
  <dc:subject/>
  <dc:title>Моя любимая книга</dc:title>
</cp:coreProperties>
</file>