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3.jpeg" ContentType="image/jpeg"/>
  <Override PartName="/ppt/media/image12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38.jpeg" ContentType="image/jpeg"/>
  <Override PartName="/ppt/media/image49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988F-0C61-4E79-9CC4-9C45D17A2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4C34-956C-48F5-A093-C782AAA01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2811-717F-429B-98E4-4B63F23C3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31F1-84BD-466D-B622-C5C4BB052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5BBF-DB40-4AB0-8864-C3F1C505B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70B2-7E8E-4F4E-A54F-7967E4637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8B9C-EBBE-4AD0-8CF9-F3BE2451E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F62D-DB77-4076-8766-618995A22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56FE-0226-4D10-8A8D-EF2AB993D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16FD-B7A8-4B16-86A8-6C5ECA41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294A-BD45-480B-9B28-6D49059C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1DB1-0725-46D6-87AB-E812A8F4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C4AE0-A036-4744-88F8-4DC13809A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hyperlink" Target="http://img-fotki.yandex.ru/get/4511/galikos.6b/0_484ae_325522c0_XL" TargetMode="External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hyperlink" Target="http://s49.radikal.ru/i126/1104/0a/5a5592c44e84.jpg" TargetMode="External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live4fun.ru/small_pictures/img_26357000_45_1.jpg" TargetMode="External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hyperlink" Target="http://www.yaplakal.com/uploads/post-3-13120211854954.jpg" TargetMode="External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g-fotki.yandex.ru/get/4806/a-s-vesna.22/0_4bcd6_e443c756_XL" TargetMode="External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png"/><Relationship Id="rId6" Type="http://schemas.openxmlformats.org/officeDocument/2006/relationships/image" Target="../media/image45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oraprint.ru/orapix/otkrytka-1861.png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hyperlink" Target="http://oraprint.ru/orapix/otkrytka-1900.png" TargetMode="External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zokblog.pl/Graphics/Pictures/1262193315704124162.jpg" TargetMode="External"/><Relationship Id="rId3" Type="http://schemas.openxmlformats.org/officeDocument/2006/relationships/image" Target="../media/image9.jpeg"/><Relationship Id="rId4" Type="http://schemas.openxmlformats.org/officeDocument/2006/relationships/hyperlink" Target="http://img-fotki.yandex.ru/get/5815/89635038.6bd/0_72deb_6b9e056c_XL" TargetMode="External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uga.ru/media/cards_271202_02.jpg" TargetMode="External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hyperlink" Target="http://i068.radikal.ru/0810/51/26b3539a59c5.jpg" TargetMode="External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33"/>
                </a:solidFill>
                <a:latin typeface="Arial"/>
              </a:rPr>
              <a:t>История </a:t>
            </a:r>
            <a:br>
              <a:rPr sz="6000"/>
            </a:br>
            <a:r>
              <a:rPr b="1" lang="en-US" sz="6000" spc="-1" strike="noStrike">
                <a:solidFill>
                  <a:srgbClr val="660033"/>
                </a:solidFill>
                <a:latin typeface="Arial"/>
              </a:rPr>
              <a:t>почтовой открытк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920" y="5805000"/>
            <a:ext cx="6400800" cy="2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ила: Коробкова Влада, 3А клас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ководитель: Богданова О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13793530_1_25"/>
          <p:cNvPicPr/>
          <p:nvPr/>
        </p:nvPicPr>
        <p:blipFill>
          <a:blip r:embed="rId2"/>
          <a:stretch/>
        </p:blipFill>
        <p:spPr>
          <a:xfrm rot="21154800">
            <a:off x="323640" y="2637000"/>
            <a:ext cx="2392200" cy="3933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13793229_1_23"/>
          <p:cNvPicPr/>
          <p:nvPr/>
        </p:nvPicPr>
        <p:blipFill>
          <a:blip r:embed="rId3"/>
          <a:stretch/>
        </p:blipFill>
        <p:spPr>
          <a:xfrm rot="21088800">
            <a:off x="2411280" y="404640"/>
            <a:ext cx="2403720" cy="3743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247"/>
          <p:cNvPicPr/>
          <p:nvPr/>
        </p:nvPicPr>
        <p:blipFill>
          <a:blip r:embed="rId4"/>
          <a:stretch/>
        </p:blipFill>
        <p:spPr>
          <a:xfrm rot="699600">
            <a:off x="5292360" y="476280"/>
            <a:ext cx="2227320" cy="3529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246"/>
          <p:cNvPicPr/>
          <p:nvPr/>
        </p:nvPicPr>
        <p:blipFill>
          <a:blip r:embed="rId5"/>
          <a:stretch/>
        </p:blipFill>
        <p:spPr>
          <a:xfrm rot="490200">
            <a:off x="6516720" y="3500280"/>
            <a:ext cx="2006640" cy="31687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0"/>
          <p:cNvSpPr/>
          <p:nvPr/>
        </p:nvSpPr>
        <p:spPr>
          <a:xfrm>
            <a:off x="2916360" y="4149720"/>
            <a:ext cx="345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 и во всём мире первые открытки были посвящены Рождеству и Новому г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7640" y="3789000"/>
            <a:ext cx="5411880" cy="27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начала русские открытки были копиями иностранных, позже художники стали отображать особенности жизни и традиций Росс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012"/>
          <p:cNvPicPr/>
          <p:nvPr/>
        </p:nvPicPr>
        <p:blipFill>
          <a:blip r:embed="rId2"/>
          <a:stretch/>
        </p:blipFill>
        <p:spPr>
          <a:xfrm>
            <a:off x="250920" y="260280"/>
            <a:ext cx="5184720" cy="3318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287"/>
          <p:cNvPicPr/>
          <p:nvPr/>
        </p:nvPicPr>
        <p:blipFill>
          <a:blip r:embed="rId3"/>
          <a:stretch/>
        </p:blipFill>
        <p:spPr>
          <a:xfrm>
            <a:off x="5651640" y="692280"/>
            <a:ext cx="328608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6"/>
          <p:cNvPicPr/>
          <p:nvPr/>
        </p:nvPicPr>
        <p:blipFill>
          <a:blip r:embed="rId2"/>
          <a:stretch/>
        </p:blipFill>
        <p:spPr>
          <a:xfrm>
            <a:off x="179280" y="2349360"/>
            <a:ext cx="3600720" cy="2328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12"/>
          <p:cNvPicPr/>
          <p:nvPr/>
        </p:nvPicPr>
        <p:blipFill>
          <a:blip r:embed="rId3"/>
          <a:stretch/>
        </p:blipFill>
        <p:spPr>
          <a:xfrm>
            <a:off x="6516720" y="189000"/>
            <a:ext cx="2322360" cy="3671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1165584163_rossiyanach-20v"/>
          <p:cNvPicPr/>
          <p:nvPr/>
        </p:nvPicPr>
        <p:blipFill>
          <a:blip r:embed="rId4"/>
          <a:stretch/>
        </p:blipFill>
        <p:spPr>
          <a:xfrm>
            <a:off x="250920" y="189000"/>
            <a:ext cx="3168720" cy="1992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Картинка 167 из 4441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067280" y="260280"/>
            <a:ext cx="2168280" cy="3456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560" y="4941360"/>
            <a:ext cx="3816360" cy="19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крытки выпускались и для богатых и для менее обеспеченных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8000" y="4005000"/>
            <a:ext cx="54720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которые открытки напомин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убочные картинки. Они такж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крашали жилище, им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учительные надписи. Иногда п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им даже учились грамо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bem_16"/>
          <p:cNvPicPr/>
          <p:nvPr/>
        </p:nvPicPr>
        <p:blipFill>
          <a:blip r:embed="rId2"/>
          <a:stretch/>
        </p:blipFill>
        <p:spPr>
          <a:xfrm>
            <a:off x="250920" y="189000"/>
            <a:ext cx="5064120" cy="3798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bem_18"/>
          <p:cNvPicPr/>
          <p:nvPr/>
        </p:nvPicPr>
        <p:blipFill>
          <a:blip r:embed="rId3"/>
          <a:stretch/>
        </p:blipFill>
        <p:spPr>
          <a:xfrm>
            <a:off x="5508720" y="1628640"/>
            <a:ext cx="352404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8920" y="3860280"/>
            <a:ext cx="37450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ехнический прогре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вёл к тому, ч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ткрытки все меньше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еньше делались вручн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 примене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ригинальных технолог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  стали печататься 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абриках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90b275cccd33 (640x412, 72Kb)"/>
          <p:cNvPicPr/>
          <p:nvPr/>
        </p:nvPicPr>
        <p:blipFill>
          <a:blip r:embed="rId2"/>
          <a:stretch/>
        </p:blipFill>
        <p:spPr>
          <a:xfrm>
            <a:off x="179280" y="260280"/>
            <a:ext cx="5480280" cy="3527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36290603 (640x409, 51Kb)"/>
          <p:cNvPicPr/>
          <p:nvPr/>
        </p:nvPicPr>
        <p:blipFill>
          <a:blip r:embed="rId3"/>
          <a:stretch/>
        </p:blipFill>
        <p:spPr>
          <a:xfrm>
            <a:off x="4067280" y="3535200"/>
            <a:ext cx="4800600" cy="3068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Картинка 451 из 44413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443640" y="189000"/>
            <a:ext cx="20271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250920" y="4469040"/>
            <a:ext cx="201744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16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крытки конец 19 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9" descr="491670ca2164"/>
          <p:cNvPicPr/>
          <p:nvPr/>
        </p:nvPicPr>
        <p:blipFill>
          <a:blip r:embed="rId2"/>
          <a:stretch/>
        </p:blipFill>
        <p:spPr>
          <a:xfrm rot="21366600">
            <a:off x="311040" y="268200"/>
            <a:ext cx="2836800" cy="4176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 "/>
          <p:cNvPicPr/>
          <p:nvPr/>
        </p:nvPicPr>
        <p:blipFill>
          <a:blip r:embed="rId3"/>
          <a:stretch/>
        </p:blipFill>
        <p:spPr>
          <a:xfrm>
            <a:off x="3376440" y="189000"/>
            <a:ext cx="2832120" cy="4535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 "/>
          <p:cNvPicPr/>
          <p:nvPr/>
        </p:nvPicPr>
        <p:blipFill>
          <a:blip r:embed="rId4"/>
          <a:stretch/>
        </p:blipFill>
        <p:spPr>
          <a:xfrm>
            <a:off x="6372360" y="2276640"/>
            <a:ext cx="2555640" cy="4105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76041427_vis08a"/>
          <p:cNvPicPr/>
          <p:nvPr/>
        </p:nvPicPr>
        <p:blipFill>
          <a:blip r:embed="rId5"/>
          <a:stretch/>
        </p:blipFill>
        <p:spPr>
          <a:xfrm rot="800400">
            <a:off x="2484000" y="4149720"/>
            <a:ext cx="3311640" cy="23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560" y="333000"/>
            <a:ext cx="84358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сле революции 1917 года открытка стала отражать  новую жизнь народа. Чаще всего открытки выпускались к знаменательным дат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Картинка 16 из 44400">
            <a:hlinkClick r:id="rId2"/>
          </p:cNvPr>
          <p:cNvPicPr/>
          <p:nvPr/>
        </p:nvPicPr>
        <p:blipFill>
          <a:blip r:embed="rId3"/>
          <a:stretch/>
        </p:blipFill>
        <p:spPr>
          <a:xfrm rot="20841000">
            <a:off x="684360" y="2420640"/>
            <a:ext cx="2714400" cy="3809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8marta-56_SH01798_enl"/>
          <p:cNvPicPr/>
          <p:nvPr/>
        </p:nvPicPr>
        <p:blipFill>
          <a:blip r:embed="rId4"/>
          <a:stretch/>
        </p:blipFill>
        <p:spPr>
          <a:xfrm>
            <a:off x="3635280" y="1700280"/>
            <a:ext cx="2519280" cy="3456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0_7a801_decd5ac5_XL"/>
          <p:cNvPicPr/>
          <p:nvPr/>
        </p:nvPicPr>
        <p:blipFill>
          <a:blip r:embed="rId5"/>
          <a:stretch/>
        </p:blipFill>
        <p:spPr>
          <a:xfrm rot="631200">
            <a:off x="6264000" y="2884320"/>
            <a:ext cx="2500200" cy="34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469728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тяжёлые годы Великой Отечественной войны открытка служила мостиком между жизнью и смертью. Она приносила весточки с фронта. Она подбадривала солдат и сообщала им новости из далёкого, но такого родного дом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6"/>
          <p:cNvPicPr/>
          <p:nvPr/>
        </p:nvPicPr>
        <p:blipFill>
          <a:blip r:embed="rId2"/>
          <a:stretch/>
        </p:blipFill>
        <p:spPr>
          <a:xfrm>
            <a:off x="179280" y="189000"/>
            <a:ext cx="4105440" cy="2820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Картинка 7 из 6675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67280" y="1413000"/>
            <a:ext cx="475272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Картинка 230 из 44415">
            <a:hlinkClick r:id="rId2"/>
          </p:cNvPr>
          <p:cNvPicPr/>
          <p:nvPr/>
        </p:nvPicPr>
        <p:blipFill>
          <a:blip r:embed="rId3"/>
          <a:stretch/>
        </p:blipFill>
        <p:spPr>
          <a:xfrm rot="20828400">
            <a:off x="468360" y="404280"/>
            <a:ext cx="2685960" cy="38102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Картинка 267 из 44414"/>
          <p:cNvPicPr/>
          <p:nvPr/>
        </p:nvPicPr>
        <p:blipFill>
          <a:blip r:embed="rId4"/>
          <a:stretch/>
        </p:blipFill>
        <p:spPr>
          <a:xfrm>
            <a:off x="3419640" y="189000"/>
            <a:ext cx="2685960" cy="3809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1" descr="Картинка 367 из 44414"/>
          <p:cNvPicPr/>
          <p:nvPr/>
        </p:nvPicPr>
        <p:blipFill>
          <a:blip r:embed="rId5"/>
          <a:stretch/>
        </p:blipFill>
        <p:spPr>
          <a:xfrm>
            <a:off x="6227640" y="2708280"/>
            <a:ext cx="2752920" cy="3809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Картинка 207 из 44415"/>
          <p:cNvPicPr/>
          <p:nvPr/>
        </p:nvPicPr>
        <p:blipFill>
          <a:blip r:embed="rId6"/>
          <a:stretch/>
        </p:blipFill>
        <p:spPr>
          <a:xfrm>
            <a:off x="1979640" y="4116240"/>
            <a:ext cx="3475080" cy="25099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3"/>
          <p:cNvSpPr/>
          <p:nvPr/>
        </p:nvSpPr>
        <p:spPr>
          <a:xfrm>
            <a:off x="6118200" y="476280"/>
            <a:ext cx="2846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послевоенные годы  открытки стали ещё более яркими и красоч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219640" y="620280"/>
            <a:ext cx="36734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крытки всегда приносят радость, красоту и добрые пожелания в каждый до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Картинка 3 из 42497"/>
          <p:cNvPicPr/>
          <p:nvPr/>
        </p:nvPicPr>
        <p:blipFill>
          <a:blip r:embed="rId2"/>
          <a:stretch/>
        </p:blipFill>
        <p:spPr>
          <a:xfrm>
            <a:off x="155520" y="46080"/>
            <a:ext cx="5076720" cy="36385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Картинка 36 из 44400"/>
          <p:cNvPicPr/>
          <p:nvPr/>
        </p:nvPicPr>
        <p:blipFill>
          <a:blip r:embed="rId3"/>
          <a:stretch/>
        </p:blipFill>
        <p:spPr>
          <a:xfrm>
            <a:off x="3708360" y="3141720"/>
            <a:ext cx="5076720" cy="353376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8"/>
          <p:cNvSpPr/>
          <p:nvPr/>
        </p:nvSpPr>
        <p:spPr>
          <a:xfrm>
            <a:off x="108000" y="3645000"/>
            <a:ext cx="36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ни созда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тмосферу праздника, выражают отношение людей друг к другу, оставляют в памяти наиболее важные события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ели и 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знать историю появления почтовых поздравительных открыток в разных стран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вые упоминания о почтовых открытках в Ро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ды почтовых открыток в ССС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ль почтовых открыток в разные време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здравительные открытки учащихся 3 А клас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C:\Documents and Settings\МирошинаНГ\Рабочий стол\DSC02711.JPG"/>
          <p:cNvPicPr/>
          <p:nvPr/>
        </p:nvPicPr>
        <p:blipFill>
          <a:blip r:embed="rId2"/>
          <a:srcRect l="14737" t="0" r="9854" b="0"/>
          <a:stretch/>
        </p:blipFill>
        <p:spPr>
          <a:xfrm>
            <a:off x="1428840" y="1500120"/>
            <a:ext cx="621504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зультаты анкетир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 получаете почтовые поздравительные открытки?   0 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 посылаете открытки по почте? 0 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раните ли Вы открытки прошлых лет? 9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читываете ли их?   3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лаете ли открытки своими руками?5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4941360"/>
            <a:ext cx="9036000" cy="19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660033"/>
                </a:solidFill>
                <a:latin typeface="Arial"/>
              </a:rPr>
              <a:t>Собирайте открытки… дарите открытки… получайте открытки в подарок и на память… ищите именно свою, оригинальную и уникальную карточку, которая сможет донести получателю ваши эмоции и настроение, сообщить то, что не всегда можно выразить словами…</a:t>
            </a: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39"/>
          <p:cNvPicPr/>
          <p:nvPr/>
        </p:nvPicPr>
        <p:blipFill>
          <a:blip r:embed="rId2"/>
          <a:stretch/>
        </p:blipFill>
        <p:spPr>
          <a:xfrm>
            <a:off x="1116000" y="115920"/>
            <a:ext cx="6480360" cy="48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писок использованных источ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11280" y="270792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nsportal.ru/shkola/klassnoe-rukovodstvo/library/prezentatsiya-istoriya-otkryt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89000"/>
            <a:ext cx="8820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крытка не имеет одной, точно определенной даты рождения. Разберемся, что же представляет собой открытка. Русское слово "открытка" - это не что иное, как сокращение от "открытое письмо", письмо, которое можно отправить без конверта, в открытом виде, и любой может его прочитать. Такие открытые письма были самым дешевым видом почтового сообщения и первоначально представляли собой простые белые карточки, без рисунк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первая почтовая открытка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3860640"/>
            <a:ext cx="4257720" cy="2846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otkr002"/>
          <p:cNvPicPr/>
          <p:nvPr/>
        </p:nvPicPr>
        <p:blipFill>
          <a:blip r:embed="rId4"/>
          <a:stretch/>
        </p:blipFill>
        <p:spPr>
          <a:xfrm>
            <a:off x="4500720" y="3860640"/>
            <a:ext cx="4321080" cy="27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71280" y="259920"/>
            <a:ext cx="684036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уществует несколько версий появления первых рисованных открыток. Разные страны спорят за пальму первенства в данном вопросе. Французы говорят, что местный "Парижский почтовый альманах" рассылал открытки ещё в 1777 году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0_75177_a92a95f1_XL"/>
          <p:cNvPicPr/>
          <p:nvPr/>
        </p:nvPicPr>
        <p:blipFill>
          <a:blip r:embed="rId2"/>
          <a:stretch/>
        </p:blipFill>
        <p:spPr>
          <a:xfrm>
            <a:off x="2771640" y="2637000"/>
            <a:ext cx="250524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Первая английская открытка"/>
          <p:cNvPicPr/>
          <p:nvPr/>
        </p:nvPicPr>
        <p:blipFill>
          <a:blip r:embed="rId2"/>
          <a:stretch/>
        </p:blipFill>
        <p:spPr>
          <a:xfrm>
            <a:off x="1619280" y="260280"/>
            <a:ext cx="5716440" cy="36403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6"/>
          <p:cNvSpPr/>
          <p:nvPr/>
        </p:nvSpPr>
        <p:spPr>
          <a:xfrm>
            <a:off x="324000" y="3930840"/>
            <a:ext cx="8339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гличане голосуют за 1794 г., когда некий художник Добсон отправил своему другу изображение счастливого семейства вокруг елки с поздравительным посланием на другой стороне. И так далее и тому подоб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но несомненно - первые открытки появились именно к Рождеств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4797360"/>
            <a:ext cx="8964720" cy="20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зднее, в начале XIX века диапазон выпускаемых открыток расширяется, и к рождественским добавляются новогодние, а также столь популярные сегодня "валентинки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300px-Burns_on_Ayr_Postcard_1899"/>
          <p:cNvPicPr/>
          <p:nvPr/>
        </p:nvPicPr>
        <p:blipFill>
          <a:blip r:embed="rId2"/>
          <a:stretch/>
        </p:blipFill>
        <p:spPr>
          <a:xfrm rot="20448600">
            <a:off x="412560" y="798480"/>
            <a:ext cx="2950920" cy="2224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дизайн и печать открыток">
            <a:hlinkClick r:id="rId3"/>
          </p:cNvPr>
          <p:cNvPicPr/>
          <p:nvPr/>
        </p:nvPicPr>
        <p:blipFill>
          <a:blip r:embed="rId4"/>
          <a:stretch/>
        </p:blipFill>
        <p:spPr>
          <a:xfrm rot="906600">
            <a:off x="5219640" y="549360"/>
            <a:ext cx="3527640" cy="2417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egg"/>
          <p:cNvPicPr/>
          <p:nvPr/>
        </p:nvPicPr>
        <p:blipFill>
          <a:blip r:embed="rId5"/>
          <a:stretch/>
        </p:blipFill>
        <p:spPr>
          <a:xfrm>
            <a:off x="3086280" y="1125360"/>
            <a:ext cx="234288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156000" y="260280"/>
            <a:ext cx="2808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о середины XIX века открытки изготавливались, как правило, вручную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Картинка 26 из 44400">
            <a:hlinkClick r:id="rId2"/>
          </p:cNvPr>
          <p:cNvPicPr/>
          <p:nvPr/>
        </p:nvPicPr>
        <p:blipFill>
          <a:blip r:embed="rId3"/>
          <a:stretch/>
        </p:blipFill>
        <p:spPr>
          <a:xfrm rot="20898000">
            <a:off x="755640" y="1267920"/>
            <a:ext cx="3017880" cy="4680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Картинка 34 из 44400">
            <a:hlinkClick r:id="rId4"/>
          </p:cNvPr>
          <p:cNvPicPr/>
          <p:nvPr/>
        </p:nvPicPr>
        <p:blipFill>
          <a:blip r:embed="rId5"/>
          <a:stretch/>
        </p:blipFill>
        <p:spPr>
          <a:xfrm rot="553200">
            <a:off x="6443280" y="2565000"/>
            <a:ext cx="2314440" cy="3809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1262520544_6d7692e21597"/>
          <p:cNvPicPr/>
          <p:nvPr/>
        </p:nvPicPr>
        <p:blipFill>
          <a:blip r:embed="rId6"/>
          <a:stretch/>
        </p:blipFill>
        <p:spPr>
          <a:xfrm>
            <a:off x="3780000" y="260280"/>
            <a:ext cx="26128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03280" y="188640"/>
            <a:ext cx="39610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 многих странах открытки продавались долгое время в виде сувенира…                                    С изобретением фотографий некоторые открытки выпускались в виде фотооткры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Картинка 10 из 6675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5520" y="46080"/>
            <a:ext cx="2538360" cy="3382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0_68816_a4444206_XXL"/>
          <p:cNvPicPr/>
          <p:nvPr/>
        </p:nvPicPr>
        <p:blipFill>
          <a:blip r:embed="rId4"/>
          <a:stretch/>
        </p:blipFill>
        <p:spPr>
          <a:xfrm>
            <a:off x="395280" y="3500280"/>
            <a:ext cx="2114640" cy="3095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Картинка 38 из 6914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43280" y="260280"/>
            <a:ext cx="2405160" cy="3959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gallery_356314_3916_110042"/>
          <p:cNvPicPr/>
          <p:nvPr/>
        </p:nvPicPr>
        <p:blipFill>
          <a:blip r:embed="rId7"/>
          <a:stretch/>
        </p:blipFill>
        <p:spPr>
          <a:xfrm>
            <a:off x="4788000" y="4149720"/>
            <a:ext cx="3959280" cy="25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284720" y="3212640"/>
            <a:ext cx="4751280" cy="22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вые россий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крытки были напечат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олько в 1872 году и они 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мели рисунка. Одна 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иболее ранн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исов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здравит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рточек была создана в 1892 год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Рождественская открытка конца 19 столетия."/>
          <p:cNvPicPr/>
          <p:nvPr/>
        </p:nvPicPr>
        <p:blipFill>
          <a:blip r:embed="rId2"/>
          <a:stretch/>
        </p:blipFill>
        <p:spPr>
          <a:xfrm>
            <a:off x="395280" y="476280"/>
            <a:ext cx="3902040" cy="6121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Рождество"/>
          <p:cNvPicPr/>
          <p:nvPr/>
        </p:nvPicPr>
        <p:blipFill>
          <a:blip r:embed="rId3"/>
          <a:stretch/>
        </p:blipFill>
        <p:spPr>
          <a:xfrm>
            <a:off x="4427640" y="189000"/>
            <a:ext cx="4530600" cy="29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15:26:26Z</dcterms:created>
  <dc:creator>User</dc:creator>
  <dc:description/>
  <dc:language>en-US</dc:language>
  <cp:lastModifiedBy>User</cp:lastModifiedBy>
  <dcterms:modified xsi:type="dcterms:W3CDTF">2015-05-01T17:07:06Z</dcterms:modified>
  <cp:revision>39</cp:revision>
  <dc:subject/>
  <dc:title>Слайд 1</dc:title>
</cp:coreProperties>
</file>