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DC9-C952-4D3C-84B7-849BE901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1A6-8955-4EC9-871E-79B248C5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160-DA7B-486A-86FB-5FFEAACD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FEF-F425-4A90-84A8-530BC998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DEC-1119-4277-A42E-20E640E8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A08-DDD8-4E75-8CB2-3FD0A79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04A-585D-450D-8FBA-53AB2794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C95-B472-4D84-88F8-EA3004AF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9AD-4D4F-4417-A51A-51AF7D4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949-7E69-4F5D-A4E1-9EE71C8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C01-D49A-46F1-8219-B1044CA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9A7-D5D5-45CE-8EA8-C10E0C7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8CB-1870-4528-B6F5-713AA164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img-fotki.yandex.ru/get/4511/galikos.6b/0_484ae_325522c0_XL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s49.radikal.ru/i126/1104/0a/5a5592c44e84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ve4fun.ru/small_pictures/img_26357000_45_1.jpg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hyperlink" Target="http://www.yaplakal.com/uploads/post-3-13120211854954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4806/a-s-vesna.22/0_4bcd6_e443c756_XL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raprint.ru/orapix/otkrytka-1861.pn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oraprint.ru/orapix/otkrytka-1900.png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zokblog.pl/Graphics/Pictures/1262193315704124162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5815/89635038.6bd/0_72deb_6b9e056c_X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uga.ru/media/cards_271202_02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i068.radikal.ru/0810/51/26b3539a59c5.jpg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История </a:t>
            </a:r>
            <a:br>
              <a:rPr sz="6000"/>
            </a:b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почтовой открыт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05000"/>
            <a:ext cx="6400800" cy="2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Коробкова Влада, 3А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Богдан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793530_1_25"/>
          <p:cNvPicPr/>
          <p:nvPr/>
        </p:nvPicPr>
        <p:blipFill>
          <a:blip r:embed="rId2"/>
          <a:stretch/>
        </p:blipFill>
        <p:spPr>
          <a:xfrm rot="21154800">
            <a:off x="323640" y="2637000"/>
            <a:ext cx="2392200" cy="39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3793229_1_23"/>
          <p:cNvPicPr/>
          <p:nvPr/>
        </p:nvPicPr>
        <p:blipFill>
          <a:blip r:embed="rId3"/>
          <a:stretch/>
        </p:blipFill>
        <p:spPr>
          <a:xfrm rot="21088800">
            <a:off x="2411280" y="404640"/>
            <a:ext cx="2403720" cy="374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247"/>
          <p:cNvPicPr/>
          <p:nvPr/>
        </p:nvPicPr>
        <p:blipFill>
          <a:blip r:embed="rId4"/>
          <a:stretch/>
        </p:blipFill>
        <p:spPr>
          <a:xfrm rot="699600">
            <a:off x="5292360" y="476280"/>
            <a:ext cx="222732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46"/>
          <p:cNvPicPr/>
          <p:nvPr/>
        </p:nvPicPr>
        <p:blipFill>
          <a:blip r:embed="rId5"/>
          <a:stretch/>
        </p:blipFill>
        <p:spPr>
          <a:xfrm rot="490200">
            <a:off x="6516720" y="3500280"/>
            <a:ext cx="200664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2916360" y="414972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и во всём мире первые открытки были посвящены Рождеству и Новому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40" y="3789000"/>
            <a:ext cx="541188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ачала русские открытки были копиями иностранных, позже художники стали отображать особенности жизни и традиций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12"/>
          <p:cNvPicPr/>
          <p:nvPr/>
        </p:nvPicPr>
        <p:blipFill>
          <a:blip r:embed="rId2"/>
          <a:stretch/>
        </p:blipFill>
        <p:spPr>
          <a:xfrm>
            <a:off x="250920" y="260280"/>
            <a:ext cx="5184720" cy="331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87"/>
          <p:cNvPicPr/>
          <p:nvPr/>
        </p:nvPicPr>
        <p:blipFill>
          <a:blip r:embed="rId3"/>
          <a:stretch/>
        </p:blipFill>
        <p:spPr>
          <a:xfrm>
            <a:off x="5651640" y="692280"/>
            <a:ext cx="3286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6"/>
          <p:cNvPicPr/>
          <p:nvPr/>
        </p:nvPicPr>
        <p:blipFill>
          <a:blip r:embed="rId2"/>
          <a:stretch/>
        </p:blipFill>
        <p:spPr>
          <a:xfrm>
            <a:off x="179280" y="2349360"/>
            <a:ext cx="3600720" cy="23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2"/>
          <p:cNvPicPr/>
          <p:nvPr/>
        </p:nvPicPr>
        <p:blipFill>
          <a:blip r:embed="rId3"/>
          <a:stretch/>
        </p:blipFill>
        <p:spPr>
          <a:xfrm>
            <a:off x="6516720" y="189000"/>
            <a:ext cx="2322360" cy="36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65584163_rossiyanach-20v"/>
          <p:cNvPicPr/>
          <p:nvPr/>
        </p:nvPicPr>
        <p:blipFill>
          <a:blip r:embed="rId4"/>
          <a:stretch/>
        </p:blipFill>
        <p:spPr>
          <a:xfrm>
            <a:off x="250920" y="189000"/>
            <a:ext cx="3168720" cy="199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артинка 167 из 444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260280"/>
            <a:ext cx="2168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3816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ыпускались и для богатых и для менее обеспечен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4005000"/>
            <a:ext cx="547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открытки напоми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бочные картинки. Они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рашали жилище, и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учительные надписи. Иногд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м даже учились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em_16"/>
          <p:cNvPicPr/>
          <p:nvPr/>
        </p:nvPicPr>
        <p:blipFill>
          <a:blip r:embed="rId2"/>
          <a:stretch/>
        </p:blipFill>
        <p:spPr>
          <a:xfrm>
            <a:off x="250920" y="189000"/>
            <a:ext cx="5064120" cy="379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bem_18"/>
          <p:cNvPicPr/>
          <p:nvPr/>
        </p:nvPicPr>
        <p:blipFill>
          <a:blip r:embed="rId3"/>
          <a:stretch/>
        </p:blipFill>
        <p:spPr>
          <a:xfrm>
            <a:off x="5508720" y="1628640"/>
            <a:ext cx="3524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3860280"/>
            <a:ext cx="374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хнический про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ёл к тому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тки все меньш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ньше делались вру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риме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игинальных технолог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 стали печататьс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брика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0b275cccd33 (640x412, 72Kb)"/>
          <p:cNvPicPr/>
          <p:nvPr/>
        </p:nvPicPr>
        <p:blipFill>
          <a:blip r:embed="rId2"/>
          <a:stretch/>
        </p:blipFill>
        <p:spPr>
          <a:xfrm>
            <a:off x="179280" y="260280"/>
            <a:ext cx="5480280" cy="352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6290603 (640x409, 51Kb)"/>
          <p:cNvPicPr/>
          <p:nvPr/>
        </p:nvPicPr>
        <p:blipFill>
          <a:blip r:embed="rId3"/>
          <a:stretch/>
        </p:blipFill>
        <p:spPr>
          <a:xfrm>
            <a:off x="4067280" y="3535200"/>
            <a:ext cx="480060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Картинка 451 из 444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189000"/>
            <a:ext cx="2027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469040"/>
            <a:ext cx="20174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ки конец 19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491670ca2164"/>
          <p:cNvPicPr/>
          <p:nvPr/>
        </p:nvPicPr>
        <p:blipFill>
          <a:blip r:embed="rId2"/>
          <a:stretch/>
        </p:blipFill>
        <p:spPr>
          <a:xfrm rot="21366600">
            <a:off x="311040" y="268200"/>
            <a:ext cx="283680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 "/>
          <p:cNvPicPr/>
          <p:nvPr/>
        </p:nvPicPr>
        <p:blipFill>
          <a:blip r:embed="rId3"/>
          <a:stretch/>
        </p:blipFill>
        <p:spPr>
          <a:xfrm>
            <a:off x="3376440" y="189000"/>
            <a:ext cx="2832120" cy="453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 "/>
          <p:cNvPicPr/>
          <p:nvPr/>
        </p:nvPicPr>
        <p:blipFill>
          <a:blip r:embed="rId4"/>
          <a:stretch/>
        </p:blipFill>
        <p:spPr>
          <a:xfrm>
            <a:off x="6372360" y="2276640"/>
            <a:ext cx="2555640" cy="41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76041427_vis08a"/>
          <p:cNvPicPr/>
          <p:nvPr/>
        </p:nvPicPr>
        <p:blipFill>
          <a:blip r:embed="rId5"/>
          <a:stretch/>
        </p:blipFill>
        <p:spPr>
          <a:xfrm rot="800400">
            <a:off x="2484000" y="4149720"/>
            <a:ext cx="33116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революции 1917 года открытка стала отражать  новую жизнь народа. Чаще всего открытки выпускались к знаменательным да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Картинка 1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41000">
            <a:off x="684360" y="2420640"/>
            <a:ext cx="271440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8marta-56_SH01798_enl"/>
          <p:cNvPicPr/>
          <p:nvPr/>
        </p:nvPicPr>
        <p:blipFill>
          <a:blip r:embed="rId4"/>
          <a:stretch/>
        </p:blipFill>
        <p:spPr>
          <a:xfrm>
            <a:off x="3635280" y="170028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0_7a801_decd5ac5_XL"/>
          <p:cNvPicPr/>
          <p:nvPr/>
        </p:nvPicPr>
        <p:blipFill>
          <a:blip r:embed="rId5"/>
          <a:stretch/>
        </p:blipFill>
        <p:spPr>
          <a:xfrm rot="631200">
            <a:off x="6264000" y="2884320"/>
            <a:ext cx="2500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697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яжёлые годы Великой Отечественной войны открытка служила мостиком между жизнью и смертью. Она приносила весточки с фронта. Она подбадривала солдат и сообщала им новости из далёкого, но такого родного дом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6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282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7 из 667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413000"/>
            <a:ext cx="4752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Картинка 230 из 44415">
            <a:hlinkClick r:id="rId2"/>
          </p:cNvPr>
          <p:cNvPicPr/>
          <p:nvPr/>
        </p:nvPicPr>
        <p:blipFill>
          <a:blip r:embed="rId3"/>
          <a:stretch/>
        </p:blipFill>
        <p:spPr>
          <a:xfrm rot="20828400">
            <a:off x="468360" y="404280"/>
            <a:ext cx="2685960" cy="381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ртинка 267 из 44414"/>
          <p:cNvPicPr/>
          <p:nvPr/>
        </p:nvPicPr>
        <p:blipFill>
          <a:blip r:embed="rId4"/>
          <a:stretch/>
        </p:blipFill>
        <p:spPr>
          <a:xfrm>
            <a:off x="3419640" y="189000"/>
            <a:ext cx="268596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Картинка 367 из 44414"/>
          <p:cNvPicPr/>
          <p:nvPr/>
        </p:nvPicPr>
        <p:blipFill>
          <a:blip r:embed="rId5"/>
          <a:stretch/>
        </p:blipFill>
        <p:spPr>
          <a:xfrm>
            <a:off x="6227640" y="270828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Картинка 207 из 44415"/>
          <p:cNvPicPr/>
          <p:nvPr/>
        </p:nvPicPr>
        <p:blipFill>
          <a:blip r:embed="rId6"/>
          <a:stretch/>
        </p:blipFill>
        <p:spPr>
          <a:xfrm>
            <a:off x="1979640" y="4116240"/>
            <a:ext cx="3475080" cy="2509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6118200" y="476280"/>
            <a:ext cx="284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слевоенные годы  открытки стали ещё более яркими и крас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сегда приносят радость, красоту и добрые пожелания в кажд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Картинка 3 из 42497"/>
          <p:cNvPicPr/>
          <p:nvPr/>
        </p:nvPicPr>
        <p:blipFill>
          <a:blip r:embed="rId2"/>
          <a:stretch/>
        </p:blipFill>
        <p:spPr>
          <a:xfrm>
            <a:off x="155520" y="46080"/>
            <a:ext cx="5076720" cy="36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артинка 36 из 44400"/>
          <p:cNvPicPr/>
          <p:nvPr/>
        </p:nvPicPr>
        <p:blipFill>
          <a:blip r:embed="rId3"/>
          <a:stretch/>
        </p:blipFill>
        <p:spPr>
          <a:xfrm>
            <a:off x="3708360" y="3141720"/>
            <a:ext cx="5076720" cy="3533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108000" y="364500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соз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мосферу праздника, выражают отношение людей друг к другу, оставляют в памяти наиболее важные событи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историю появления почтовых поздравительных открыток в разны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упоминания о почтовых открытках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чтовых открыток в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почтовых открыток в разные вре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здравительные открытки учащихся 3 А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Documents and Settings\МирошинаНГ\Рабочий стол\DSC02711.JPG"/>
          <p:cNvPicPr/>
          <p:nvPr/>
        </p:nvPicPr>
        <p:blipFill>
          <a:blip r:embed="rId2"/>
          <a:srcRect l="14737" t="0" r="9854" b="0"/>
          <a:stretch/>
        </p:blipFill>
        <p:spPr>
          <a:xfrm>
            <a:off x="1428840" y="1500120"/>
            <a:ext cx="6215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лучаете почтовые поздравительные открытки?  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сылаете открытки по почте?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ните ли Вы открытки прошлых лет? 9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тываете ли их?   3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аете ли открытки своими руками?5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036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Собирайте открытки… дарите открытки… получайте открытки в подарок и на память… ищите именно свою, оригинальную и уникальную карточку, которая сможет донести получателю ваши эмоции и настроение, сообщить то, что не всегда можно выразить словами…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9"/>
          <p:cNvPicPr/>
          <p:nvPr/>
        </p:nvPicPr>
        <p:blipFill>
          <a:blip r:embed="rId2"/>
          <a:stretch/>
        </p:blipFill>
        <p:spPr>
          <a:xfrm>
            <a:off x="1116000" y="115920"/>
            <a:ext cx="64803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270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nsportal.ru/shkola/klassnoe-rukovodstvo/library/prezentatsiya-istoriya-otkryt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а не имеет одной, точно определенной даты рождения. Разберемся, что же представляет собой открытка. Русское слово "открытка" - это не что иное, как сокращение от "открытое письмо", письмо, которое можно отправить без конверта, в открытом виде, и любой может его прочитать. Такие открытые письма были самым дешевым видом почтового сообщения и первоначально представляли собой простые белые карточки, без рисун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первая почтовая открыт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860640"/>
            <a:ext cx="425772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tkr002"/>
          <p:cNvPicPr/>
          <p:nvPr/>
        </p:nvPicPr>
        <p:blipFill>
          <a:blip r:embed="rId4"/>
          <a:stretch/>
        </p:blipFill>
        <p:spPr>
          <a:xfrm>
            <a:off x="4500720" y="3860640"/>
            <a:ext cx="4321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259920"/>
            <a:ext cx="68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ует несколько версий появления первых рисованных открыток. Разные страны спорят за пальму первенства в данном вопросе. Французы говорят, что местный "Парижский почтовый альманах" рассылал открытки ещё в 1777 год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_75177_a92a95f1_XL"/>
          <p:cNvPicPr/>
          <p:nvPr/>
        </p:nvPicPr>
        <p:blipFill>
          <a:blip r:embed="rId2"/>
          <a:stretch/>
        </p:blipFill>
        <p:spPr>
          <a:xfrm>
            <a:off x="2771640" y="2637000"/>
            <a:ext cx="2505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Первая английская открытка"/>
          <p:cNvPicPr/>
          <p:nvPr/>
        </p:nvPicPr>
        <p:blipFill>
          <a:blip r:embed="rId2"/>
          <a:stretch/>
        </p:blipFill>
        <p:spPr>
          <a:xfrm>
            <a:off x="1619280" y="260280"/>
            <a:ext cx="5716440" cy="364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24000" y="3930840"/>
            <a:ext cx="833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чане голосуют за 1794 г., когда некий художник Добсон отправил своему другу изображение счастливого семейства вокруг елки с поздравительным посланием на другой стороне. И так далее и тому подоб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 несомненно - первые открытки появились именно к Рожд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964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, в начале XIX века диапазон выпускаемых открыток расширяется, и к рождественским добавляются новогодние, а также столь популярные сегодня "валентинк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300px-Burns_on_Ayr_Postcard_1899"/>
          <p:cNvPicPr/>
          <p:nvPr/>
        </p:nvPicPr>
        <p:blipFill>
          <a:blip r:embed="rId2"/>
          <a:stretch/>
        </p:blipFill>
        <p:spPr>
          <a:xfrm rot="20448600">
            <a:off x="412560" y="798480"/>
            <a:ext cx="2950920" cy="22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дизайн и печать открыток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5219640" y="549360"/>
            <a:ext cx="3527640" cy="24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egg"/>
          <p:cNvPicPr/>
          <p:nvPr/>
        </p:nvPicPr>
        <p:blipFill>
          <a:blip r:embed="rId5"/>
          <a:stretch/>
        </p:blipFill>
        <p:spPr>
          <a:xfrm>
            <a:off x="3086280" y="1125360"/>
            <a:ext cx="2342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56000" y="260280"/>
            <a:ext cx="28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середины XIX века открытки изготавливались, как правило, вручную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а 2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98000">
            <a:off x="755640" y="1267920"/>
            <a:ext cx="301788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Картинка 34 из 44400">
            <a:hlinkClick r:id="rId4"/>
          </p:cNvPr>
          <p:cNvPicPr/>
          <p:nvPr/>
        </p:nvPicPr>
        <p:blipFill>
          <a:blip r:embed="rId5"/>
          <a:stretch/>
        </p:blipFill>
        <p:spPr>
          <a:xfrm rot="553200">
            <a:off x="6443280" y="2565000"/>
            <a:ext cx="231444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262520544_6d7692e21597"/>
          <p:cNvPicPr/>
          <p:nvPr/>
        </p:nvPicPr>
        <p:blipFill>
          <a:blip r:embed="rId6"/>
          <a:stretch/>
        </p:blipFill>
        <p:spPr>
          <a:xfrm>
            <a:off x="3780000" y="260280"/>
            <a:ext cx="261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03280" y="188640"/>
            <a:ext cx="3961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многих странах открытки продавались долгое время в виде сувенира…                                    С изобретением фотографий некоторые открытки выпускались в виде фотооткры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10 из 667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5520" y="46080"/>
            <a:ext cx="2538360" cy="338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0_68816_a4444206_XXL"/>
          <p:cNvPicPr/>
          <p:nvPr/>
        </p:nvPicPr>
        <p:blipFill>
          <a:blip r:embed="rId4"/>
          <a:stretch/>
        </p:blipFill>
        <p:spPr>
          <a:xfrm>
            <a:off x="395280" y="3500280"/>
            <a:ext cx="21146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Картинка 38 из 691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60280"/>
            <a:ext cx="2405160" cy="39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gallery_356314_3916_110042"/>
          <p:cNvPicPr/>
          <p:nvPr/>
        </p:nvPicPr>
        <p:blipFill>
          <a:blip r:embed="rId7"/>
          <a:stretch/>
        </p:blipFill>
        <p:spPr>
          <a:xfrm>
            <a:off x="4788000" y="4149720"/>
            <a:ext cx="39592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4720" y="3212640"/>
            <a:ext cx="47512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е росси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были напечат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лько в 1872 году и он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ли рисунка. Одн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иболее ра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сов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ра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точек была создана в 1892 г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Рождественская открытка конца 19 столетия."/>
          <p:cNvPicPr/>
          <p:nvPr/>
        </p:nvPicPr>
        <p:blipFill>
          <a:blip r:embed="rId2"/>
          <a:stretch/>
        </p:blipFill>
        <p:spPr>
          <a:xfrm>
            <a:off x="395280" y="476280"/>
            <a:ext cx="3902040" cy="612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Рождество"/>
          <p:cNvPicPr/>
          <p:nvPr/>
        </p:nvPicPr>
        <p:blipFill>
          <a:blip r:embed="rId3"/>
          <a:stretch/>
        </p:blipFill>
        <p:spPr>
          <a:xfrm>
            <a:off x="4427640" y="189000"/>
            <a:ext cx="45306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6:26Z</dcterms:created>
  <dc:creator>User</dc:creator>
  <dc:description/>
  <dc:language>en-US</dc:language>
  <cp:lastModifiedBy>User</cp:lastModifiedBy>
  <dcterms:modified xsi:type="dcterms:W3CDTF">2015-05-01T17:07:06Z</dcterms:modified>
  <cp:revision>39</cp:revision>
  <dc:subject/>
  <dc:title>Слайд 1</dc:title>
</cp:coreProperties>
</file>