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FB88-9B8F-4D99-997A-77D6EEBEA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32D0-F639-4B9B-8198-EB1E95B1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31D7-AF7B-4B45-8741-A9D0EDE49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0929-FABF-49FF-86A0-63FE5A7A0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74ED-C256-4EC2-9DA5-811B3E3D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A25B-6EC3-4927-9861-D622F9FF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0348-0857-4780-9DC5-29A0504F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AF85-4FAC-487E-8C33-A62829E0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EDC5-1837-4EF4-84C1-A2087721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5DE1-73B7-4151-8CCA-663FAC6D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A75D-6086-4D5F-B6A3-5D63D7C3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50FE-639E-400D-9D9B-680BCEF2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A4EC-85FC-4F5B-BC23-1A1D886CBE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пк\Desktop\фоны\Цветочные фоны\Flower_Pattern_Background_WA04_008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474984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bat"/>
              </a:rPr>
              <a:t>Тема: Инструктаж  официанта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пк\Desktop\фоны\Цветочные фоны\Flower_Pattern_Background_WA04_008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415280" cy="55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Arbat"/>
              </a:rPr>
              <a:t>Вопрос 3: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bat"/>
              </a:rPr>
              <a:t>Первая медицинская помощь при ушибах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пк\Desktop\фоны\Цветочные фоны\Flower_Pattern_Background_WA04_008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4152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ru-RU" sz="4900" spc="-1" strike="noStrike">
                <a:solidFill>
                  <a:srgbClr val="000000"/>
                </a:solidFill>
                <a:latin typeface="Arbat"/>
              </a:rPr>
              <a:t>Первая медицинская помощь при ушибах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пк\Desktop\first_help_1.gif"/>
          <p:cNvPicPr/>
          <p:nvPr/>
        </p:nvPicPr>
        <p:blipFill>
          <a:blip r:embed="rId2"/>
          <a:stretch/>
        </p:blipFill>
        <p:spPr>
          <a:xfrm>
            <a:off x="7920" y="2222640"/>
            <a:ext cx="9136080" cy="35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пк\Desktop\фоны\Цветочные фоны\Flower_Pattern_Background_WA04_008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02560" cy="55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Arbat"/>
              </a:rPr>
              <a:t>Вопрос 4: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bat"/>
              </a:rPr>
              <a:t>Первая медицинская помощь при порезах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пк\Desktop\фоны\Цветочные фоны\Flower_Pattern_Background_WA04_008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0720" y="333000"/>
            <a:ext cx="77025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ru-RU" sz="4900" spc="-1" strike="noStrike">
                <a:solidFill>
                  <a:srgbClr val="000000"/>
                </a:solidFill>
                <a:latin typeface="Arbat"/>
              </a:rPr>
              <a:t>Первая медицинская помощь при порезах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пк\Desktop\porez_aptehka.jpg"/>
          <p:cNvPicPr/>
          <p:nvPr/>
        </p:nvPicPr>
        <p:blipFill>
          <a:blip r:embed="rId2"/>
          <a:stretch/>
        </p:blipFill>
        <p:spPr>
          <a:xfrm>
            <a:off x="1066680" y="1989000"/>
            <a:ext cx="7010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Users\пк\Desktop\фоны\Цветочные фоны\Flower_Pattern_Background_WA04_008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98984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Arbat"/>
              </a:rPr>
              <a:t>Вопрос 5: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bat"/>
              </a:rPr>
              <a:t>Первая медицинская помощь при нарушении проходимости дыхательных путей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Users\пк\Desktop\фоны\Цветочные фоны\Flower_Pattern_Background_WA04_008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ак называемая "ресторанная болезнь" - когда человек говорит и при этом пьет или ест (чаще пьет). Частица пищи попадает в голосовую щель и вызывает ее спазм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аще встречается у взрослых.</a:t>
            </a:r>
            <a:br>
              <a:rPr sz="4000"/>
            </a:b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Помощь: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- метод Хаймлиха;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- резкий вдох в пострадавшего человека (лучше, когда он уже стал синим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Users\пк\Desktop\фоны\Цветочные фоны\Flower_Pattern_Background_WA04_008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63480" y="379080"/>
            <a:ext cx="76312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bat"/>
              </a:rPr>
              <a:t>Метод Хаймлих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Users\пк\Desktop\hwkb17_063.jpg"/>
          <p:cNvPicPr/>
          <p:nvPr/>
        </p:nvPicPr>
        <p:blipFill>
          <a:blip r:embed="rId2"/>
          <a:stretch/>
        </p:blipFill>
        <p:spPr>
          <a:xfrm>
            <a:off x="839880" y="1557360"/>
            <a:ext cx="746424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пк\Desktop\фоны\Цветочные фоны\Flower_Pattern_Background_WA04_008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02560" cy="49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Arbat"/>
              </a:rPr>
              <a:t>Задание 3: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bat"/>
              </a:rPr>
              <a:t>написать тес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пк\Desktop\фоны\Цветочные фоны\Flower_Pattern_Background_WA04_008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02560" cy="55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Arbat"/>
              </a:rPr>
              <a:t>Спасибо за внимание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пк\Desktop\фоны\Цветочные фоны\Flower_Pattern_Background_WA04_008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734220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0000"/>
                </a:solidFill>
                <a:latin typeface="Arbat"/>
              </a:rPr>
              <a:t>Цель: рассмотреть личную подготовку официанта, разыграть инструктаж, оказать первую медицинскую помощь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пк\Desktop\фоны\Цветочные фоны\Flower_Pattern_Background_WA04_008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5400360" cy="44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bat"/>
              </a:rPr>
              <a:t>Проверка теоретических знаний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пк\Desktop\фоны\Цветочные фоны\Flower_Pattern_Background_WA04_008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4749840" cy="547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Arbat"/>
              </a:rPr>
              <a:t>Вопрос 1: </a:t>
            </a:r>
            <a:r>
              <a:rPr b="1" lang="ru-RU" sz="5400" spc="-1" strike="noStrike">
                <a:solidFill>
                  <a:srgbClr val="000000"/>
                </a:solidFill>
                <a:latin typeface="Arbat"/>
              </a:rPr>
              <a:t>Правила личной подготовки официанта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пк\Desktop\фоны\Цветочные фоны\Flower_Pattern_Background_WA04_008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474984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Arbat"/>
              </a:rPr>
              <a:t>Вопрос 2: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bat"/>
              </a:rPr>
              <a:t>Инструктаж официанта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пк\Desktop\фоны\Цветочные фоны\Flower_Pattern_Background_WA04_008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569080" cy="619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0000"/>
                </a:solidFill>
                <a:latin typeface="Arbat"/>
              </a:rPr>
              <a:t>- Кто проводит? </a:t>
            </a:r>
            <a:br>
              <a:rPr sz="4900"/>
            </a:br>
            <a:r>
              <a:rPr b="1" lang="ru-RU" sz="4900" spc="-1" strike="noStrike">
                <a:solidFill>
                  <a:srgbClr val="000000"/>
                </a:solidFill>
                <a:latin typeface="Arbat"/>
              </a:rPr>
              <a:t>- Цель инструктажа?</a:t>
            </a:r>
            <a:br>
              <a:rPr sz="4900"/>
            </a:br>
            <a:r>
              <a:rPr b="1" lang="ru-RU" sz="4900" spc="-1" strike="noStrike">
                <a:solidFill>
                  <a:srgbClr val="000000"/>
                </a:solidFill>
                <a:latin typeface="Arbat"/>
              </a:rPr>
              <a:t>- Чему на  инструктаже уделяют наибольшее внимание?</a:t>
            </a:r>
            <a:br>
              <a:rPr sz="4900"/>
            </a:br>
            <a:r>
              <a:rPr b="1" lang="ru-RU" sz="4900" spc="-1" strike="noStrike">
                <a:solidFill>
                  <a:srgbClr val="000000"/>
                </a:solidFill>
                <a:latin typeface="Arbat"/>
              </a:rPr>
              <a:t>- С чем во время инструктажа  знакомятся официанты?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пк\Desktop\фоны\Цветочные фоны\Flower_Pattern_Background_WA04_008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597384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Arbat"/>
              </a:rPr>
              <a:t>Задание 1: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bat"/>
              </a:rPr>
              <a:t>Составьте инструктаж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пк\Desktop\фоны\Цветочные фоны\Flower_Pattern_Background_WA04_008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 u="sng">
                <a:solidFill>
                  <a:srgbClr val="000000"/>
                </a:solidFill>
                <a:uFillTx/>
                <a:latin typeface="Arbat"/>
              </a:rPr>
              <a:t>План инструктажа</a:t>
            </a:r>
            <a:r>
              <a:rPr b="1" lang="ru-RU" sz="4900" spc="-1" strike="noStrike">
                <a:solidFill>
                  <a:srgbClr val="000000"/>
                </a:solidFill>
                <a:latin typeface="Arbat"/>
              </a:rPr>
              <a:t>:</a:t>
            </a:r>
            <a:br>
              <a:rPr sz="4900"/>
            </a:br>
            <a:r>
              <a:rPr b="1" lang="ru-RU" sz="4900" spc="-1" strike="noStrike">
                <a:solidFill>
                  <a:srgbClr val="000000"/>
                </a:solidFill>
                <a:latin typeface="Arbat"/>
              </a:rPr>
              <a:t>1. цель инструктажа</a:t>
            </a:r>
            <a:br>
              <a:rPr sz="4900"/>
            </a:br>
            <a:r>
              <a:rPr b="1" lang="ru-RU" sz="4900" spc="-1" strike="noStrike">
                <a:solidFill>
                  <a:srgbClr val="000000"/>
                </a:solidFill>
                <a:latin typeface="Arbat"/>
              </a:rPr>
              <a:t>2. положительные и отрицательные моменты работы за предыдущий день.</a:t>
            </a:r>
            <a:br>
              <a:rPr sz="4900"/>
            </a:br>
            <a:r>
              <a:rPr b="1" lang="ru-RU" sz="4900" spc="-1" strike="noStrike">
                <a:solidFill>
                  <a:srgbClr val="000000"/>
                </a:solidFill>
                <a:latin typeface="Arbat"/>
              </a:rPr>
              <a:t>3. план на текущий день</a:t>
            </a:r>
            <a:br>
              <a:rPr sz="4900"/>
            </a:br>
            <a:r>
              <a:rPr b="1" lang="ru-RU" sz="4900" spc="-1" strike="noStrike">
                <a:solidFill>
                  <a:srgbClr val="000000"/>
                </a:solidFill>
                <a:latin typeface="Arbat"/>
              </a:rPr>
              <a:t>4. блюдо дня</a:t>
            </a:r>
            <a:br>
              <a:rPr sz="4900"/>
            </a:br>
            <a:r>
              <a:rPr b="1" lang="ru-RU" sz="4900" spc="-1" strike="noStrike">
                <a:solidFill>
                  <a:srgbClr val="000000"/>
                </a:solidFill>
                <a:latin typeface="Arbat"/>
              </a:rPr>
              <a:t>5. новинки блюд и напитков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пк\Desktop\фоны\Цветочные фоны\Flower_Pattern_Background_WA04_008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619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Arbat"/>
              </a:rPr>
              <a:t>Задание 2: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bat"/>
              </a:rPr>
              <a:t>Деловая игра. Каждый обучающийся должен провести со своей бригадой инструктаж по плану написанному в задании 1.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3:09:52Z</dcterms:created>
  <dc:creator>пк</dc:creator>
  <dc:description/>
  <dc:language>en-US</dc:language>
  <cp:lastModifiedBy>пк</cp:lastModifiedBy>
  <dcterms:modified xsi:type="dcterms:W3CDTF">2013-04-10T14:03:31Z</dcterms:modified>
  <cp:revision>6</cp:revision>
  <dc:subject/>
  <dc:title>Презентация PowerPoint</dc:title>
</cp:coreProperties>
</file>