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1E7-EEAA-40CA-8ED3-57FF8E9A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326-6BEF-4DA9-A709-066F2C14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24D-9995-42FC-BE5C-278A275F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6D0-F1D1-4F4E-9356-776F40EB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68F-34D7-463E-A946-0B3CC3B6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3D7-6201-4711-B0CB-F7DC6A4D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8ED-2D17-4C5A-A5EE-0A97DC43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306-BC74-4A60-999F-344B352C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1F8-4EBD-46CD-BAED-3B8B030A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56F-EF31-4706-B505-85E7715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4A2-2BCF-482E-AE5D-1D1CDC71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5B7-EFED-4B55-B6F4-06CB54AF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7220-6CB9-44AA-8639-C921B4602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47498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Тема: Инструктаж  официан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3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ервая медицинская помощь при ушиб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Первая медицинская помощь при ушиба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пк\Desktop\first_help_1.gif"/>
          <p:cNvPicPr/>
          <p:nvPr/>
        </p:nvPicPr>
        <p:blipFill>
          <a:blip r:embed="rId2"/>
          <a:stretch/>
        </p:blipFill>
        <p:spPr>
          <a:xfrm>
            <a:off x="7920" y="2222640"/>
            <a:ext cx="91360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0256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4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ервая медицинская помощь при порез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333000"/>
            <a:ext cx="77025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Первая медицинская помощь при порезах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пк\Desktop\porez_aptehka.jpg"/>
          <p:cNvPicPr/>
          <p:nvPr/>
        </p:nvPicPr>
        <p:blipFill>
          <a:blip r:embed="rId2"/>
          <a:stretch/>
        </p:blipFill>
        <p:spPr>
          <a:xfrm>
            <a:off x="1066680" y="1989000"/>
            <a:ext cx="7010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98984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5: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ервая медицинская помощь при нарушении проходимости дыхательных путей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ак называемая "ресторанная болезнь" - когда человек говорит и при этом пьет или ест (чаще пьет). Частица пищи попадает в голосовую щель и вызывает ее спазм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аще встречается у взрослых.</a:t>
            </a: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омощь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метод Хаймлиха;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резкий вдох в пострадавшего человека (лучше, когда он уже стал синим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3480" y="379080"/>
            <a:ext cx="76312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Метод Хаймлих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пк\Desktop\hwkb17_063.jpg"/>
          <p:cNvPicPr/>
          <p:nvPr/>
        </p:nvPicPr>
        <p:blipFill>
          <a:blip r:embed="rId2"/>
          <a:stretch/>
        </p:blipFill>
        <p:spPr>
          <a:xfrm>
            <a:off x="839880" y="1557360"/>
            <a:ext cx="74642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Задание 3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написать тес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0256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3422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Цель: рассмотреть личную подготовку официанта, разыграть инструктаж, оказать первую медицинскую помощь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40036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роверка теоретических знаний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474984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1: </a:t>
            </a: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Правила личной подготовки официант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47498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Вопрос 2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Инструктаж официант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- Кто проводит? 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- Цель инструктажа?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- Чему на  инструктаже уделяют наибольшее внимание?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- С чем во время инструктажа  знакомятся официанты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597384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Задание 1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Составьте инструктаж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 u="sng">
                <a:solidFill>
                  <a:srgbClr val="000000"/>
                </a:solidFill>
                <a:uFillTx/>
                <a:latin typeface="Arbat"/>
              </a:rPr>
              <a:t>План инструктажа</a:t>
            </a: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: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1. цель инструктажа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2. положительные и отрицательные моменты работы за предыдущий день.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3. план на текущий день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4. блюдо дня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Arbat"/>
              </a:rPr>
              <a:t>5. новинки блюд и напитков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пк\Desktop\фоны\Цветочные фоны\Flower_Pattern_Background_WA04_008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bat"/>
              </a:rPr>
              <a:t>Задание 2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bat"/>
              </a:rPr>
              <a:t>Деловая игра. Каждый обучающийся должен провести со своей бригадой инструктаж по плану написанному в задании 1.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09:52Z</dcterms:created>
  <dc:creator>пк</dc:creator>
  <dc:description/>
  <dc:language>en-US</dc:language>
  <cp:lastModifiedBy>пк</cp:lastModifiedBy>
  <dcterms:modified xsi:type="dcterms:W3CDTF">2013-04-10T14:03:31Z</dcterms:modified>
  <cp:revision>6</cp:revision>
  <dc:subject/>
  <dc:title>Презентация PowerPoint</dc:title>
</cp:coreProperties>
</file>