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E76-8D1F-4A62-8A92-E3D852ABF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6DC-CEBF-480E-AECE-C8D955FD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7F87-FB19-4389-B089-AC0C7DF0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921E-1E72-4926-85C4-F2D8E74A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54A6-E67A-48C7-A81E-9B8F05DE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EC40-6400-45E8-85C6-23451CC1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8FF7-9CA4-4193-AFCB-F8389484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5BCB-793C-4D52-B39E-13CB1E82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1B26-6194-4063-87AC-AAB39923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829F-1649-43F3-837E-75A65DF6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1F2C-E2B9-495C-9FE6-594502CE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0475-CAD0-4962-B6A4-CFBA3F4D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CE99-6FEC-4930-9004-9DB90AC6CA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 ряд: сердце, радостный, дождь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785880" y="4287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 ряд: травка, земля, гряд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857160" y="40719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 ряд: весна, зелёная, солнце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земля,   дождь,   солнц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Левая круглая скобка 3"/>
          <p:cNvSpPr/>
          <p:nvPr/>
        </p:nvSpPr>
        <p:spPr>
          <a:xfrm rot="5400000">
            <a:off x="1535400" y="1821600"/>
            <a:ext cx="285840" cy="1500120"/>
          </a:xfrm>
          <a:custGeom>
            <a:avLst/>
            <a:gdLst>
              <a:gd name="textAreaLeft" fmla="*/ 83880 w 285840"/>
              <a:gd name="textAreaRight" fmla="*/ 286200 w 285840"/>
              <a:gd name="textAreaTop" fmla="*/ 11880 h 1500120"/>
              <a:gd name="textAreaBottom" fmla="*/ 1488240 h 150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2"/>
                  <a:pt x="0" y="343"/>
                </a:cubicBezTo>
                <a:lnTo>
                  <a:pt x="0" y="21257"/>
                </a:lnTo>
                <a:cubicBezTo>
                  <a:pt x="0" y="21429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Левая круглая скобка 4"/>
          <p:cNvSpPr/>
          <p:nvPr/>
        </p:nvSpPr>
        <p:spPr>
          <a:xfrm rot="5400000">
            <a:off x="6750360" y="1678680"/>
            <a:ext cx="285840" cy="1785960"/>
          </a:xfrm>
          <a:custGeom>
            <a:avLst/>
            <a:gdLst>
              <a:gd name="textAreaLeft" fmla="*/ 83880 w 285840"/>
              <a:gd name="textAreaRight" fmla="*/ 286200 w 285840"/>
              <a:gd name="textAreaTop" fmla="*/ 11880 h 1785960"/>
              <a:gd name="textAreaBottom" fmla="*/ 177408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4"/>
                  <a:pt x="0" y="288"/>
                </a:cubicBezTo>
                <a:lnTo>
                  <a:pt x="0" y="21312"/>
                </a:lnTo>
                <a:cubicBezTo>
                  <a:pt x="0" y="21456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Левая круглая скобка 5"/>
          <p:cNvSpPr/>
          <p:nvPr/>
        </p:nvSpPr>
        <p:spPr>
          <a:xfrm rot="5400000">
            <a:off x="4143240" y="1714320"/>
            <a:ext cx="214200" cy="1643040"/>
          </a:xfrm>
          <a:custGeom>
            <a:avLst/>
            <a:gdLst>
              <a:gd name="textAreaLeft" fmla="*/ 63000 w 214200"/>
              <a:gd name="textAreaRight" fmla="*/ 214560 w 214200"/>
              <a:gd name="textAreaTop" fmla="*/ 8640 h 1643040"/>
              <a:gd name="textAreaBottom" fmla="*/ 1634400 h 164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8"/>
                  <a:pt x="0" y="235"/>
                </a:cubicBezTo>
                <a:lnTo>
                  <a:pt x="0" y="21365"/>
                </a:lnTo>
                <a:cubicBezTo>
                  <a:pt x="0" y="21483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ая соединительная линия 7"/>
          <p:cNvSpPr/>
          <p:nvPr/>
        </p:nvSpPr>
        <p:spPr>
          <a:xfrm>
            <a:off x="1214280" y="3286080"/>
            <a:ext cx="357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ая соединительная линия 10"/>
          <p:cNvSpPr/>
          <p:nvPr/>
        </p:nvSpPr>
        <p:spPr>
          <a:xfrm>
            <a:off x="6643800" y="3286080"/>
            <a:ext cx="357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ая соединительная линия 11"/>
          <p:cNvSpPr/>
          <p:nvPr/>
        </p:nvSpPr>
        <p:spPr>
          <a:xfrm>
            <a:off x="4714920" y="3357720"/>
            <a:ext cx="357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958160" cy="25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- Закрепить способы…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- Решать…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- Упражняться…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840" y="2130480"/>
            <a:ext cx="8572320" cy="31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Лето.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Весело  летом  в  л_су! Мы идём  по  густой  сочной тр_ве.  Кругом  цв_ты. На цв_ток  села  пч_ла. У   тр_пы кучка  рыхлой  з_мли.   Это н_ра кр_та.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429160" y="150012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5286240" y="292896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928800" y="36432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4643280" y="3714840"/>
            <a:ext cx="5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4572000" y="442908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1071720" y="292896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7429680" y="36432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571680" y="507204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2286000" y="514368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26"/>
          <p:cNvGrpSpPr/>
          <p:nvPr/>
        </p:nvGrpSpPr>
        <p:grpSpPr>
          <a:xfrm>
            <a:off x="8286840" y="5143320"/>
            <a:ext cx="357120" cy="1147680"/>
            <a:chOff x="8286840" y="5143320"/>
            <a:chExt cx="357120" cy="1147680"/>
          </a:xfrm>
        </p:grpSpPr>
        <p:sp>
          <p:nvSpPr>
            <p:cNvPr id="63" name="Прямая соединительная линия 15"/>
            <p:cNvSpPr/>
            <p:nvPr/>
          </p:nvSpPr>
          <p:spPr>
            <a:xfrm>
              <a:off x="8429760" y="5143680"/>
              <a:ext cx="56880" cy="112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Прямая соединительная линия 18"/>
            <p:cNvSpPr/>
            <p:nvPr/>
          </p:nvSpPr>
          <p:spPr>
            <a:xfrm flipH="1" flipV="1">
              <a:off x="8286840" y="5143320"/>
              <a:ext cx="28584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ая соединительная линия 22"/>
            <p:cNvSpPr/>
            <p:nvPr/>
          </p:nvSpPr>
          <p:spPr>
            <a:xfrm flipH="1">
              <a:off x="8286840" y="5643720"/>
              <a:ext cx="35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Прямая соединительная линия 23"/>
            <p:cNvSpPr/>
            <p:nvPr/>
          </p:nvSpPr>
          <p:spPr>
            <a:xfrm flipH="1" flipV="1">
              <a:off x="8358120" y="6286320"/>
              <a:ext cx="28584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05_-pohlopalinew.mp3" descr=""/>
          <p:cNvPicPr/>
          <p:nvPr/>
        </p:nvPicPr>
        <p:blipFill>
          <a:blip r:embed="rId1"/>
          <a:stretch/>
        </p:blipFill>
        <p:spPr>
          <a:xfrm>
            <a:off x="778680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58723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400" y="642960"/>
            <a:ext cx="871524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Хоро_    наш   ле_.   Там много сочных   тра_.  Вот берё_ка.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А вот ду_.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9680" y="3785760"/>
            <a:ext cx="83581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расиво звёз_ное небо. Но все дети ждут со_нц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Группа 4"/>
          <p:cNvGrpSpPr/>
          <p:nvPr/>
        </p:nvGrpSpPr>
        <p:grpSpPr>
          <a:xfrm>
            <a:off x="8286840" y="5143320"/>
            <a:ext cx="357120" cy="1147680"/>
            <a:chOff x="8286840" y="5143320"/>
            <a:chExt cx="357120" cy="1147680"/>
          </a:xfrm>
        </p:grpSpPr>
        <p:sp>
          <p:nvSpPr>
            <p:cNvPr id="71" name="Прямая соединительная линия 5"/>
            <p:cNvSpPr/>
            <p:nvPr/>
          </p:nvSpPr>
          <p:spPr>
            <a:xfrm>
              <a:off x="8429760" y="5143680"/>
              <a:ext cx="56880" cy="112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Прямая соединительная линия 6"/>
            <p:cNvSpPr/>
            <p:nvPr/>
          </p:nvSpPr>
          <p:spPr>
            <a:xfrm flipH="1" flipV="1">
              <a:off x="8286840" y="5143320"/>
              <a:ext cx="28584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Прямая соединительная линия 7"/>
            <p:cNvSpPr/>
            <p:nvPr/>
          </p:nvSpPr>
          <p:spPr>
            <a:xfrm flipH="1">
              <a:off x="8286840" y="5643720"/>
              <a:ext cx="35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Прямая соединительная линия 8"/>
            <p:cNvSpPr/>
            <p:nvPr/>
          </p:nvSpPr>
          <p:spPr>
            <a:xfrm flipH="1" flipV="1">
              <a:off x="8358120" y="6286320"/>
              <a:ext cx="28584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Группа 9"/>
          <p:cNvGrpSpPr/>
          <p:nvPr/>
        </p:nvGrpSpPr>
        <p:grpSpPr>
          <a:xfrm>
            <a:off x="8001000" y="1928520"/>
            <a:ext cx="357120" cy="1147680"/>
            <a:chOff x="8001000" y="1928520"/>
            <a:chExt cx="357120" cy="1147680"/>
          </a:xfrm>
        </p:grpSpPr>
        <p:sp>
          <p:nvSpPr>
            <p:cNvPr id="76" name="Прямая соединительная линия 10"/>
            <p:cNvSpPr/>
            <p:nvPr/>
          </p:nvSpPr>
          <p:spPr>
            <a:xfrm>
              <a:off x="8143920" y="1928880"/>
              <a:ext cx="56880" cy="112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ямая соединительная линия 11"/>
            <p:cNvSpPr/>
            <p:nvPr/>
          </p:nvSpPr>
          <p:spPr>
            <a:xfrm flipH="1" flipV="1">
              <a:off x="8001000" y="1928520"/>
              <a:ext cx="28584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Прямая соединительная линия 12"/>
            <p:cNvSpPr/>
            <p:nvPr/>
          </p:nvSpPr>
          <p:spPr>
            <a:xfrm flipH="1">
              <a:off x="8001000" y="2428920"/>
              <a:ext cx="35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Прямая соединительная линия 13"/>
            <p:cNvSpPr/>
            <p:nvPr/>
          </p:nvSpPr>
          <p:spPr>
            <a:xfrm flipH="1" flipV="1">
              <a:off x="8072280" y="3071520"/>
              <a:ext cx="28584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TextBox 14"/>
          <p:cNvSpPr/>
          <p:nvPr/>
        </p:nvSpPr>
        <p:spPr>
          <a:xfrm>
            <a:off x="2143080" y="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Ш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5"/>
          <p:cNvSpPr/>
          <p:nvPr/>
        </p:nvSpPr>
        <p:spPr>
          <a:xfrm>
            <a:off x="5072040" y="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3571920" y="857160"/>
            <a:ext cx="48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6643800" y="85716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З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2714760" y="157176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9"/>
          <p:cNvSpPr/>
          <p:nvPr/>
        </p:nvSpPr>
        <p:spPr>
          <a:xfrm>
            <a:off x="3929040" y="378612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0"/>
          <p:cNvSpPr/>
          <p:nvPr/>
        </p:nvSpPr>
        <p:spPr>
          <a:xfrm>
            <a:off x="3857760" y="442908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5520" y="213840"/>
            <a:ext cx="76438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ка орфограмм кор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85840" y="1500120"/>
            <a:ext cx="85723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зударный                                      Парный                              Непроизносимый        гласный                                        согласный                                      соглас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ударение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                         гласные и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         гласные и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                     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сонорные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                     сонорны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мени по числ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мени по команде вопроса КТО? ЧТ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мени по команде вопроса (много) КОГО?ЧЕГ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зови ласко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бери однокоренное сло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Прямая со стрелкой 4"/>
          <p:cNvCxnSpPr/>
          <p:nvPr/>
        </p:nvCxnSpPr>
        <p:spPr>
          <a:xfrm flipH="1">
            <a:off x="1141200" y="2071440"/>
            <a:ext cx="2160" cy="286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Прямая со стрелкой 5"/>
          <p:cNvCxnSpPr/>
          <p:nvPr/>
        </p:nvCxnSpPr>
        <p:spPr>
          <a:xfrm flipH="1">
            <a:off x="4285440" y="2143080"/>
            <a:ext cx="252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Прямая со стрелкой 6"/>
          <p:cNvCxnSpPr/>
          <p:nvPr/>
        </p:nvCxnSpPr>
        <p:spPr>
          <a:xfrm flipH="1">
            <a:off x="7000560" y="2143080"/>
            <a:ext cx="216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Прямая со стрелкой 7"/>
          <p:cNvCxnSpPr/>
          <p:nvPr/>
        </p:nvCxnSpPr>
        <p:spPr>
          <a:xfrm>
            <a:off x="1144440" y="2714760"/>
            <a:ext cx="2642400" cy="1000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Прямая со стрелкой 8"/>
          <p:cNvCxnSpPr/>
          <p:nvPr/>
        </p:nvCxnSpPr>
        <p:spPr>
          <a:xfrm flipH="1">
            <a:off x="4357440" y="3071880"/>
            <a:ext cx="2160" cy="64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Прямая со стрелкой 9"/>
          <p:cNvCxnSpPr/>
          <p:nvPr/>
        </p:nvCxnSpPr>
        <p:spPr>
          <a:xfrm flipH="1">
            <a:off x="5214600" y="3143160"/>
            <a:ext cx="1859760" cy="572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Левая круглая скобка 13"/>
          <p:cNvSpPr/>
          <p:nvPr/>
        </p:nvSpPr>
        <p:spPr>
          <a:xfrm rot="5400000">
            <a:off x="4178880" y="-2750040"/>
            <a:ext cx="857160" cy="8501040"/>
          </a:xfrm>
          <a:custGeom>
            <a:avLst/>
            <a:gdLst>
              <a:gd name="textAreaLeft" fmla="*/ 252000 w 857160"/>
              <a:gd name="textAreaRight" fmla="*/ 857520 w 857160"/>
              <a:gd name="textAreaTop" fmla="*/ 35640 h 8501040"/>
              <a:gd name="textAreaBottom" fmla="*/ 8465400 h 850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1"/>
                  <a:pt x="0" y="182"/>
                </a:cubicBezTo>
                <a:lnTo>
                  <a:pt x="0" y="21418"/>
                </a:lnTo>
                <a:cubicBezTo>
                  <a:pt x="0" y="21509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5:14:53Z</dcterms:created>
  <dc:creator>Admin</dc:creator>
  <dc:description/>
  <dc:language>en-US</dc:language>
  <cp:lastModifiedBy>Admin</cp:lastModifiedBy>
  <dcterms:modified xsi:type="dcterms:W3CDTF">2013-07-28T14:18:31Z</dcterms:modified>
  <cp:revision>6</cp:revision>
  <dc:subject/>
  <dc:title>2 ряд: сердце, радостный, дождь  </dc:title>
</cp:coreProperties>
</file>