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060-B036-4509-952B-92C7AA42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4BC-7138-479E-8FAD-8DBE70B1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6CD-B64A-4349-8BFC-2CFCB8BA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ABD-5294-480D-993C-9B7EA67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892-6854-48BE-807A-A2FFB7FD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71B-698E-4685-BAA1-830BCB8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E46-18B0-4889-A3E6-86ABC2FD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C01E-F89F-4F81-9401-9B9CEE2C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CEF9-CEAC-4056-8525-1D41BF3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EA4-F09C-42CE-A496-2BBF4911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45F-6554-4EA5-BB63-52D10DF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7B0-A7F1-4D72-B16B-11FEEB56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7601-45E9-4451-92CA-6958AB1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544-D3B6-4E73-81B3-8362C44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89F-754F-469C-B63C-EDE4FA8B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C67-74D1-4E96-B46B-697F3B67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241-B0B1-4B6A-93F5-C353DC2A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B6D1-4B63-44EA-8C8C-F28B4B89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9439-23DC-43EF-B92D-C64CF2D6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AB36-1A33-438D-90BB-C80A18B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60CC-E72D-4F56-A821-FED66CA1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95EA-81A4-4547-A5DB-0326F3A8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EF6-7B08-4C0B-B12A-CBF3A98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0A48-B354-419C-87E2-39FB5A33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8D01-9B82-4D68-829E-9E47BCFF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14E6-C905-4A2B-A81F-EA76110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DE14-0CC1-4B2E-ACDC-1B56681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58E5-A7AA-4D50-A282-901A349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A240-372D-4E54-8733-8315A4AD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EF28-4CF4-4009-8B4F-787F9873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61499-81C0-42D3-8C59-3657D4F0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4185-8CE2-429A-B89C-7E53E523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4818-FB6C-4DBE-B474-2A83B11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8CA-9004-4537-B6D8-5BD3C02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CD72-66C8-4107-A706-3EBB5D74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0F5D-2094-47FB-895B-499EF2F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FE44C-7F8C-41A1-838F-5ABA322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2B38-7B4F-4636-839E-729888B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212B-F067-4B11-9C65-8E04B59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64A0-73AA-4EAD-8A43-4FE078D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E9FF-575C-4028-BB8E-F3B86A9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7304-1524-4BF8-87DF-E7151B75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9384-1D7B-4AD3-9940-9ECA4767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19BE-B6B8-421A-BE8F-5A93F40C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C47-49C3-4227-9574-16D92AE6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DCB4-84DE-4419-9292-67FC4E7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41D4-7D32-4E6D-9915-4274E00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8F1D1-72ED-4856-9AF4-125529DE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7F71-0583-4D5F-A7FD-D001086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3FFBA-002E-4C85-AB28-AC720FBF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4724B-DC35-42F9-9634-AE3D3C1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DBCF3-3FAC-4C99-A3D1-490F044E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2A7B-20FE-42DC-A1CB-86BEF7B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BD93-5F5A-4B24-8A9E-A3173E53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AA1B-D5C0-4BD8-8031-39CF53D0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CC4-83D1-4024-889C-68609467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B100-41CC-45D6-A178-291CECBB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D23-4BE2-4C02-86F1-664677F6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5E9-40C1-4DA0-8E93-FA33800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07F-E248-43E9-A7B3-1F314F2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4A19-AB9E-4B8F-BB0C-7019E7BA2F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CC0-9230-4B07-A2AD-9DFD17BE7C0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70AD-D2C1-4AFE-B4B0-2162F3FE34D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090-8D59-4E3B-A7B2-C816B3E230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D887-0882-45A8-B240-34A89E3ABA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57120" y="2928960"/>
            <a:ext cx="84297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вития связной речи у детей младшего школьного возраста с нарушением интеллек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47628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3" descr="девочка.png"/>
          <p:cNvPicPr/>
          <p:nvPr/>
        </p:nvPicPr>
        <p:blipFill>
          <a:blip r:embed="rId1"/>
          <a:stretch/>
        </p:blipFill>
        <p:spPr>
          <a:xfrm>
            <a:off x="1042920" y="549360"/>
            <a:ext cx="2233800" cy="28796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корзина.jpg"/>
          <p:cNvPicPr/>
          <p:nvPr/>
        </p:nvPicPr>
        <p:blipFill>
          <a:blip r:embed="rId2"/>
          <a:stretch/>
        </p:blipFill>
        <p:spPr>
          <a:xfrm>
            <a:off x="5219640" y="47628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лес.jpg"/>
          <p:cNvPicPr/>
          <p:nvPr/>
        </p:nvPicPr>
        <p:blipFill>
          <a:blip r:embed="rId3"/>
          <a:srcRect l="0" t="0" r="0" b="3548"/>
          <a:stretch/>
        </p:blipFill>
        <p:spPr>
          <a:xfrm>
            <a:off x="3348000" y="350028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3" descr="85137_11_1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одержимое 3" descr="85137_7_1.jpeg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igrushka_myagkaya_fancy_mishka_sashka_30_sm_msa01.jpg"/>
          <p:cNvPicPr/>
          <p:nvPr/>
        </p:nvPicPr>
        <p:blipFill>
          <a:blip r:embed="rId1"/>
          <a:stretch/>
        </p:blipFill>
        <p:spPr>
          <a:xfrm>
            <a:off x="2484360" y="476280"/>
            <a:ext cx="4535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9280" y="404640"/>
            <a:ext cx="8964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 Результаты диагностического обследования по выявлению уровня сформированности связной речи младших школьников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08000" y="1916280"/>
          <a:ext cx="8856720" cy="4611600"/>
        </p:xfrm>
        <a:graphic>
          <a:graphicData uri="http://schemas.openxmlformats.org/drawingml/2006/table">
            <a:tbl>
              <a:tblPr/>
              <a:tblGrid>
                <a:gridCol w="1295280"/>
                <a:gridCol w="973080"/>
                <a:gridCol w="1096920"/>
                <a:gridCol w="1098720"/>
                <a:gridCol w="1098720"/>
                <a:gridCol w="1096920"/>
                <a:gridCol w="1098360"/>
                <a:gridCol w="109872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ялкова М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ршков Арт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рканова Ю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истанов Иго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4920" y="40464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 до 21 балла: высокий уровень развития связной ре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 до 15 баллов: средний уровень развития связной ре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 до 9 баллов: недостаточный уровень развития связной ре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8 до 3 баллов: низкий уровень развития связной реч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4000" y="620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ить особенности развития связной речи у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94920" y="404640"/>
            <a:ext cx="8497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вязная речь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475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енности связной речи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4920" y="189000"/>
            <a:ext cx="8497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 изучить и проанализировать психолого – педагогическую литературу по данной проблем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 апробировать методики на развитие связной реч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уровень развития связной речи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5280" y="47592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й называется такая речь, которая может быть понятна на основе ее собственного предметного содержания (С.Я. Рубинштейн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227640" y="3724200"/>
            <a:ext cx="24465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47592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, как правило, некий готовый «рецепт», алгоритм, процедура для проведения каких-либо нацеленных действий. Близко к понятию технология. Методика отличается от метода конкретизацией приемов и задач (Г. М. Коджаспирова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7" name="Рисунок 4" descr="biznjes-knigi-i-rabota.jpg"/>
          <p:cNvPicPr/>
          <p:nvPr/>
        </p:nvPicPr>
        <p:blipFill>
          <a:blip r:embed="rId1"/>
          <a:stretch/>
        </p:blipFill>
        <p:spPr>
          <a:xfrm>
            <a:off x="6012000" y="4365720"/>
            <a:ext cx="27511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47592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обследования связной речи В.П. Глухов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5" descr="2-200x271.png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3024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6" descr="5-200x271.png"/>
          <p:cNvPicPr/>
          <p:nvPr/>
        </p:nvPicPr>
        <p:blipFill>
          <a:blip r:embed="rId2"/>
          <a:stretch/>
        </p:blipFill>
        <p:spPr>
          <a:xfrm>
            <a:off x="3276720" y="333360"/>
            <a:ext cx="2519280" cy="3024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10-200x271.png"/>
          <p:cNvPicPr/>
          <p:nvPr/>
        </p:nvPicPr>
        <p:blipFill>
          <a:blip r:embed="rId3"/>
          <a:stretch/>
        </p:blipFill>
        <p:spPr>
          <a:xfrm>
            <a:off x="6156360" y="33336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17-200x271.png"/>
          <p:cNvPicPr/>
          <p:nvPr/>
        </p:nvPicPr>
        <p:blipFill>
          <a:blip r:embed="rId4"/>
          <a:stretch/>
        </p:blipFill>
        <p:spPr>
          <a:xfrm>
            <a:off x="1692360" y="3573360"/>
            <a:ext cx="2303280" cy="2951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20-200x271.png"/>
          <p:cNvPicPr/>
          <p:nvPr/>
        </p:nvPicPr>
        <p:blipFill>
          <a:blip r:embed="rId5"/>
          <a:stretch/>
        </p:blipFill>
        <p:spPr>
          <a:xfrm>
            <a:off x="4859280" y="3573360"/>
            <a:ext cx="2305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0:58:43Z</dcterms:created>
  <dc:creator>12</dc:creator>
  <dc:description/>
  <dc:language>en-US</dc:language>
  <cp:lastModifiedBy>Admin</cp:lastModifiedBy>
  <dcterms:modified xsi:type="dcterms:W3CDTF">2015-05-06T16:48:07Z</dcterms:modified>
  <cp:revision>26</cp:revision>
  <dc:subject/>
  <dc:title>Государственное образовательное учреждение высшего профессионального образования «Челябинский государственный педагогический университет» (ГОУ ВПО «ЧГПУ») </dc:title>
</cp:coreProperties>
</file>