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5.jpeg" ContentType="image/jpe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C105-33AB-4AE9-A28D-A8675E422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BD3C-C6DA-4BA7-9D80-CC7145826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4072-CD4F-4412-8856-E1CA7BE92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A6DD-6CBB-497E-92DD-9B37F2A79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A6D86-F67F-400A-9EE9-16AF63537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C0DCB-4B83-40D8-9A46-C27DC24A8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D1982-7362-4511-8303-C06351A14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33D8F-D318-4871-8B7B-434922F7A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C7564-C193-42F7-8052-5AE4C7C0F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4E039-F8F0-4CA7-8A5E-9648FDAB2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5F533-F67D-4F68-A55D-4A1FB6FCC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5CEA-16D8-4FE9-B54B-7215687BC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5DA9B-87EE-48A2-8688-668E5EE2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D1309-5885-4DC3-B3B4-863EA930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79336-B755-4F52-B4A9-1FD9680DF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0C774-2358-4A14-A509-C6FBA0935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1CB15-DB7C-49F8-B82A-25906E3C5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D7E55-7DF5-4FBE-9F34-C63EC7159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BA59D-60B1-419A-A02B-A8494B953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3F303-394B-4084-9AF0-3356227D0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D9562-8E7B-4CEB-AB17-74CAFF616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1066E-A15B-42CB-801C-694141F4B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FB77-887C-426E-B9D4-F1AAF5B76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E8834-C9B0-4F0F-A664-839BF3F98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07F31-7C0B-4FB3-8A51-1ED38672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BE700-4DA7-44B4-88AB-0A47781D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DE8D2-3580-42FC-88DA-F95C774A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11780-9F82-4EB9-B002-8AD742B3E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90F55-1F3B-4D82-B4A0-C78E7F4F5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65FD3-4D18-44CC-BBA1-7FED1A7B6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90768-CA3A-475D-A3E4-91E65C40A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94F46-5DD7-47C6-A7DA-289B8BAEB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29E28-4FB0-4DF0-8493-6BD55C93B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81BA-092E-47B6-8578-2CDF908A2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D2751-B3DE-4296-922C-1B7026F32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D6538-52CE-4ADE-8C6F-297144E0E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F8070-5E08-43CC-9421-031813F80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B3458-6C63-4783-9D97-21C6E951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AEF7A-AC96-4DFE-81E9-5D129FB8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4201A-0E1A-446A-9A58-34874AFF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F5F13-922A-419A-9E37-044045C86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BD98C-DC87-4BFB-940C-2B504B313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A090E-06CD-45FD-9470-31A4EDD65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EC2A7-7E48-4C3D-A848-A200EFA82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72AB-7688-4D41-B194-0C3902895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1A095-1D38-4B7A-A856-2E81DC61A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9FBA7-676C-43AB-A30D-0DAA4166B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92E20-DB63-41F4-BBA8-1D11B30A4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E6887-EAD4-4D49-9CBA-6DD3A1F15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18C15-EA5C-4317-9EA2-AD5E1171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1F366-D2E0-4F05-9759-CB764228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D327A-4F3B-4CD8-8D08-0D06B55C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6C493-8FBB-4F29-B9EE-7D35A554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DD12D-8359-4B8E-92EB-F73C836F7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81CE3-3785-4CA6-99E5-B4F8858D7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E4F8-313C-4EA8-B268-F72C5624E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94DAD-4E6E-40FB-9AB4-D72706116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32FF-B200-4C66-AB3A-B176F766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3FE8-C619-4F2E-ABAB-068BC56B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D8A3-D0FC-40AB-9CAE-5B2765B4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8FC35-1FEC-441B-9B0B-CC7FE7857C1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Прямоугольник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Прямоугольник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9CE57-F300-4793-AA5B-14652169207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Прямоугольник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Прямоугольник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0115E-6E65-4E4E-A1BB-FAFF93886A6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026FC-9877-4FA6-89AF-E182D972BED5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216B7-069A-42EE-B39B-91226E41CB3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57120" y="2928960"/>
            <a:ext cx="842976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 развития связной речи у детей младшего школьного возраста с нарушением интеллекта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685800" y="476280"/>
            <a:ext cx="7918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Содержимое 3" descr="девочка.png"/>
          <p:cNvPicPr/>
          <p:nvPr/>
        </p:nvPicPr>
        <p:blipFill>
          <a:blip r:embed="rId1"/>
          <a:stretch/>
        </p:blipFill>
        <p:spPr>
          <a:xfrm>
            <a:off x="1042920" y="549360"/>
            <a:ext cx="2233800" cy="287964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4" descr="корзина.jpg"/>
          <p:cNvPicPr/>
          <p:nvPr/>
        </p:nvPicPr>
        <p:blipFill>
          <a:blip r:embed="rId2"/>
          <a:stretch/>
        </p:blipFill>
        <p:spPr>
          <a:xfrm>
            <a:off x="5219640" y="476280"/>
            <a:ext cx="2376720" cy="259236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5" descr="лес.jpg"/>
          <p:cNvPicPr/>
          <p:nvPr/>
        </p:nvPicPr>
        <p:blipFill>
          <a:blip r:embed="rId3"/>
          <a:srcRect l="0" t="0" r="0" b="3548"/>
          <a:stretch/>
        </p:blipFill>
        <p:spPr>
          <a:xfrm>
            <a:off x="3348000" y="3500280"/>
            <a:ext cx="273672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Содержимое 3" descr="85137_11_1.jpeg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Содержимое 3" descr="85137_7_1.jpeg"/>
          <p:cNvPicPr/>
          <p:nvPr/>
        </p:nvPicPr>
        <p:blipFill>
          <a:blip r:embed="rId1"/>
          <a:stretch/>
        </p:blipFill>
        <p:spPr>
          <a:xfrm>
            <a:off x="611280" y="333360"/>
            <a:ext cx="777708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Содержимое 3" descr="igrushka_myagkaya_fancy_mishka_sashka_30_sm_msa01.jpg"/>
          <p:cNvPicPr/>
          <p:nvPr/>
        </p:nvPicPr>
        <p:blipFill>
          <a:blip r:embed="rId1"/>
          <a:stretch/>
        </p:blipFill>
        <p:spPr>
          <a:xfrm>
            <a:off x="2484360" y="476280"/>
            <a:ext cx="45356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179280" y="404640"/>
            <a:ext cx="896472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. Результаты диагностического обследования по выявлению уровня сформированности связной речи младших школьников с нарушением интеллекта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108000" y="1916280"/>
          <a:ext cx="8856720" cy="4611600"/>
        </p:xfrm>
        <a:graphic>
          <a:graphicData uri="http://schemas.openxmlformats.org/drawingml/2006/table">
            <a:tbl>
              <a:tblPr/>
              <a:tblGrid>
                <a:gridCol w="1295280"/>
                <a:gridCol w="973080"/>
                <a:gridCol w="1096920"/>
                <a:gridCol w="1098720"/>
                <a:gridCol w="1098720"/>
                <a:gridCol w="1096920"/>
                <a:gridCol w="1098360"/>
                <a:gridCol w="1098720"/>
              </a:tblGrid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е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Задание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Задание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Задание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Задание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Задание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Задание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Всего бал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Вялкова Мар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Горшков Арту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Ерканова Юл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Кистанов Иго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394920" y="404640"/>
            <a:ext cx="84978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26 до 21 балла: высокий уровень развития связной речи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20 до 15 баллов: средний уровень развития связной речи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14 до 9 баллов: недостаточный уровень развития связной речи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8 до 3 баллов: низкий уровень развития связной речи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324000" y="620640"/>
            <a:ext cx="84960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исследования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явить особенности развития связной речи у детей младшего школьного возраста с нарушением интеллекта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394920" y="404640"/>
            <a:ext cx="84978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 исследова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связная речь детей младшего школьного возраста с нарушением интеллекта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95280" y="475920"/>
            <a:ext cx="84247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 исследования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собенности связной речи детей младшего школьного возраста с нарушением интеллекта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4920" y="189000"/>
            <a:ext cx="84978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исследования: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етически изучить и проанализировать психолого – педагогическую литературу по данной проблеме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обрать и апробировать методики на развитие связной речи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ить уровень развития связной речи детей младшего школьного возраста с нарушением интеллекта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395280" y="475920"/>
            <a:ext cx="83534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зной называется такая речь, которая может быть понятна на основе ее собственного предметного содержания (С.Я. Рубинштейн)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6227640" y="3724200"/>
            <a:ext cx="244656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395280" y="475920"/>
            <a:ext cx="8291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4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к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это, как правило, некий готовый «рецепт», алгоритм, процедура для проведения каких-либо нацеленных действий. Близко к понятию технология. Методика отличается от метода конкретизацией приемов и задач (Г. М. Коджаспирова)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37" name="Рисунок 4" descr="biznjes-knigi-i-rabota.jpg"/>
          <p:cNvPicPr/>
          <p:nvPr/>
        </p:nvPicPr>
        <p:blipFill>
          <a:blip r:embed="rId1"/>
          <a:stretch/>
        </p:blipFill>
        <p:spPr>
          <a:xfrm>
            <a:off x="6012000" y="4365720"/>
            <a:ext cx="2751120" cy="21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94920" y="475920"/>
            <a:ext cx="828036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ка обследования связной речи В.П. Глухова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Содержимое 5" descr="2-200x271.png"/>
          <p:cNvPicPr/>
          <p:nvPr/>
        </p:nvPicPr>
        <p:blipFill>
          <a:blip r:embed="rId1"/>
          <a:stretch/>
        </p:blipFill>
        <p:spPr>
          <a:xfrm>
            <a:off x="395280" y="333360"/>
            <a:ext cx="2448000" cy="302436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6" descr="5-200x271.png"/>
          <p:cNvPicPr/>
          <p:nvPr/>
        </p:nvPicPr>
        <p:blipFill>
          <a:blip r:embed="rId2"/>
          <a:stretch/>
        </p:blipFill>
        <p:spPr>
          <a:xfrm>
            <a:off x="3276720" y="333360"/>
            <a:ext cx="2519280" cy="302436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7" descr="10-200x271.png"/>
          <p:cNvPicPr/>
          <p:nvPr/>
        </p:nvPicPr>
        <p:blipFill>
          <a:blip r:embed="rId3"/>
          <a:stretch/>
        </p:blipFill>
        <p:spPr>
          <a:xfrm>
            <a:off x="6156360" y="333360"/>
            <a:ext cx="2448000" cy="309564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8" descr="17-200x271.png"/>
          <p:cNvPicPr/>
          <p:nvPr/>
        </p:nvPicPr>
        <p:blipFill>
          <a:blip r:embed="rId4"/>
          <a:stretch/>
        </p:blipFill>
        <p:spPr>
          <a:xfrm>
            <a:off x="1692360" y="3573360"/>
            <a:ext cx="2303280" cy="295128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9" descr="20-200x271.png"/>
          <p:cNvPicPr/>
          <p:nvPr/>
        </p:nvPicPr>
        <p:blipFill>
          <a:blip r:embed="rId5"/>
          <a:stretch/>
        </p:blipFill>
        <p:spPr>
          <a:xfrm>
            <a:off x="4859280" y="3573360"/>
            <a:ext cx="230508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8T10:58:43Z</dcterms:created>
  <dc:creator>12</dc:creator>
  <dc:description/>
  <dc:language>en-US</dc:language>
  <cp:lastModifiedBy>Admin</cp:lastModifiedBy>
  <dcterms:modified xsi:type="dcterms:W3CDTF">2015-05-06T16:48:07Z</dcterms:modified>
  <cp:revision>26</cp:revision>
  <dc:subject/>
  <dc:title>Государственное образовательное учреждение высшего профессионального образования «Челябинский государственный педагогический университет» (ГОУ ВПО «ЧГПУ») </dc:title>
</cp:coreProperties>
</file>