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3C4-C551-46BF-8216-3A6DADDF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E16-BD80-46EE-BCCB-6E8BD620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70A-6ACE-46A1-8BAB-5A49A9D2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5B3-9AB2-4CE4-BF54-D8CC627C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D6F-43DA-4528-9274-39AA6CFF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93F-76FA-4201-9008-0C91A921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14D-AFB1-49B7-AF27-2927B595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F36-B893-40DB-95E6-8620A7AB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ADB-0E0E-4526-965F-5947BD78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4C4-1934-428B-B5F8-74ABC64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D42-B2D3-459D-9A0C-DEB8A5EA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0D0-1000-4A7A-B9B2-5E531D7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7B6-48D3-4972-A731-C38699B10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1052640"/>
            <a:ext cx="7634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ласс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рок 4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e56"/>
                </a:solidFill>
                <a:latin typeface="Arial"/>
              </a:rPr>
              <a:t>Тема: «Кто где живё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ушай рассказ Рокки про его друга и скажи кто это и где он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880000" cy="281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313440" cy="291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33130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кажи о своём друг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 имя, где живёт и какой по характ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have friend 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______  She is 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lives in  __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lives in 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зови слова с этими зву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o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k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  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o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084640"/>
            <a:ext cx="324000" cy="324000"/>
          </a:xfrm>
          <a:custGeom>
            <a:avLst/>
            <a:gdLst/>
            <a:ahLst/>
            <a:rect l="l" t="t" r="r" b="b"/>
            <a:pathLst>
              <a:path w="204" h="204">
                <a:moveTo>
                  <a:pt x="23" y="98"/>
                </a:moveTo>
                <a:cubicBezTo>
                  <a:pt x="34" y="83"/>
                  <a:pt x="45" y="68"/>
                  <a:pt x="68" y="53"/>
                </a:cubicBezTo>
                <a:cubicBezTo>
                  <a:pt x="91" y="38"/>
                  <a:pt x="136" y="0"/>
                  <a:pt x="159" y="7"/>
                </a:cubicBezTo>
                <a:cubicBezTo>
                  <a:pt x="182" y="14"/>
                  <a:pt x="204" y="68"/>
                  <a:pt x="204" y="98"/>
                </a:cubicBezTo>
                <a:cubicBezTo>
                  <a:pt x="204" y="128"/>
                  <a:pt x="182" y="174"/>
                  <a:pt x="159" y="189"/>
                </a:cubicBezTo>
                <a:cubicBezTo>
                  <a:pt x="136" y="204"/>
                  <a:pt x="91" y="196"/>
                  <a:pt x="68" y="189"/>
                </a:cubicBezTo>
                <a:cubicBezTo>
                  <a:pt x="45" y="182"/>
                  <a:pt x="0" y="151"/>
                  <a:pt x="23" y="144"/>
                </a:cubicBezTo>
                <a:cubicBezTo>
                  <a:pt x="46" y="137"/>
                  <a:pt x="174" y="144"/>
                  <a:pt x="204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87280" y="5444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187280" y="551628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ушай и проч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46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- [ /\] – r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, d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, f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ny, b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, j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p, m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e56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безударном слоге и в конце слова читается как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[i]: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nn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merr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Trick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ч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t, ugly, fun, sun, bus, hurry, 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s can jump. A cat can skip. But it can’t swim. Big pigs can’t run. Tom’s cat is funny. A duck can’t sing. I am not ang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вь артикли там, где это ну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got </a:t>
            </a:r>
            <a:r>
              <a:rPr b="0" lang="en-US" sz="3200" spc="-1" strike="noStrike">
                <a:solidFill>
                  <a:srgbClr val="e46e5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ck. </a:t>
            </a:r>
            <a:r>
              <a:rPr b="0" lang="en-US" sz="3200" spc="-1" strike="noStrike">
                <a:solidFill>
                  <a:srgbClr val="e46e56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ck is f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__Jill has got __ pig. ___ pig is ug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Tim has got __ bus. __bus isn’t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Alice has got __cat. __cat is f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__cat has got __hat. __hat is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пиши по образц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k/fat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 has got </a:t>
            </a:r>
            <a:r>
              <a:rPr b="0" lang="en-US" sz="3200" spc="-1" strike="noStrike" u="sng">
                <a:solidFill>
                  <a:srgbClr val="e46e56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e46e56"/>
                </a:solidFill>
                <a:latin typeface="Arial"/>
              </a:rPr>
              <a:t> du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e46e56"/>
                </a:solidFill>
                <a:latin typeface="Arial"/>
              </a:rPr>
              <a:t>The du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/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/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/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5:20Z</dcterms:created>
  <dc:creator>РУДЫХ</dc:creator>
  <dc:description/>
  <dc:language>en-US</dc:language>
  <cp:lastModifiedBy>РУДЫХ</cp:lastModifiedBy>
  <dcterms:modified xsi:type="dcterms:W3CDTF">2009-03-03T12:46:26Z</dcterms:modified>
  <cp:revision>2</cp:revision>
  <dc:subject/>
  <dc:title>Слайд 1</dc:title>
</cp:coreProperties>
</file>