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EBD-8EFC-47A9-A8AD-BED2A279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75C-05A5-458B-B367-22B8051A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790-0252-4230-B896-69343EE9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0AD-0A69-4A7A-A8C9-C84AF4A0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BFE-D45A-4CD1-B120-4A866867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FF6-EA70-4978-9620-1D763FF4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C22-6918-46A7-9414-CD0D1B11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A56-0A04-4197-B395-FC86B5F7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1B2-EB02-460E-9A85-9E0135A8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8A6-BF7F-430D-AD06-EBDE97C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FDE-A061-41F1-8874-1BCFB2DD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844-F66E-4258-B05E-DA3BF4D2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EBAE-DF15-4C90-A870-55F8C8141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99640" y="1052640"/>
            <a:ext cx="7634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ласс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рок 4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46e56"/>
                </a:solidFill>
                <a:latin typeface="Arial"/>
              </a:rPr>
              <a:t>Тема: «Кто где живё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ушай рассказ Рокки про его друга и скажи кто это и где он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880000" cy="281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313440" cy="291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33130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кажи о своём друг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 имя, где живёт и какой по характ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have friend 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is______  She is 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lives in  ____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lives in 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зови слова с этими зву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e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o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k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k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  e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 o 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084640"/>
            <a:ext cx="324000" cy="324000"/>
          </a:xfrm>
          <a:custGeom>
            <a:avLst/>
            <a:gdLst/>
            <a:ahLst/>
            <a:rect l="l" t="t" r="r" b="b"/>
            <a:pathLst>
              <a:path w="204" h="204">
                <a:moveTo>
                  <a:pt x="23" y="98"/>
                </a:moveTo>
                <a:cubicBezTo>
                  <a:pt x="34" y="83"/>
                  <a:pt x="45" y="68"/>
                  <a:pt x="68" y="53"/>
                </a:cubicBezTo>
                <a:cubicBezTo>
                  <a:pt x="91" y="38"/>
                  <a:pt x="136" y="0"/>
                  <a:pt x="159" y="7"/>
                </a:cubicBezTo>
                <a:cubicBezTo>
                  <a:pt x="182" y="14"/>
                  <a:pt x="204" y="68"/>
                  <a:pt x="204" y="98"/>
                </a:cubicBezTo>
                <a:cubicBezTo>
                  <a:pt x="204" y="128"/>
                  <a:pt x="182" y="174"/>
                  <a:pt x="159" y="189"/>
                </a:cubicBezTo>
                <a:cubicBezTo>
                  <a:pt x="136" y="204"/>
                  <a:pt x="91" y="196"/>
                  <a:pt x="68" y="189"/>
                </a:cubicBezTo>
                <a:cubicBezTo>
                  <a:pt x="45" y="182"/>
                  <a:pt x="0" y="151"/>
                  <a:pt x="23" y="144"/>
                </a:cubicBezTo>
                <a:cubicBezTo>
                  <a:pt x="46" y="137"/>
                  <a:pt x="174" y="144"/>
                  <a:pt x="204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87280" y="5444640"/>
            <a:ext cx="216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187280" y="551628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ушай и проч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46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- [ /\] – r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, d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, f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ny, b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, j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p, m</a:t>
            </a:r>
            <a:r>
              <a:rPr b="0" lang="en-US" sz="6000" spc="-1" strike="noStrike">
                <a:solidFill>
                  <a:srgbClr val="e46e56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e56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ru-RU" sz="5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безударном слоге и в конце слова читается как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[i]: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unn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 merr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 Trick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ч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t, ugly, fun, sun, bus, hurry, m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gs can jump. A cat can skip. But it can’t swim. Big pigs can’t run. Tom’s cat is funny. A duck can’t sing. I am not ang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вь артикли там, где это ну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got </a:t>
            </a:r>
            <a:r>
              <a:rPr b="0" lang="en-US" sz="3200" spc="-1" strike="noStrike">
                <a:solidFill>
                  <a:srgbClr val="e46e5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ck. </a:t>
            </a:r>
            <a:r>
              <a:rPr b="0" lang="en-US" sz="3200" spc="-1" strike="noStrike">
                <a:solidFill>
                  <a:srgbClr val="e46e56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ck is f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__Jill has got __ pig. ___ pig is ug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Tim has got __ bus. __bus isn’t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Alice has got __cat. __cat is f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__cat has got __hat. __hat is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9e2"/>
            </a:gs>
            <a:gs pos="100000">
              <a:srgbClr val="c8f4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пиши по образц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k/fat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 has got </a:t>
            </a:r>
            <a:r>
              <a:rPr b="0" lang="en-US" sz="3200" spc="-1" strike="noStrike" u="sng">
                <a:solidFill>
                  <a:srgbClr val="e46e56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e46e56"/>
                </a:solidFill>
                <a:latin typeface="Arial"/>
              </a:rPr>
              <a:t> du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e46e56"/>
                </a:solidFill>
                <a:latin typeface="Arial"/>
              </a:rPr>
              <a:t>The du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/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/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/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25:20Z</dcterms:created>
  <dc:creator>РУДЫХ</dc:creator>
  <dc:description/>
  <dc:language>en-US</dc:language>
  <cp:lastModifiedBy>РУДЫХ</cp:lastModifiedBy>
  <dcterms:modified xsi:type="dcterms:W3CDTF">2009-03-03T12:46:26Z</dcterms:modified>
  <cp:revision>2</cp:revision>
  <dc:subject/>
  <dc:title>Слайд 1</dc:title>
</cp:coreProperties>
</file>