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E10C9-B710-4D3D-9A42-9127953423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9F0BB-5F54-43A2-9DC5-CD2BF15F23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2A94-EEC1-44D3-A44A-4F0CB4D9A1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EF8E-0924-4C81-8A52-39A1BAE40A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42B16-5F2F-4C6B-8A7D-32B9613CC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24F30-3913-4A8D-9D85-8F28460983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0F80-8F62-4454-91BB-A092B7BF6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AB0FE-BE4F-4C0A-92F1-85ECE7EFA1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A304A-13DA-42DD-AB6B-59243E70A3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30B30-5765-4012-A93D-EF86F707F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E1A3-8302-4E65-BD5F-5615FA42FC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5796C-D812-438D-8BE4-809B668FF4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0AD-1053-4EF3-9CA0-C6CC19DE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CE1-E55F-4370-A82E-AA3D3D9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1FC-ECED-4126-B5A4-BB3317F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CBF-10C3-4211-9D88-0A39CB98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375-D208-4371-AA16-517AC193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587-D3A1-439B-A523-E8AEFBF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534-5455-487D-B6CC-53598ED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C91-964A-43E5-965A-0B32254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129-0729-40A4-9E0D-80657269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865-50F1-41D7-BF56-29F110A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2EC-122A-4388-83A6-4143AF8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001-73E2-493A-9F91-7C78CDA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F223F4-1D35-4E93-AA40-21B15F9B05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444680" y="225360"/>
            <a:ext cx="8186760" cy="2541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240" y="4422240"/>
            <a:ext cx="50292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ПРАКТИКУМ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111400" y="708120"/>
            <a:ext cx="7358040" cy="55573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выполнения гимнастики важно помнить о созда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ого эмоционального настро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ребенка, для этого вы можете проявить свою фантазию и обратить артикуляционную гимнастику в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хвалите своего ребёнка даже за маленькие успех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можете использовать специ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ую литерату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будет отличным подспорьем в работе, сделает ваши занятия интереснее, весел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468440" y="2065320"/>
            <a:ext cx="673416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Уда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успехов и удовольствия В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73"/>
                </a:solidFill>
                <a:latin typeface="Arial"/>
                <a:ea typeface="Calibri"/>
              </a:rPr>
              <a:t>в общении с ребён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111320" y="1375200"/>
            <a:ext cx="814392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Когда с язычком малыш ваш не дру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Всегда ли ему логопед будет нуж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А может, родители, Вам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Самим заниматься с детьми, не ле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Красивая речь – никому не пом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73"/>
                </a:solidFill>
                <a:latin typeface="Arial"/>
                <a:ea typeface="Times New Roman"/>
              </a:rPr>
              <a:t>Вместе с детьми Вы добьётесь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611280" y="708120"/>
            <a:ext cx="8786880" cy="484884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ый аппарат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часть голосового аппарата, формирующая звуки речи, а органы, входящие в его состав – артикуляционные органы. Работа этих органов, направленная на создание звуков речи (гласных, согласных) называется артикуля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ему относятся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овая полость (щеки, губы, зубы, язык, челюсти, нёбо), глотка, гортан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помнить, что ротовая полость – это очень важный резонатор (подвижный резонатор), от “архитектуры” которого зависит качество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2039760" y="922320"/>
            <a:ext cx="7143840" cy="448308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наш артикуляционный аппарат только в том случа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ждый орган, каждая мышца этого органа функционирует прави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без каких-либо изъянов и дис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для того, чтобы выявить изъян или нарушение, нужно представить себе, каково оно в норме. Для этого, Вам придётся провести какое-то вре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зеркал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1539720" y="708120"/>
            <a:ext cx="8001000" cy="55573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глянем на себя в зерк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о спокойное, губы находя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ыб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лёпайте губами, словно говор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-ПА-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ерите губ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рубо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подним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хнюю гу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рот. Посмотрите, какая у него красив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ам понравится, как спокойно в нижней челюсти лежит 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рня языка рассмотрите свод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енький язы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пробуйте зевнуть, почувств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е нё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едь от верхних зубов ид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 нё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мягкое, подвижное нёбо и маленький язычо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1325520" y="708120"/>
            <a:ext cx="8001000" cy="589716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евелите язык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тороны в сторону, вперед, назад, вправо, влево, круговые обороты в обе стороны «винтик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унь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чик язы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стро-быстро перемещайте его из угла в угол рта «час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увств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чик языка, он активный и твердый, как моло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йте кончиком языка по зубам изнутри, как будто (беззвучно) говор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-да-да-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орошо в этот момент представить себе “высокое нёбо”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ный 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чно произнес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-Д, Т-Д, Т-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уйте щё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росьте возду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м “хлопком” через сжатые, собранные в “пучок”, гу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чно произнеси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-Б, П-Б, П-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1039680" y="922320"/>
            <a:ext cx="8358480" cy="453780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просто откройте ро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игайте нижней челю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тороны, почувствуйте свободу этого движения. Делайте это пока не почувствуете легкую уста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любое стихотворение, прочитайте его для себя перед зеркалом. Проследите за сво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цом, ртом, глаз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чтения. Послушайте звучание сво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аз, прежде чем начать говорить, наберите в лёгкие воздух, ве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обходимо и для звучания голоса, и как средство вырази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1325520" y="636480"/>
            <a:ext cx="8001000" cy="589716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му же научите своих дет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ажно, есть у них нарушения речи или нет, такая гимнасти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бсолютно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лучше ребёнок будет владеть своим артикуляционным аппаратом, т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ще и правильнее будет его ре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ем меньше будет у него (да и у Вас) проблем при обучении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у нужно проводить перед зеркалом. Ребенок должен хорошо видеть лицо взросл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свое лицо, чтобы самостоятельно контролировать правильность выполнения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1539720" y="708120"/>
            <a:ext cx="7858440" cy="621108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 д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чем приступить к выполнению упражнений, вы должны выяснить, как ваш ребён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ируется в простран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может ли он показать, что находится справа, слева, впереди, сзади, наверху, внизу; различает ли он правую и левую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о предстоящем упражнении, использу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ые при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вильное выполнение упражн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е ребенку повторить упражнени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контролир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го выпол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ите з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че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яемых ребенком движений: точность движения, плавность, темп выполнения, устойчивость, переход от одного движения к другому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/>
  <dc:description/>
  <dc:language>en-US</dc:language>
  <cp:lastModifiedBy>Костя</cp:lastModifiedBy>
  <dcterms:modified xsi:type="dcterms:W3CDTF">2013-11-22T18:21:16Z</dcterms:modified>
  <cp:revision>11</cp:revision>
  <dc:subject/>
  <dc:title>Слайд 1</dc:title>
</cp:coreProperties>
</file>