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F8082-FBE9-4C96-9D18-24B14D08DD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92492-BBB1-42F0-854E-9A5B2B6EAC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4CBC6-6E26-4D7D-B189-C5572B6943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01EDD-83A5-402C-93F6-04629401C0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312D1-FC7E-4CAB-990B-8267A47861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B50EC-4D4C-407C-B7FB-08B383CE9A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49901-19CD-427C-859B-0D8B17BF89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78612-0396-4A9F-A4A6-8C33D52D63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73FAE-29B0-45B0-ADD7-A67ED9A851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4BC64-3B76-44C5-8A3E-F59F742E86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64D3D-6CD8-4D21-9A76-EB7C7DD4C0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391F3-26B0-4BFC-8164-AEC0D9DF1E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5F9-A245-4A4F-B12C-6D352CA3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A42-D53C-40FB-A8C4-4679F359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6E9-19AC-466B-93CE-18BBE306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BA7-8A55-4DDD-AC23-FA1B3A85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3C8-B8A2-4F64-BE3A-3E36B70B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A57-84F3-4988-98B6-450F34F4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7DE-005B-44ED-B00F-E38445C2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34E-3009-44A8-AC05-8DA42001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CDB-1D0F-4812-83B8-BAD8E0F1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ECE-3C61-405D-8B25-BA1FA42C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5B3-3CF2-4C15-BB92-3DD040B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E05-81FD-4F98-B283-560B7EE7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3A44B0-7465-49ED-B78F-B6C57080DE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1444680" y="225360"/>
            <a:ext cx="8186760" cy="2541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240" y="4422240"/>
            <a:ext cx="50292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ПРАКТИКУМ ДЛ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2111400" y="708120"/>
            <a:ext cx="7358040" cy="555732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выполнения гимнастики важно помнить о созда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ельного эмоционального настро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ребенка, для этого вы можете проявить свою фантазию и обратить артикуляционную гимнастику в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 хвалите своего ребёнка даже за маленькие успех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можете использовать специальн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тическую литерату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будет отличным подспорьем в работе, сделает ваши занятия интереснее, веселе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1468440" y="2065320"/>
            <a:ext cx="673416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9973"/>
                </a:solidFill>
                <a:latin typeface="Arial"/>
                <a:ea typeface="Calibri"/>
              </a:rPr>
              <a:t>Удач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9973"/>
                </a:solidFill>
                <a:latin typeface="Arial"/>
                <a:ea typeface="Calibri"/>
              </a:rPr>
              <a:t>успехов и удовольствия В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9973"/>
                </a:solidFill>
                <a:latin typeface="Arial"/>
                <a:ea typeface="Calibri"/>
              </a:rPr>
              <a:t>в общении с ребёнк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111320" y="1375200"/>
            <a:ext cx="814392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Когда с язычком малыш ваш не дру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Всегда ли ему логопед будет нуж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А может, родители, Вам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Самим заниматься с детьми, не ле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Красивая речь – никому не пом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Вместе с детьми Вы добьётесь успех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5"/>
          <p:cNvSpPr/>
          <p:nvPr/>
        </p:nvSpPr>
        <p:spPr>
          <a:xfrm>
            <a:off x="611280" y="708120"/>
            <a:ext cx="8786880" cy="48488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ый аппарат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часть голосового аппарата, формирующая звуки речи, а органы, входящие в его состав – артикуляционные органы. Работа этих органов, направленная на создание звуков речи (гласных, согласных) называется артикуля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ему относятся: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товая полость (щеки, губы, зубы, язык, челюсти, нёбо), глотка, гортань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помнить, что ротовая полость – это очень важный резонатор (подвижный резонатор), от “архитектуры” которого зависит качество 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2039760" y="922320"/>
            <a:ext cx="7143840" cy="448308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ет наш артикуляционный аппарат только в том случае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ждый орган, каждая мышца этого органа функционирует прави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без каких-либо изъянов и дис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для того, чтобы выявить изъян или нарушение, нужно представить себе, каково оно в норме. Для этого, Вам придётся провести какое-то врем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зеркал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1539720" y="708120"/>
            <a:ext cx="8001000" cy="555732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глянем на себя в зерк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о спокойное, губы находя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ыбни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шлёпайте губами, словно говор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-ПА-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ерите губ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рубо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подним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рхнюю гу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йте рот. Посмотрите, какая у него красив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ам понравится, как спокойно в нижней челюсти лежит 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рня языка рассмотрите свод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енький языч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пробуйте зевнуть, почувств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гкое нё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едь от верхних зубов ид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дое нё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мягкое, подвижное нёбо и маленький язычок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1325520" y="708120"/>
            <a:ext cx="8001000" cy="589716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шевелите язык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тороны в сторону, вперед, назад, вправо, влево, круговые обороты в обе стороны «винтико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унь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чик язы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ыстро-быстро перемещайте его из угла в угол рта «час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увству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нчик языка, он активный и твердый, как моло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ейте кончиком языка по зубам изнутри, как будто (беззвучно) говорит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-да-да-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орошо в этот момент представить себе “высокое нёбо”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мный 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ергично произнесит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-Д, Т-Д, Т-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уйте щёки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бросьте возду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им “хлопком” через сжатые, собранные в “пучок”, гу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ергично произнесит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-Б, П-Б, П-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1039680" y="922320"/>
            <a:ext cx="8358480" cy="453780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просто откройте рот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вигайте нижней челю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тороны, почувствуйте свободу этого движения. Делайте это пока не почувствуете легкую уста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ьмите любое стихотворение, прочитайте его для себя перед зеркалом. Проследите за сво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цом, ртом, глаз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чтения. Послушайте звучание сво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раз, прежде чем начать говорить, наберите в лёгкие воздух, вед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обходимо и для звучания голоса, и как средство выразительнос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1325520" y="636480"/>
            <a:ext cx="8001000" cy="589716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му же научите своих дети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ажно, есть у них нарушения речи или нет, такая гимнасти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з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бсолютно вс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лучше ребёнок будет владеть своим артикуляционным аппаратом, т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ще и правильнее будет его реч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ем меньше будет у него (да и у Вас) проблем при обучении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у нужно проводить перед зеркалом. Ребенок должен хорошо видеть лицо взросл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свое лицо, чтобы самостоятельно контролировать правильность выполнения упра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1539720" y="708120"/>
            <a:ext cx="7858440" cy="621108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д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 чем приступить к выполнению упражнений, вы должны выяснить, как ваш ребёно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ентируется в простран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может ли он показать, что находится справа, слева, впереди, сзади, наверху, внизу; различает ли он правую и левую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жите о предстоящем упражнении, использу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вые при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ж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авильное выполнение упражне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ите ребенку повторить упражнение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контролиру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го выпол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ите з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чест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яемых ребенком движений: точность движения, плавность, темп выполнения, устойчивость, переход от одного движения к другому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7:40:23Z</dcterms:created>
  <dc:creator/>
  <dc:description/>
  <dc:language>en-US</dc:language>
  <cp:lastModifiedBy>Костя</cp:lastModifiedBy>
  <dcterms:modified xsi:type="dcterms:W3CDTF">2013-11-22T18:21:16Z</dcterms:modified>
  <cp:revision>11</cp:revision>
  <dc:subject/>
  <dc:title>Слайд 1</dc:title>
</cp:coreProperties>
</file>