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61C4-E5DB-4AB8-A8AC-08E8EFD61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2AD3-F732-433A-8A61-B42DB8E56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70EE-C8EA-4E23-A68A-CF7673733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032C-A5EA-492F-8B71-1A9F38A6C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CD3F5-918B-4695-90DF-253A60644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26740-5E6B-4F30-85D4-879AC5DC8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82521-7B1E-4D43-9101-50172A3E9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398BF-0626-40E3-AABF-6B3C9DD85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B9A09-FDB3-4FAF-9F94-6E910FADA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D7EA5-DE00-47D2-851A-4123D85BE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DBC75-E6A0-4046-A18C-01BD77E53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DF64-5A53-4C8D-BDB4-78E076662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C757F-1E3B-4909-8212-11E41F44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9F1BD-4E65-4FED-86CE-03AE64156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977D6-4850-439E-BECE-3A57ED7EF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0A838-BFEC-4A52-8B39-02C4F1C32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D9C85-23DE-4042-90F0-625EB2F8E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75D2-121B-46EC-9A36-E3D2855D9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9E19-4532-4D40-B877-DE414BFCB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18AF-2DF9-4BE0-AB4F-1F6C4CCBF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A2F3-FE11-426C-A2D9-244F32FCB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B6D2-7E0B-4EC8-B76B-02AB76813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54CF-8D82-462B-A862-250E1022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2F9D-3DF1-40D8-9172-B6465A17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f5d31"/>
                  </a:gs>
                  <a:gs pos="100000">
                    <a:srgbClr val="52613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4a572e"/>
                  </a:gs>
                  <a:gs pos="50000">
                    <a:srgbClr val="526133"/>
                  </a:gs>
                  <a:gs pos="100000">
                    <a:srgbClr val="4a572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8463E-0D5D-4353-8B41-0D0317C1C40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f5d31"/>
                  </a:gs>
                  <a:gs pos="100000">
                    <a:srgbClr val="52613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4a572e"/>
                  </a:gs>
                  <a:gs pos="50000">
                    <a:srgbClr val="526133"/>
                  </a:gs>
                  <a:gs pos="100000">
                    <a:srgbClr val="4a572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FD812-8854-40B6-BF60-72A863A72D6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Город-герой  Киев.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полнили Кушнир Даша и Спирин Иль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014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42472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Начало войны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Уже 22 Июня 1941г., в первый день войны, фашистская авиация бомбардировала Киев. Тысячи киевлян пошли в ряды Красной Арми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В начале июля в городе было создано 13 истребительных батальонов и 19 отрядов народного ополчения общим количеством 33 тысячи человек. В строительстве оборонных рубежей вокруг Киева принимало участие около 160 тысяч жителей города. С 7 июля началась его оборон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301680" y="2181240"/>
            <a:ext cx="4194000" cy="33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8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" dur="10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1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96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101" dur="5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Сталин не оставляет Киев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сентябре 1941 Сталин, беспокоясь за Москву, больше всего заботился об укреплении западного направления, ибо он был абсолютно уверен, что немецкие войска вскоре возобновят наступление на Москву через Брянск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301680" y="2008080"/>
            <a:ext cx="4194000" cy="36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" dur="10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2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37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w)" to="(-#ppt_w*2)">
                                      <p:cBhvr additive="repl">
                                        <p:cTn id="142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3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Наступление танковой группы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итва под Киевом — крупномасштабное сражение Красной Армии и вермахта в июле-сентябре 1941. С немецкой стороны в сражении участвовала группа армий «Юг» под командованием фельдмаршала Рундштедта, а также 2-я танковая группа и 2-я армия из группы армий «Центр», с советской — войска Юго-Западного фронта под командованием генерала-полковника М. П. Кирпоноса в составе пяти общевойсковых армий и Пинской флотилии под командованием контр-адмирала Д. Д. Рогачёва, под общим руководством Маршала Советского Союза С. М. Будённог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301680" y="1677960"/>
            <a:ext cx="41940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77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1" dur="770" fill="hold"/>
                                        <p:tgtEl>
                                          <p:spTgt spid="3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3" dur="77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5" dur="77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7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8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89" dur="5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Оборона Киев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борона Киевского укреплённого района является составной частью Киевской стратегической оборонительной операции (7 июля 1941 — 26 сентября 1941). Усилиями оборонявшихся, совместно с 26-й (Ф.Я. Костенко) и 5-й армиями (М.И. Потапов), были задержаны на 2 месяца и ввязаны в изнурительные позиционные бои западнее Киева части 6-й армии немцев. Это позволило в тяжёлой ситуации 1941-го эвакуровать многие промышленные предприятия города, часть мирного населения и контингенты будущих призывнико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45352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200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w)" to="(-#ppt_w*2)">
                                      <p:cBhvr additive="repl">
                                        <p:cTn id="229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0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2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Победа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селение Киева активно боролось против оккупантов , было создано 68 подпольных организаций и групп. 6 ноября 1943 года в результате Киевской наступательной операции советские войска освободили столицу Украины от фашист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41767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5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7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diamond(out)" transition="out">
                                      <p:cBhvr additive="repl">
                                        <p:cTn id="272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7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ahoma"/>
              </a:rPr>
              <a:t>Спасибо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ahoma"/>
              </a:rPr>
              <a:t>За 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ahoma"/>
              </a:rPr>
              <a:t>Внимание!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3" dur="5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8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4" dur="10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6" dur="10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1" dur="5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7" dur="50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9" dur="50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7T11:11:54Z</dcterms:created>
  <dc:creator>пк</dc:creator>
  <dc:description/>
  <dc:language>en-US</dc:language>
  <cp:lastModifiedBy>Home</cp:lastModifiedBy>
  <dcterms:modified xsi:type="dcterms:W3CDTF">2014-05-18T18:20:15Z</dcterms:modified>
  <cp:revision>3</cp:revision>
  <dc:subject/>
  <dc:title>Киев</dc:title>
</cp:coreProperties>
</file>