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36F-44B3-4218-9576-D0713DBA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0FB-2C70-4EDD-ACBF-6A5D249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D03-4420-4135-A6A0-D4C61AAD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43E-16C4-4C1A-9B94-0C640FD7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BA12-19BB-4DE1-9E80-30B6C541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8A5A-3DE8-42E2-B895-9E7AA5C3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96E5-1C33-420C-9125-C6D764BF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F233-4C13-45E0-84BC-6CFC0680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60A3-8228-4FF3-9B4B-2A717E3C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0DD-5AE3-48BA-AC8F-F8D26E7C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6F01-C47F-46CC-9456-37572345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927-94D3-4056-B4B7-C09B2325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C181-3255-4462-9C5C-451442D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55DE-B0BB-4589-BE67-80F48068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974F-B27E-469B-8995-050823ED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7A3F-D1EF-49D7-BAAE-CFB22CA2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AFF6-2DE2-457A-ADA8-B93B519D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2CF-2A0D-4006-B3DB-19B6E4FC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2EB-8382-4186-9E0C-02A8C0D6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476-1F67-49F1-985B-88E57B83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156-EB90-4F5A-B8DC-34C4C3A5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403-F084-4D8E-8172-155ECD8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02C-EA49-4159-A049-AB81BD1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509-7BC8-42C0-8B9C-7A163546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7E99-08DB-4637-B031-545F3A473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763B-7874-4B77-B5FA-86F95FBBC9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Город-герой  Киев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и Кушнир Даша и Спирин Ил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14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Начало вой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же 22 Июня 1941г., в первый день войны, фашистская авиация бомбардировала Киев. Тысячи киевлян пошли в ряды Красной Арм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начале июля в городе было создано 13 истребительных батальонов и 19 отрядов народного ополчения общим количеством 33 тысячи человек. В строительстве оборонных рубежей вокруг Киева принимало участие около 160 тысяч жителей города. С 7 июля началась его оборо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1680" y="2181240"/>
            <a:ext cx="41940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талин не оставляет Кие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ентябре 1941 Сталин, беспокоясь за Москву, больше всего заботился об укреплении западного направления, ибо он был абсолютно уверен, что немецкие войска вскоре возобновят наступление на Москву через Брянс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01680" y="2008080"/>
            <a:ext cx="4194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Наступление танковой групп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итва под Киевом — крупномасштабное сражение Красной Армии и вермахта в июле-сентябре 1941. С немецкой стороны в сражении участвовала группа армий «Юг» под командованием фельдмаршала Рундштедта, а также 2-я танковая группа и 2-я армия из группы армий «Центр», с советской — войска Юго-Западного фронта под командованием генерала-полковника М. П. Кирпоноса в составе пяти общевойсковых армий и Пинской флотилии под командованием контр-адмирала Д. Д. Рогачёва, под общим руководством Маршала Советского Союза С. М. Будённ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01680" y="1677960"/>
            <a:ext cx="419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8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борона Ки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она Киевского укреплённого района является составной частью Киевской стратегической оборонительной операции (7 июля 1941 — 26 сентября 1941). Усилиями оборонявшихся, совместно с 26-й (Ф.Я. Костенко) и 5-й армиями (М.И. Потапов), были задержаны на 2 месяца и ввязаны в изнурительные позиционные бои западнее Киева части 6-й армии немцев. Это позволило в тяжёлой ситуации 1941-го эвакуровать многие промышленные предприятия города, часть мирного населения и контингенты будущих призыв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35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беда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еление Киева активно боролось против оккупантов , было создано 68 подпольных организаций и групп. 6 ноября 1943 года в результате Киевской наступательной операции советские войска освободили столицу Украины от фашис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17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За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322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1:11:54Z</dcterms:created>
  <dc:creator>пк</dc:creator>
  <dc:description/>
  <dc:language>en-US</dc:language>
  <cp:lastModifiedBy>Home</cp:lastModifiedBy>
  <dcterms:modified xsi:type="dcterms:W3CDTF">2014-05-18T18:20:15Z</dcterms:modified>
  <cp:revision>3</cp:revision>
  <dc:subject/>
  <dc:title>Киев</dc:title>
</cp:coreProperties>
</file>