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8208-E42B-4B9D-A359-0E986CA17F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3AFB-9A09-4EB7-947F-95BEC2039D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618-0AF2-4994-8ECD-69213103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12F-3939-4106-81CA-70C1C184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7C7-3133-4324-89E4-4781496E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1E5-19E2-41C5-9FF7-A246F66A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BC69-1BD6-4344-912E-B9B14CEB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B8B0E-63E0-46FF-B9AD-65AFB100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5B65C-76CB-4EE4-B662-37F4E5A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AD99B-C647-49EA-9E96-9A557CD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20E39-D8BE-436B-89F6-B90F10F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0B11C-828D-44CD-B698-5174218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20FA-A7D0-42E7-A8C4-5C11274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87F-FCF3-46FD-AB4A-64AFB58B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72731-F023-4C43-BD03-2B42D92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6838-EF5F-4D54-9433-8804528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C9D78-4F55-45A9-80FE-5F3C5B68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F24B0-6843-4A45-B0C9-56B6B02F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D7C4F-26E7-479B-B3C4-C764C1E2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1EB-8E86-447D-B9AF-4EE22F8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C97-B959-4395-ADF8-F46C5C02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207-32CE-4829-BC44-54C11F5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F6A-0601-4391-A20E-447A7D0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F4A-5F78-45AD-9C61-EEA3B20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4A1-4861-44D8-B514-FC495A7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025-28AC-46DB-9C43-755B055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095-935E-4010-8803-963727C57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45F-1410-4FBF-950F-47BBDE475A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26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9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евастополь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1471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20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Кириллов Евгений Дмитрие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Панков Никита Александр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Класс: 4 «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Школа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395280" y="1609560"/>
            <a:ext cx="8353440" cy="484668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1187280" y="189000"/>
            <a:ext cx="651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астополь находится в юго-западном Крыму, в 85 км от Симферополя, на берегах Севастопольской бух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11640" y="30686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вастополь известен архитектурными произведения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и как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3348000" y="404640"/>
            <a:ext cx="54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рафская приста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450200" cy="597708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179280" y="260280"/>
            <a:ext cx="339408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ским собором на центральном холме, где находятся усыпальницы героев первой обороны города: адмиралов Лазарева М.П., Корнилова В.А., Нахимова П.С., Истомина В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1944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971640" y="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Севастополь встречает гостей праздничным Приморским бульва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3735360" cy="4997520"/>
          </a:xfrm>
          <a:prstGeom prst="rect">
            <a:avLst/>
          </a:prstGeom>
          <a:ln w="0">
            <a:noFill/>
          </a:ln>
        </p:spPr>
      </p:pic>
      <p:pic>
        <p:nvPicPr>
          <p:cNvPr id="124" name="Объект 5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825800" cy="496908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971640" y="26028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кальным Георгиевским монастырем на мысе Фиол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9280" y="4221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- это один из красивейших городов на берегу Черного мор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марта 2014 года Севастополь вновь вошёл в состав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Салют в Севастополе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386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Tahoma"/>
              </a:rPr>
              <a:t>Севастополь-город воинской     слав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1" descr="http://arhsvoboda.ru/wp-content/uploads/2014/03/sevastopol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3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4581000"/>
            <a:ext cx="5486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ь - это город славы, город величия. Дважды за столетие Севастополь оправдал это гордое им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5270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3399"/>
                </a:solidFill>
                <a:latin typeface="Tahoma"/>
              </a:rPr>
              <a:t>Артиллерия </a:t>
            </a:r>
            <a:r>
              <a:rPr b="1" lang="ru-RU" sz="2200" spc="-1" strike="noStrike">
                <a:solidFill>
                  <a:srgbClr val="ff3399"/>
                </a:solidFill>
                <a:latin typeface="Tahoma"/>
              </a:rPr>
              <a:t> времен Крымской войны на Малаховом курган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8" descr="bh_Nic23820[1][1].jpg"/>
          <p:cNvPicPr/>
          <p:nvPr/>
        </p:nvPicPr>
        <p:blipFill>
          <a:blip r:embed="rId1"/>
          <a:srcRect l="165" t="0" r="165" b="0"/>
          <a:stretch/>
        </p:blipFill>
        <p:spPr>
          <a:xfrm>
            <a:off x="971640" y="907920"/>
            <a:ext cx="700092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35280" y="51577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а Севастополя родилась в Крымской войне, когда защитники города более 300 дней отражали удары вражеских вой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42[1].jpg"/>
          <p:cNvPicPr/>
          <p:nvPr/>
        </p:nvPicPr>
        <p:blipFill>
          <a:blip r:embed="rId1"/>
          <a:srcRect l="1166" t="0" r="1166" b="0"/>
          <a:stretch/>
        </p:blipFill>
        <p:spPr>
          <a:xfrm>
            <a:off x="250920" y="260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5445000"/>
            <a:ext cx="820908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1 – 1942 годах осада немцами Севастополя продолжалась 250 дней и ноч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ши войска героически сражались против превосходящих  сил фаш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99"/>
                </a:solidFill>
                <a:latin typeface="Tahoma"/>
              </a:rPr>
              <a:t>Графская пристань во время Великой Отечественной войн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8" descr="P1000486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5589360"/>
            <a:ext cx="828036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ю немногим более двух веков, но имя его известно всему миру, он стал символом мужества и отва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Мемориал Освободителям Севастоп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primbul_01[1].jpg"/>
          <p:cNvPicPr/>
          <p:nvPr/>
        </p:nvPicPr>
        <p:blipFill>
          <a:blip r:embed="rId1"/>
          <a:srcRect l="0" t="1119" r="0" b="1119"/>
          <a:stretch/>
        </p:blipFill>
        <p:spPr>
          <a:xfrm>
            <a:off x="539640" y="189000"/>
            <a:ext cx="820908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3516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5 году  за мужество и доблесть, проявленную в ходе героической обороны, Севастополю присвоено звание города-геро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627280" y="-360"/>
            <a:ext cx="5486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Приморский буль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bukhta_02[1]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5445000"/>
            <a:ext cx="86407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астополь навсегда связал свою судьбу с Черноморским флотом. Из его гаваней уходили в походы военные корабли, сюда возвращались они с побе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08000" y="6206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ahoma"/>
              </a:rPr>
              <a:t>Боевые корабли в парадном стр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sevastopol-45-foto[1]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ятник Черноморскому флоту России на берегу  Севастопольской бухты. Ведь город создавался как база фл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3Z</dcterms:created>
  <dc:creator>User</dc:creator>
  <dc:description/>
  <dc:language>en-US</dc:language>
  <cp:lastModifiedBy>kirillovaen</cp:lastModifiedBy>
  <dcterms:modified xsi:type="dcterms:W3CDTF">2014-05-13T05:18:24Z</dcterms:modified>
  <cp:revision>61</cp:revision>
  <dc:subject/>
  <dc:title>Слайд 1</dc:title>
</cp:coreProperties>
</file>