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517C-2A89-4A16-B325-F69146501E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E6AB-4B79-4241-AB89-9982079723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72C-7FAB-46AC-93EC-E828BE2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9D7-6F55-4933-8A48-BEF13BE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060-3C8C-45A0-BB52-6C796042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72F-5765-4C19-A2D9-C90E9CD0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C1F7-8FAD-4B23-A870-90B4755D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F027F-8F6D-424F-AE31-3045C20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F987C-F982-4141-B0A5-2702FB0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39DBE-D6EA-4863-912B-7F3B991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3012D-1D27-4426-8256-18B1C5D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0BE2F-1BF6-4536-8126-A3530E8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E1A7-7872-4CCF-BEFD-60C1F45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D6-6A25-4A8D-B2B5-7C974C90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4630-499B-4211-82A9-F9FB962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CC0B1-6BD5-44A8-927B-2B59D8F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8521-5FE0-460D-A8D7-94E91EE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DF7FF-CE3E-4AE6-904B-8A4D3171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0F9E-63CB-4548-BD9A-D4861943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E44-202D-4F52-85F6-91D3A41E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7C2-2AE7-4782-A0BB-FB456FFB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21D-9EB7-4FF2-BE60-C93CD4A3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846-8282-4F4B-99EF-F334852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4A2-415C-4AC4-9BB7-4F1CFB6C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6D8-CB93-41FB-9A6B-781D523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988-10D9-4303-B786-63625DFC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0A76-B068-4020-9EF3-FAEE1AD3C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FF9-70AD-4ED7-9EA1-10A7115EC8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26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9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евастополь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1471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2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Кириллов Евгений Дмитри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Панков Никита Александр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Класс: 4 «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Школа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395280" y="1609560"/>
            <a:ext cx="8353440" cy="484668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1187280" y="18900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астополь находится в юго-западном Крыму, в 85 км от Симферополя, на берегах Севастопольской бух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11640" y="30686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вастополь известен архитектурными произведения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и как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3348000" y="404640"/>
            <a:ext cx="54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рафская приста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450200" cy="597708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179280" y="260280"/>
            <a:ext cx="339408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ским собором на центральном холме, где находятся усыпальницы героев первой обороны города: адмиралов Лазарева М.П., Корнилова В.А., Нахимова П.С., Истомина В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1944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971640" y="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Севастополь встречает гостей праздничным Приморским бульва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3735360" cy="4997520"/>
          </a:xfrm>
          <a:prstGeom prst="rect">
            <a:avLst/>
          </a:prstGeom>
          <a:ln w="0">
            <a:noFill/>
          </a:ln>
        </p:spPr>
      </p:pic>
      <p:pic>
        <p:nvPicPr>
          <p:cNvPr id="124" name="Объект 5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825800" cy="496908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971640" y="26028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кальным Георгиевским монастырем на мысе Фиол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9280" y="4221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- это один из красивейших городов на берегу Черного мор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марта 2014 года Севастополь вновь вошёл в состав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Салют в Севастополе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386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Tahoma"/>
              </a:rPr>
              <a:t>Севастополь-город воинской     слав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1" descr="http://arhsvoboda.ru/wp-content/uploads/2014/03/sevastopol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3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4581000"/>
            <a:ext cx="5486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ь - это город славы, город величия. Дважды за столетие Севастополь оправдал это гордое им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5270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3399"/>
                </a:solidFill>
                <a:latin typeface="Tahoma"/>
              </a:rPr>
              <a:t>Артиллерия </a:t>
            </a:r>
            <a:r>
              <a:rPr b="1" lang="ru-RU" sz="2200" spc="-1" strike="noStrike">
                <a:solidFill>
                  <a:srgbClr val="ff3399"/>
                </a:solidFill>
                <a:latin typeface="Tahoma"/>
              </a:rPr>
              <a:t> времен Крымской войны на Малаховом курга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8" descr="bh_Nic23820[1][1].jpg"/>
          <p:cNvPicPr/>
          <p:nvPr/>
        </p:nvPicPr>
        <p:blipFill>
          <a:blip r:embed="rId1"/>
          <a:srcRect l="165" t="0" r="165" b="0"/>
          <a:stretch/>
        </p:blipFill>
        <p:spPr>
          <a:xfrm>
            <a:off x="971640" y="907920"/>
            <a:ext cx="700092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5280" y="51577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а Севастополя родилась в Крымской войне, когда защитники города более 300 дней отражали удары вражеских вой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42[1].jpg"/>
          <p:cNvPicPr/>
          <p:nvPr/>
        </p:nvPicPr>
        <p:blipFill>
          <a:blip r:embed="rId1"/>
          <a:srcRect l="1166" t="0" r="1166" b="0"/>
          <a:stretch/>
        </p:blipFill>
        <p:spPr>
          <a:xfrm>
            <a:off x="250920" y="260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5445000"/>
            <a:ext cx="820908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1 – 1942 годах осада немцами Севастополя продолжалась 250 дней и ноч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ши войска героически сражались против превосходящих  сил фаш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99"/>
                </a:solidFill>
                <a:latin typeface="Tahoma"/>
              </a:rPr>
              <a:t>Графская пристань во время Великой Отечественной войн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8" descr="P1000486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5589360"/>
            <a:ext cx="82803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ю немногим более двух веков, но имя его известно всему миру, он стал символом мужества и отва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Мемориал Освободителям Севастоп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primbul_01[1].jpg"/>
          <p:cNvPicPr/>
          <p:nvPr/>
        </p:nvPicPr>
        <p:blipFill>
          <a:blip r:embed="rId1"/>
          <a:srcRect l="0" t="1119" r="0" b="1119"/>
          <a:stretch/>
        </p:blipFill>
        <p:spPr>
          <a:xfrm>
            <a:off x="539640" y="189000"/>
            <a:ext cx="820908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3516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5 году  за мужество и доблесть, проявленную в ходе героической обороны, Севастополю присвоено звание города-геро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627280" y="-360"/>
            <a:ext cx="5486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Приморский буль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bukhta_02[1]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5445000"/>
            <a:ext cx="86407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ь навсегда связал свою судьбу с Черноморским флотом. Из его гаваней уходили в походы военные корабли, сюда возвращались они с побе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08000" y="620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Боевые корабли в парадном стр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sevastopol-45-foto[1]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ятник Черноморскому флоту России на берегу  Севастопольской бухты. Ведь город создавался как база фл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3Z</dcterms:created>
  <dc:creator>User</dc:creator>
  <dc:description/>
  <dc:language>en-US</dc:language>
  <cp:lastModifiedBy>kirillovaen</cp:lastModifiedBy>
  <dcterms:modified xsi:type="dcterms:W3CDTF">2014-05-13T05:18:24Z</dcterms:modified>
  <cp:revision>61</cp:revision>
  <dc:subject/>
  <dc:title>Слайд 1</dc:title>
</cp:coreProperties>
</file>