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F16-E717-4F23-92AB-5BE7E0D1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0BD-B895-4ED1-8259-8303019E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6BC-CD67-44A7-BB7A-DC4A8881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C0A-87DB-4403-858D-35E019A4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96AC-2D09-4909-951B-8FDFCBCC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18C6-F25B-4BC5-B513-79306D0C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F9AE-FD08-4248-8D99-7F66A6DF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BABE-51A8-4AC6-92A5-622A3811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59CC-EC06-4317-8628-8099A9A0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104A-871D-4137-A87F-F8C9E9DB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92DF-8D43-4F00-A84C-79C46C54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192-DB7B-43D7-A247-28F5D5BF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0933-4F02-45B1-9A2D-0D361BDB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19DE-E410-41A1-B885-4FBCA335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A51B-E0C3-439F-B17A-0AE7D3D0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61B9-2712-4129-B609-8113FC7D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6E32-BFFE-4A2F-8500-9B966079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50A-7EAD-457B-8E87-7B519835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2EC-48D0-4C58-84F2-28DF5EB3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FDB-1585-4D70-970A-2F98EA00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1E2-8701-41B7-9C14-4E4D834A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7B4-24C9-40AD-A279-563F66E2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391-0A5D-467C-98A2-D80CB52C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258-600D-4F32-8B44-EE73F886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9C61-4280-41D1-A232-26F8D8D004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3239-7C88-4682-9F0D-387A336A0B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6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ласс Млекопитающие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Рисунок 7" descr="Рисунок25.png"/>
          <p:cNvPicPr/>
          <p:nvPr/>
        </p:nvPicPr>
        <p:blipFill>
          <a:blip r:embed="rId1"/>
          <a:stretch/>
        </p:blipFill>
        <p:spPr>
          <a:xfrm>
            <a:off x="357120" y="1285920"/>
            <a:ext cx="4407120" cy="469728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Дельф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троение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15" descr="29143922"/>
          <p:cNvPicPr/>
          <p:nvPr/>
        </p:nvPicPr>
        <p:blipFill>
          <a:blip r:embed="rId1"/>
          <a:stretch/>
        </p:blipFill>
        <p:spPr>
          <a:xfrm>
            <a:off x="539640" y="1700280"/>
            <a:ext cx="3888000" cy="42498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е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уловище(грудной и брюшной отделы) и хвос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о покрыто кож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ожный покров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9636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0" y="0"/>
          <a:ext cx="208080" cy="35449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5449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18"/>
          <p:cNvSpPr/>
          <p:nvPr/>
        </p:nvSpPr>
        <p:spPr>
          <a:xfrm>
            <a:off x="1800" y="3544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Роговые образования кожи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лосы(наиболее типичные для млек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пы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г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Щет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Линька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5148360" y="3429000"/>
            <a:ext cx="3097080" cy="25923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55640" y="112536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2952720" cy="244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831240" y="3716280"/>
            <a:ext cx="28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яц-беляк лет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5222880" y="602136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яц-беляк зим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ибрисс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27520" cy="3432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311640" cy="3097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опыта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311640" cy="381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29143922"/>
          <p:cNvPicPr/>
          <p:nvPr/>
        </p:nvPicPr>
        <p:blipFill>
          <a:blip r:embed="rId2"/>
          <a:stretch/>
        </p:blipFill>
        <p:spPr>
          <a:xfrm>
            <a:off x="4500720" y="112536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044720" y="55166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ный бар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5868720" y="566100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ошад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огти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240360" cy="273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024360" cy="35733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5868720" y="580536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ммин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974160" y="44370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урый медвед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Ногти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024360" cy="3313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3313440" cy="3384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1402560" y="551664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дагаскарский руконож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ожные желез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отовые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сальные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ахучие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млечные (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идоизменение простых трубчатых желез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келет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0"/>
          <a:ext cx="208080" cy="29829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29829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16"/>
          <p:cNvSpPr/>
          <p:nvPr/>
        </p:nvSpPr>
        <p:spPr>
          <a:xfrm>
            <a:off x="1800" y="2982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Рисунок 14" descr="Рисунок33.jpg"/>
          <p:cNvPicPr/>
          <p:nvPr/>
        </p:nvPicPr>
        <p:blipFill>
          <a:blip r:embed="rId1"/>
          <a:stretch/>
        </p:blipFill>
        <p:spPr>
          <a:xfrm>
            <a:off x="500040" y="1285920"/>
            <a:ext cx="8093160" cy="528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Тема урока: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 млекопитающие. Особенности строения, жизнедеятельности как высокоорганизованных позвоноч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Рисунок 7" descr="Рисунок26.png"/>
          <p:cNvPicPr/>
          <p:nvPr/>
        </p:nvPicPr>
        <p:blipFill>
          <a:blip r:embed="rId1"/>
          <a:stretch/>
        </p:blipFill>
        <p:spPr>
          <a:xfrm>
            <a:off x="0" y="1357200"/>
            <a:ext cx="4781520" cy="5332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5"/>
          <p:cNvSpPr/>
          <p:nvPr/>
        </p:nvSpPr>
        <p:spPr>
          <a:xfrm>
            <a:off x="2523960" y="1871640"/>
            <a:ext cx="40960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2523960" y="1871640"/>
            <a:ext cx="40960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2523960" y="1871640"/>
            <a:ext cx="40960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2523960" y="1871640"/>
            <a:ext cx="40960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2523960" y="1871640"/>
            <a:ext cx="40960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2556000" cy="1989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7"/>
          <p:cNvSpPr/>
          <p:nvPr/>
        </p:nvSpPr>
        <p:spPr>
          <a:xfrm>
            <a:off x="828360" y="21337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хид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18" descr="29143922"/>
          <p:cNvPicPr/>
          <p:nvPr/>
        </p:nvPicPr>
        <p:blipFill>
          <a:blip r:embed="rId2"/>
          <a:stretch/>
        </p:blipFill>
        <p:spPr>
          <a:xfrm>
            <a:off x="2556000" y="0"/>
            <a:ext cx="3097080" cy="1989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0"/>
          <p:cNvSpPr/>
          <p:nvPr/>
        </p:nvSpPr>
        <p:spPr>
          <a:xfrm>
            <a:off x="3565800" y="21337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ошад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1189440" y="649116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льф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22" descr="animallove01"/>
          <p:cNvPicPr/>
          <p:nvPr/>
        </p:nvPicPr>
        <p:blipFill>
          <a:blip r:embed="rId3"/>
          <a:stretch/>
        </p:blipFill>
        <p:spPr>
          <a:xfrm>
            <a:off x="3132000" y="3573360"/>
            <a:ext cx="3311640" cy="295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4" descr="Летучие мыши 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5"/>
          <p:cNvSpPr/>
          <p:nvPr/>
        </p:nvSpPr>
        <p:spPr>
          <a:xfrm>
            <a:off x="4069080" y="649116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рый тюле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26" descr="stray-dog"/>
          <p:cNvPicPr/>
          <p:nvPr/>
        </p:nvPicPr>
        <p:blipFill>
          <a:blip r:embed="rId5"/>
          <a:stretch/>
        </p:blipFill>
        <p:spPr>
          <a:xfrm>
            <a:off x="5867280" y="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7"/>
          <p:cNvSpPr/>
          <p:nvPr/>
        </p:nvSpPr>
        <p:spPr>
          <a:xfrm>
            <a:off x="7237080" y="2349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ба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28" descr="kurbob(1)"/>
          <p:cNvPicPr/>
          <p:nvPr/>
        </p:nvPicPr>
        <p:blipFill>
          <a:blip r:embed="rId6"/>
          <a:stretch/>
        </p:blipFill>
        <p:spPr>
          <a:xfrm>
            <a:off x="6588000" y="3573360"/>
            <a:ext cx="2556000" cy="2952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9"/>
          <p:cNvSpPr/>
          <p:nvPr/>
        </p:nvSpPr>
        <p:spPr>
          <a:xfrm>
            <a:off x="7525800" y="649116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ш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3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33" descr="Летучие мыши "/>
          <p:cNvPicPr/>
          <p:nvPr/>
        </p:nvPicPr>
        <p:blipFill>
          <a:blip r:embed="rId7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4"/>
          <p:cNvSpPr/>
          <p:nvPr/>
        </p:nvSpPr>
        <p:spPr>
          <a:xfrm>
            <a:off x="444960" y="2203920"/>
            <a:ext cx="789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круг, насколько хватит глаз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нец творенья – высший класс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я процветающие – млекопитающ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38" descr=""/>
          <p:cNvPicPr/>
          <p:nvPr/>
        </p:nvPicPr>
        <p:blipFill>
          <a:blip r:embed="rId8"/>
          <a:stretch/>
        </p:blipFill>
        <p:spPr>
          <a:xfrm>
            <a:off x="0" y="3645000"/>
            <a:ext cx="3168720" cy="2808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6 видов млекопитающ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настоящее время известно 4500 вид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735280" cy="367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Летучие мыши "/>
          <p:cNvPicPr/>
          <p:nvPr/>
        </p:nvPicPr>
        <p:blipFill>
          <a:blip r:embed="rId2"/>
          <a:stretch/>
        </p:blipFill>
        <p:spPr>
          <a:xfrm>
            <a:off x="155520" y="46080"/>
            <a:ext cx="9720" cy="9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1332000" y="551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л Лин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Размеры млекопитающих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178080" cy="3384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75564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емлеройка-малют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с 2 грам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77840" y="155736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ЫЙ МАЛЕНЬКИЙ ЗВЕРЁ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3924360" y="2133720"/>
            <a:ext cx="4751280" cy="3311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4623480" y="157788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ОЕ КРУПНОЕ ЖИВОТ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6208920" y="5754600"/>
            <a:ext cx="14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иний к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с 130 тон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оисхождение млекопитающих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684360" y="1773360"/>
            <a:ext cx="3240000" cy="4103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едки млекопитающи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975960" y="601992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верозубый рептил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Млекопитающие заселили все среды: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земную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дную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здушную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чвенную 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земно-водную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Характеристика млекопитающих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окое развитие нервной сист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ное разделение кругов кровообращ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плокров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явление альвеолярных лёгки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явление органов, позволяющих вынашивать детёныша в теле матери и выкармливать его молок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истематика млекопитающих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2" name="Organization Chart 7"/>
          <p:cNvGrpSpPr/>
          <p:nvPr/>
        </p:nvGrpSpPr>
        <p:grpSpPr>
          <a:xfrm>
            <a:off x="431640" y="1589040"/>
            <a:ext cx="8208360" cy="4462560"/>
            <a:chOff x="431640" y="1589040"/>
            <a:chExt cx="8208360" cy="4462560"/>
          </a:xfrm>
        </p:grpSpPr>
        <p:cxnSp>
          <p:nvCxnSpPr>
            <p:cNvPr id="173" name="_s1028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525640" y="238284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1029"/>
            <p:cNvCxnSpPr>
              <a:stCxn id="177" idx="0"/>
              <a:endCxn id="175" idx="2"/>
            </p:cNvCxnSpPr>
            <p:nvPr/>
          </p:nvCxnSpPr>
          <p:spPr>
            <a:xfrm flipV="1">
              <a:off x="4536000" y="3373200"/>
              <a:ext cx="360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8" name="_s1030"/>
            <p:cNvCxnSpPr>
              <a:stCxn id="179" idx="0"/>
              <a:endCxn id="175" idx="2"/>
            </p:cNvCxnSpPr>
            <p:nvPr/>
          </p:nvCxnSpPr>
          <p:spPr>
            <a:xfrm flipH="1" flipV="1" rot="5400000">
              <a:off x="2652840" y="23832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1031"/>
            <p:cNvSpPr/>
            <p:nvPr/>
          </p:nvSpPr>
          <p:spPr>
            <a:xfrm>
              <a:off x="3304440" y="1589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2b87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Подклассы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_s1032"/>
            <p:cNvSpPr/>
            <p:nvPr/>
          </p:nvSpPr>
          <p:spPr>
            <a:xfrm>
              <a:off x="4316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2b87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Яйцекладущи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Число видов-2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_s1033"/>
            <p:cNvSpPr/>
            <p:nvPr/>
          </p:nvSpPr>
          <p:spPr>
            <a:xfrm>
              <a:off x="33044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2b87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Сумчаты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Число видов180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_s1034"/>
            <p:cNvSpPr/>
            <p:nvPr/>
          </p:nvSpPr>
          <p:spPr>
            <a:xfrm>
              <a:off x="617760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2b87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Плацентарны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Число видов 4.5 тыс.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over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5:48:07Z</dcterms:created>
  <dc:creator>Илья</dc:creator>
  <dc:description/>
  <dc:language>en-US</dc:language>
  <cp:lastModifiedBy>натали</cp:lastModifiedBy>
  <dcterms:modified xsi:type="dcterms:W3CDTF">2015-05-07T09:51:19Z</dcterms:modified>
  <cp:revision>58</cp:revision>
  <dc:subject/>
  <dc:title>Класс Млекомитающие</dc:title>
</cp:coreProperties>
</file>