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786-8E2D-408C-A478-1199F1D44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3AEB-EFD2-498E-9857-BBB9F15D6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674-B5A5-4F27-97F9-69ED21D0B1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5F2-3FBB-4D57-97A7-BD4BAEC58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F02-9BFA-4A74-9C02-21E154A6F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3EB-0D39-479A-AD92-538E2437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FA4-4DA1-4364-96BB-510E1C8E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2F7-46CB-4483-883C-B165B32B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013-9687-406C-A10E-B6461ECB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043-C4D2-47F4-8BD0-71C8A3E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BB3-CE90-498B-9052-7E03454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3CA-E3E2-4FFA-BD4D-50E82DB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046-5EF8-455D-8B4C-DC464E8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B19-A0D3-435C-8EBF-92265BCD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13-9691-42BA-87D0-4839D27B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073-5434-4A1E-98E6-C6E9E5A9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8DC-5A26-403D-AF6B-5ED47370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986D-D673-49D4-AE80-9AF9DF162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0"/>
            <a:ext cx="7255080" cy="134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Вечный огонь 2.jpg"/>
          <p:cNvPicPr/>
          <p:nvPr/>
        </p:nvPicPr>
        <p:blipFill>
          <a:blip r:embed="rId2"/>
          <a:srcRect l="5713" t="2414" r="0" b="8134"/>
          <a:stretch/>
        </p:blipFill>
        <p:spPr>
          <a:xfrm>
            <a:off x="338040" y="1500120"/>
            <a:ext cx="8439120" cy="5357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286000" y="185904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нтонов         Н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фанасьев  И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ненков        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Абросимов  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абич              М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абич И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отнин Г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обылев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угунов А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олов В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оля П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0"/>
            <a:ext cx="7255080" cy="1341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ечный огонь 2.jpg"/>
          <p:cNvPicPr/>
          <p:nvPr/>
        </p:nvPicPr>
        <p:blipFill>
          <a:blip r:embed="rId2"/>
          <a:srcRect l="5713" t="2414" r="0" b="8134"/>
          <a:stretch/>
        </p:blipFill>
        <p:spPr>
          <a:xfrm>
            <a:off x="352440" y="1333440"/>
            <a:ext cx="8439120" cy="5357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4067280" y="1859040"/>
            <a:ext cx="338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шенко Н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иценко Т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нченко Н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нцев И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енисов Д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воргин Г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ремчик Н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онов А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ванов В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саев А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узыкант С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324000" y="333360"/>
            <a:ext cx="8496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У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ЧАНИЯ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4" descr="091351af80f2cbd5254237b67c110c66"/>
          <p:cNvPicPr/>
          <p:nvPr/>
        </p:nvPicPr>
        <p:blipFill>
          <a:blip r:embed="rId1"/>
          <a:stretch/>
        </p:blipFill>
        <p:spPr>
          <a:xfrm>
            <a:off x="2843280" y="3645000"/>
            <a:ext cx="3914640" cy="30812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2362320" y="549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гинко С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апин Д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евда А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зарин Я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зий Н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осалов В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гут М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рнилин Н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зьмин Г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знецов Н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тонадзе А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валев П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3"/>
          <p:cNvSpPr txBox="1"/>
          <p:nvPr/>
        </p:nvSpPr>
        <p:spPr>
          <a:xfrm>
            <a:off x="324000" y="333360"/>
            <a:ext cx="84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У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ЧАНИЯ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4" descr="091351af80f2cbd5254237b67c110c66"/>
          <p:cNvPicPr/>
          <p:nvPr/>
        </p:nvPicPr>
        <p:blipFill>
          <a:blip r:embed="rId1"/>
          <a:stretch/>
        </p:blipFill>
        <p:spPr>
          <a:xfrm>
            <a:off x="4678200" y="3468600"/>
            <a:ext cx="3915000" cy="30816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06200" y="245736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сов А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юков И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ысов А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шуба П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нцуров М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шенко И. 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наев Г.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obeda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2038320" y="333360"/>
            <a:ext cx="4572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ивень Г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зовой Н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зовой О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шнин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горелов В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ша Ф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танин В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твеев Н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офимов Б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пиков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барин И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лодовников И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вашко П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зник С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хмачев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beda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547640" y="666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гов И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узаев Ж.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убец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абуров Д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иляев К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мин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стинов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хрий П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прин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вченко А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улепов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чевной Н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чевной А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ненко И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вчинников Е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лбхов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якинин В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ботарев  И.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31:10Z</dcterms:created>
  <dc:creator>User</dc:creator>
  <dc:description/>
  <dc:language>en-US</dc:language>
  <cp:lastModifiedBy>ира</cp:lastModifiedBy>
  <dcterms:modified xsi:type="dcterms:W3CDTF">2015-04-27T04:11:13Z</dcterms:modified>
  <cp:revision>11</cp:revision>
  <dc:subject/>
  <dc:title>Слайд 1</dc:title>
</cp:coreProperties>
</file>