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1D1D-2EBB-4992-9A12-1C78F1F6B8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9E7B-E5BA-4395-9447-585FAD9D46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AFB1-42A7-44AE-8857-CB9A226136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F527-4DDE-46B4-B0B2-BD76780E17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7BEF-6C88-417C-BCEE-4E00BE22C1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759-7EA3-451B-B6C2-DDB6407D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7FA9-C7AD-4740-8646-FD4D31A2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A89-2185-4659-847C-12FFE41E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F49-3648-424D-BD8C-2DC4537F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D3E-CB91-45D5-8B9F-265D8A0A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1AE-6F0B-4233-A499-3E617824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3D08-9A62-40FC-84CF-1D060B58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21E-F8E3-4FA8-9716-0C053012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283C-21DE-46E8-9CFA-7770AD51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A2A-3D08-4555-A208-504C6D8E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01F-E56A-4346-8512-D79F0161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E84-9434-4F57-A7D5-500A9EF7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3054-09AC-4053-B92C-30278E863E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042920" y="0"/>
            <a:ext cx="7255080" cy="1341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Вечный огонь 2.jpg"/>
          <p:cNvPicPr/>
          <p:nvPr/>
        </p:nvPicPr>
        <p:blipFill>
          <a:blip r:embed="rId2"/>
          <a:srcRect l="5713" t="2414" r="0" b="8134"/>
          <a:stretch/>
        </p:blipFill>
        <p:spPr>
          <a:xfrm>
            <a:off x="338040" y="1500120"/>
            <a:ext cx="8439120" cy="53578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2286000" y="185904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Антонов         Н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Афанасьев  И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Аненков        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Абросимов   А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Бабич              М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Бабич И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Ботнин Г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Бобылев Е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Бугунов А.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Голов В.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Голя П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042920" y="0"/>
            <a:ext cx="7255080" cy="13413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Вечный огонь 2.jpg"/>
          <p:cNvPicPr/>
          <p:nvPr/>
        </p:nvPicPr>
        <p:blipFill>
          <a:blip r:embed="rId2"/>
          <a:srcRect l="5713" t="2414" r="0" b="8134"/>
          <a:stretch/>
        </p:blipFill>
        <p:spPr>
          <a:xfrm>
            <a:off x="352440" y="1333440"/>
            <a:ext cx="8439120" cy="53578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4067280" y="1859040"/>
            <a:ext cx="338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рашенко Н.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риценко Т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анченко Н.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анцев И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енисов Д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воргин Г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Еремчик Н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онов А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ванов В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саев А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узыкант С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3"/>
          <p:cNvSpPr txBox="1"/>
          <p:nvPr/>
        </p:nvSpPr>
        <p:spPr>
          <a:xfrm>
            <a:off x="324000" y="333360"/>
            <a:ext cx="84960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НУ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ЧАНИЯ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Picture 4" descr="091351af80f2cbd5254237b67c110c66"/>
          <p:cNvPicPr/>
          <p:nvPr/>
        </p:nvPicPr>
        <p:blipFill>
          <a:blip r:embed="rId1"/>
          <a:stretch/>
        </p:blipFill>
        <p:spPr>
          <a:xfrm>
            <a:off x="2843280" y="3645000"/>
            <a:ext cx="3914640" cy="30812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2362320" y="549360"/>
            <a:ext cx="4572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агинко С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апин Д.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евда А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азарин Я.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зий Н.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носалов В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гут М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рнилин Н.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узьмин Г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узнецов Н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утонадзе А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валев П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3"/>
          <p:cNvSpPr txBox="1"/>
          <p:nvPr/>
        </p:nvSpPr>
        <p:spPr>
          <a:xfrm>
            <a:off x="324000" y="333360"/>
            <a:ext cx="849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НУ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ЧАНИЯ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Picture 4" descr="091351af80f2cbd5254237b67c110c66"/>
          <p:cNvPicPr/>
          <p:nvPr/>
        </p:nvPicPr>
        <p:blipFill>
          <a:blip r:embed="rId1"/>
          <a:stretch/>
        </p:blipFill>
        <p:spPr>
          <a:xfrm>
            <a:off x="4678200" y="3468600"/>
            <a:ext cx="3915000" cy="30816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106200" y="2457360"/>
            <a:ext cx="457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сов А.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юков И.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ысов А.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шуба П.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нцуров М.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шенко И. 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наев Г.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pobeda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2038320" y="333360"/>
            <a:ext cx="4572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ивень Г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зовой Н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зовой О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ашнин И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горелов В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ша Ф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атанин В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атвеев Н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рофимов Б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упиков С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барин И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лодовников И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ивашко П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езник С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охмачев А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obeda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1547640" y="6660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огов И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узаев Ж.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убец И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абуров Д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иляев К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омин А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стинов А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ухрий П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уприн И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евченко А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улепов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чевной Н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чевной А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иненко И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вчинников Е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лбхов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якинин В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еботарев  И.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20:31:10Z</dcterms:created>
  <dc:creator>User</dc:creator>
  <dc:description/>
  <dc:language>en-US</dc:language>
  <cp:lastModifiedBy>ира</cp:lastModifiedBy>
  <dcterms:modified xsi:type="dcterms:W3CDTF">2015-04-27T04:11:13Z</dcterms:modified>
  <cp:revision>11</cp:revision>
  <dc:subject/>
  <dc:title>Слайд 1</dc:title>
</cp:coreProperties>
</file>