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FDF2F0-C60D-4322-8F48-09FA73331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B9501E-A802-4677-A8AE-22CFAB61A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5079FC-745B-4994-9D92-347AAAC2E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945CAA-598E-44E3-A07C-1BC0A4249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5946B-5049-4675-9BFB-37EA8F63C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F49D5-5E9D-4F97-9CF5-ED6C3D980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6D05F-9C30-4FE8-A6C4-06802D2F4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3E886-FC8A-4D53-A606-46D3C0C05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2BD00-58E4-4BF5-9DF6-665F722CA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0D594-1D72-4532-986B-966C700A0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33D30-4121-4183-AAED-8186CD51A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58FCC3-2CFC-46A2-B611-83BC180C3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3732C-A48D-4F6A-9F1F-D232EE672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D7E2A-2C7E-4D83-AB00-59F5F7ACB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8F9B8-3884-4EB4-B09E-661F439A1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963CA-8F16-4026-96FC-F1C07881F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4F307-DD3F-4634-97F6-8CCFF821F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E01AD9-9251-4E2B-A2A2-F033A7661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481982-17E3-4CB6-BD91-2A2132DB5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DBC0A4-BDCB-4E36-9757-C41BCEB6D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F8C949-F1FF-4EAB-BEB8-57A43B16D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2C0CB4-7D05-40E6-A50F-8BDE081E9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591578-2763-43DA-8A59-E7714778B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123CE4-EF57-4097-9805-5A27F744F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A89FE-7459-4264-87F7-DB4B5F3DE031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0C9C0-14EA-4185-9472-6E4176995E69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00b050"/>
                </a:solidFill>
                <a:latin typeface="Tahoma"/>
              </a:rPr>
              <a:t>Моя</a:t>
            </a:r>
            <a:r>
              <a:rPr b="0" i="1" lang="ru-RU" sz="48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i="1" lang="ru-RU" sz="4800" spc="-1" strike="noStrike">
                <a:solidFill>
                  <a:srgbClr val="ffc000"/>
                </a:solidFill>
                <a:latin typeface="Tahoma"/>
              </a:rPr>
              <a:t>семья</a:t>
            </a:r>
            <a:r>
              <a:rPr b="0" i="1" lang="ru-RU" sz="48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i="1" lang="ru-RU" sz="4800" spc="-1" strike="noStrike">
                <a:solidFill>
                  <a:srgbClr val="002060"/>
                </a:solidFill>
                <a:latin typeface="Tahoma"/>
              </a:rPr>
              <a:t>в годы войны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071600" y="3644640"/>
            <a:ext cx="3884760" cy="23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ыполнили: семья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Лебедевой Надежд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ученицы 1 «В» класс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ГБОУ СОШ № 588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г. Санкт-Петербург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457200" y="277920"/>
            <a:ext cx="8229600" cy="58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Тот самый длинный  день в году,</a:t>
            </a:r>
            <a:br>
              <a:rPr sz="3200"/>
            </a:b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С его безоблачной погодой,</a:t>
            </a:r>
            <a:br>
              <a:rPr sz="3200"/>
            </a:b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Нам выдал общую беду</a:t>
            </a:r>
            <a:br>
              <a:rPr sz="3200"/>
            </a:b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На всех, на все четыре года.</a:t>
            </a:r>
            <a:br>
              <a:rPr sz="3200"/>
            </a:b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3" name="Picture 6" descr="ANd9GcTLdgqs1JBefadm1pby6xoce4RzXPK1auWeXkCr3B82uF0yta9BDg"/>
          <p:cNvPicPr/>
          <p:nvPr/>
        </p:nvPicPr>
        <p:blipFill>
          <a:blip r:embed="rId1"/>
          <a:stretch/>
        </p:blipFill>
        <p:spPr>
          <a:xfrm>
            <a:off x="1428840" y="2338560"/>
            <a:ext cx="6672240" cy="37335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6" descr="ANd9GcRmABWNDvNzf_WbfkkycAQu9oCU8CDN8JQJsCpMDz1qHcFVPL4K"/>
          <p:cNvPicPr/>
          <p:nvPr/>
        </p:nvPicPr>
        <p:blipFill>
          <a:blip r:embed="rId1"/>
          <a:stretch/>
        </p:blipFill>
        <p:spPr>
          <a:xfrm>
            <a:off x="1908000" y="549360"/>
            <a:ext cx="5187960" cy="54007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rg_hi" descr="ANd9GcQPUte55wFNp4-Ks4XKhLSx33kvmY-M6nRJV9fFkmABHPGDMmkReQ"/>
          <p:cNvPicPr/>
          <p:nvPr/>
        </p:nvPicPr>
        <p:blipFill>
          <a:blip r:embed="rId1"/>
          <a:stretch/>
        </p:blipFill>
        <p:spPr>
          <a:xfrm>
            <a:off x="642960" y="571680"/>
            <a:ext cx="7920000" cy="4964040"/>
          </a:xfrm>
          <a:prstGeom prst="rect">
            <a:avLst/>
          </a:prstGeom>
          <a:ln w="0">
            <a:noFill/>
          </a:ln>
        </p:spPr>
      </p:pic>
      <p:sp>
        <p:nvSpPr>
          <p:cNvPr id="146" name="Прямоугольник 5"/>
          <p:cNvSpPr/>
          <p:nvPr/>
        </p:nvSpPr>
        <p:spPr>
          <a:xfrm>
            <a:off x="5929200" y="1143000"/>
            <a:ext cx="32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Tahoma"/>
              </a:rPr>
              <a:t>Нас у Москвы</a:t>
            </a:r>
            <a:br>
              <a:rPr sz="1800"/>
            </a:br>
            <a:r>
              <a:rPr b="0" i="1" lang="ru-RU" sz="1800" spc="-1" strike="noStrike">
                <a:solidFill>
                  <a:srgbClr val="ff0000"/>
                </a:solidFill>
                <a:latin typeface="Tahoma"/>
              </a:rPr>
              <a:t>Очень много,</a:t>
            </a:r>
            <a:br>
              <a:rPr sz="1800"/>
            </a:br>
            <a:r>
              <a:rPr b="0" i="1" lang="ru-RU" sz="1800" spc="-1" strike="noStrike">
                <a:solidFill>
                  <a:srgbClr val="ff0000"/>
                </a:solidFill>
                <a:latin typeface="Tahoma"/>
              </a:rPr>
              <a:t>А Москва у нас - одна!</a:t>
            </a:r>
            <a:br>
              <a:rPr sz="1800"/>
            </a:br>
            <a:r>
              <a:rPr b="0" i="1" lang="ru-RU" sz="1800" spc="-1" strike="noStrike">
                <a:solidFill>
                  <a:srgbClr val="ff0000"/>
                </a:solidFill>
                <a:latin typeface="Tahoma"/>
              </a:rPr>
              <a:t>Р. Рождественский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rg_hi" descr="ANd9GcTqSZgypl7lWkOKdz4vd_C6g9AMXagAgf5JMeE4aSXOaciptSyANQ"/>
          <p:cNvPicPr/>
          <p:nvPr/>
        </p:nvPicPr>
        <p:blipFill>
          <a:blip r:embed="rId1"/>
          <a:stretch/>
        </p:blipFill>
        <p:spPr>
          <a:xfrm>
            <a:off x="1332000" y="189000"/>
            <a:ext cx="6481800" cy="59292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457200" y="277920"/>
            <a:ext cx="8229600" cy="58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 Black"/>
              </a:rPr>
              <a:t>Великая Отечественная Война завершилась Победой Советского Союза. Победа в войне была обеспечена напряжением всех сил народов СССР, героизмом и мужеством солдат и тружеников тыл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ll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Салют Победы в Москве </a:t>
            </a:r>
            <a:br>
              <a:rPr sz="3800"/>
            </a:b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9 мая 1945 года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50" name="Picture 6" descr="ANd9GcRtGMm3OtM45OlgPn8yQsUEnL_K2mOLlW0jSXxjllFwAw3Qgl1v"/>
          <p:cNvPicPr/>
          <p:nvPr/>
        </p:nvPicPr>
        <p:blipFill>
          <a:blip r:embed="rId1"/>
          <a:stretch/>
        </p:blipFill>
        <p:spPr>
          <a:xfrm>
            <a:off x="1403280" y="1628640"/>
            <a:ext cx="6121440" cy="4240440"/>
          </a:xfrm>
          <a:prstGeom prst="rect">
            <a:avLst/>
          </a:prstGeom>
          <a:ln w="0">
            <a:noFill/>
          </a:ln>
        </p:spPr>
      </p:pic>
    </p:spTree>
  </p:cSld>
  <p:transition>
    <p:cut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Салют Победы в Ленинграде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52" name="Picture 8" descr="ANd9GcRvv8-KI74DE0jKBrC-D8M8OSrP8D5PGs9gzCd952pbokcaCjBjcg"/>
          <p:cNvPicPr/>
          <p:nvPr/>
        </p:nvPicPr>
        <p:blipFill>
          <a:blip r:embed="rId1"/>
          <a:stretch/>
        </p:blipFill>
        <p:spPr>
          <a:xfrm>
            <a:off x="1692360" y="1844640"/>
            <a:ext cx="5689440" cy="40813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457200" y="277920"/>
            <a:ext cx="8229600" cy="58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оветский Союз встречал Победу праздничным салютом, который в память о ней гремит каждый год 9 мая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4" name="Picture 6" descr="ANd9GcTJUHlSMoYIg3un2rVYXorLymRa0Kv7hdsb2UDU6CJwtxO4q-Jepg"/>
          <p:cNvPicPr/>
          <p:nvPr/>
        </p:nvPicPr>
        <p:blipFill>
          <a:blip r:embed="rId1"/>
          <a:stretch/>
        </p:blipFill>
        <p:spPr>
          <a:xfrm>
            <a:off x="468360" y="2214720"/>
            <a:ext cx="8064360" cy="44290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457200" y="277920"/>
            <a:ext cx="8229600" cy="58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ru-RU" sz="3200" spc="-1" strike="noStrike">
                <a:solidFill>
                  <a:srgbClr val="ffc000"/>
                </a:solidFill>
                <a:latin typeface="Tahoma"/>
              </a:rPr>
              <a:t>70 лет нашей славной Победе.</a:t>
            </a:r>
            <a:br>
              <a:rPr sz="3200"/>
            </a:br>
            <a:r>
              <a:rPr b="0" i="1" lang="ru-RU" sz="3200" spc="-1" strike="noStrike">
                <a:solidFill>
                  <a:srgbClr val="ffc000"/>
                </a:solidFill>
                <a:latin typeface="Tahoma"/>
              </a:rPr>
              <a:t>Снова майский рассвет. Тишина…</a:t>
            </a:r>
            <a:br>
              <a:rPr sz="3200"/>
            </a:br>
            <a:r>
              <a:rPr b="0" i="1" lang="ru-RU" sz="3200" spc="-1" strike="noStrike">
                <a:solidFill>
                  <a:srgbClr val="ffc000"/>
                </a:solidFill>
                <a:latin typeface="Tahoma"/>
              </a:rPr>
              <a:t>70 лет нашей славной Победе.</a:t>
            </a:r>
            <a:br>
              <a:rPr sz="3200"/>
            </a:br>
            <a:r>
              <a:rPr b="0" i="1" lang="ru-RU" sz="3200" spc="-1" strike="noStrike">
                <a:solidFill>
                  <a:srgbClr val="ffc000"/>
                </a:solidFill>
                <a:latin typeface="Tahoma"/>
              </a:rPr>
              <a:t>70 лет, как убита война!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3" descr="C:\Documents and Settings\Admin\Рабочий стол\Старая Ладога\IMG_7567.JPG"/>
          <p:cNvPicPr/>
          <p:nvPr/>
        </p:nvPicPr>
        <p:blipFill>
          <a:blip r:embed="rId1"/>
          <a:stretch/>
        </p:blipFill>
        <p:spPr>
          <a:xfrm>
            <a:off x="2746440" y="463680"/>
            <a:ext cx="3651120" cy="54813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cc"/>
                </a:solidFill>
                <a:latin typeface="Tahoma"/>
              </a:rPr>
              <a:t>Фотографии</a:t>
            </a:r>
            <a:br>
              <a:rPr sz="3600"/>
            </a:br>
            <a:r>
              <a:rPr b="0" i="1" lang="ru-RU" sz="3600" spc="-1" strike="noStrike">
                <a:solidFill>
                  <a:srgbClr val="ffffcc"/>
                </a:solidFill>
                <a:latin typeface="Tahoma"/>
              </a:rPr>
              <a:t>из прадедушкиного альбома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Жидков Сергей Николаевич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ой прадедушка служил в танковых войсках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ергей Николаевич ушел на фронт в 24 год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0" name="Picture 6" descr="C:\Documents and Settings\Admin\Рабочий стол\Старая Ладога\Жидков Сергей Николаевич_0003.jpg"/>
          <p:cNvPicPr/>
          <p:nvPr/>
        </p:nvPicPr>
        <p:blipFill>
          <a:blip r:embed="rId1"/>
          <a:stretch/>
        </p:blipFill>
        <p:spPr>
          <a:xfrm>
            <a:off x="785880" y="1500120"/>
            <a:ext cx="3201840" cy="47005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2" descr="C:\Documents and Settings\Admin\Рабочий стол\Старая Ладога\20150502_131650.jpg"/>
          <p:cNvPicPr/>
          <p:nvPr/>
        </p:nvPicPr>
        <p:blipFill>
          <a:blip r:embed="rId1"/>
          <a:stretch/>
        </p:blipFill>
        <p:spPr>
          <a:xfrm>
            <a:off x="669960" y="277920"/>
            <a:ext cx="7804080" cy="585288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2" descr="C:\Documents and Settings\Admin\Рабочий стол\Старая Ладога\20150502_131728.jpg"/>
          <p:cNvPicPr/>
          <p:nvPr/>
        </p:nvPicPr>
        <p:blipFill>
          <a:blip r:embed="rId1"/>
          <a:stretch/>
        </p:blipFill>
        <p:spPr>
          <a:xfrm>
            <a:off x="669960" y="277920"/>
            <a:ext cx="7804080" cy="58528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457200" y="277920"/>
            <a:ext cx="8229600" cy="58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ctr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Monotype Corsiva"/>
              </a:rPr>
              <a:t> </a:t>
            </a:r>
            <a:r>
              <a:rPr b="0" lang="ru-RU" sz="4400" spc="-1" strike="noStrike">
                <a:solidFill>
                  <a:srgbClr val="ffc000"/>
                </a:solidFill>
                <a:latin typeface="Monotype Corsiva"/>
              </a:rPr>
              <a:t>Мы должны уважать и беречь нашу историю, всегда помнить подвиг нашего народа, чтить имена тех, благодаря кому мы живем сейчас, быть достойными их памяти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2" descr="C:\Documents and Settings\Admin\Рабочий стол\Старая Ладога\IMG_7642.JPG"/>
          <p:cNvPicPr/>
          <p:nvPr/>
        </p:nvPicPr>
        <p:blipFill>
          <a:blip r:embed="rId1"/>
          <a:stretch/>
        </p:blipFill>
        <p:spPr>
          <a:xfrm>
            <a:off x="457200" y="463680"/>
            <a:ext cx="8229600" cy="54813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2" descr="C:\Documents and Settings\Admin\Рабочий стол\Старая Ладога\20150502_184206.jpg"/>
          <p:cNvPicPr/>
          <p:nvPr/>
        </p:nvPicPr>
        <p:blipFill>
          <a:blip r:embed="rId1"/>
          <a:stretch/>
        </p:blipFill>
        <p:spPr>
          <a:xfrm>
            <a:off x="669960" y="277920"/>
            <a:ext cx="7804080" cy="58528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2" descr="C:\Documents and Settings\Admin\Рабочий стол\Старая Ладога\20150502_184433.jpg"/>
          <p:cNvPicPr/>
          <p:nvPr/>
        </p:nvPicPr>
        <p:blipFill>
          <a:blip r:embed="rId1"/>
          <a:stretch/>
        </p:blipFill>
        <p:spPr>
          <a:xfrm>
            <a:off x="669960" y="277920"/>
            <a:ext cx="7804080" cy="58528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200"/>
            </a:br>
            <a:br>
              <a:rPr sz="4200"/>
            </a:br>
            <a:br>
              <a:rPr sz="4200"/>
            </a:br>
            <a:br>
              <a:rPr sz="4200"/>
            </a:br>
            <a:br>
              <a:rPr sz="4200"/>
            </a:br>
            <a:br>
              <a:rPr sz="4200"/>
            </a:br>
            <a:br>
              <a:rPr sz="4200"/>
            </a:br>
            <a:r>
              <a:rPr b="0" i="1" lang="ru-RU" sz="4200" spc="-1" strike="noStrike">
                <a:solidFill>
                  <a:srgbClr val="ffffcc"/>
                </a:solidFill>
                <a:latin typeface="Tahoma"/>
              </a:rPr>
              <a:t>Танкисты всегда были силой державы,</a:t>
            </a:r>
            <a:br>
              <a:rPr sz="4200"/>
            </a:br>
            <a:r>
              <a:rPr b="0" i="1" lang="ru-RU" sz="4200" spc="-1" strike="noStrike">
                <a:solidFill>
                  <a:srgbClr val="ffffcc"/>
                </a:solidFill>
                <a:latin typeface="Tahoma"/>
              </a:rPr>
              <a:t>В военные годы спасали страну.</a:t>
            </a:r>
            <a:br>
              <a:rPr sz="4200"/>
            </a:br>
            <a:r>
              <a:rPr b="0" i="1" lang="ru-RU" sz="4200" spc="-1" strike="noStrike">
                <a:solidFill>
                  <a:srgbClr val="ffffcc"/>
                </a:solidFill>
                <a:latin typeface="Tahoma"/>
              </a:rPr>
              <a:t>Достойны танкисты торжественной славы, </a:t>
            </a:r>
            <a:br>
              <a:rPr sz="4200"/>
            </a:br>
            <a:r>
              <a:rPr b="0" i="1" lang="ru-RU" sz="4200" spc="-1" strike="noStrike">
                <a:solidFill>
                  <a:srgbClr val="ffffcc"/>
                </a:solidFill>
                <a:latin typeface="Tahoma"/>
              </a:rPr>
              <a:t>Желаем, чтоб вы не познали войну!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rg_hi" descr="ANd9GcRQ6HF_4VB2HR-zRM5H5yFJtu5zEt7VYU1uo5kk7ntqkvqLIn2mPQ"/>
          <p:cNvPicPr/>
          <p:nvPr/>
        </p:nvPicPr>
        <p:blipFill>
          <a:blip r:embed="rId1"/>
          <a:stretch/>
        </p:blipFill>
        <p:spPr>
          <a:xfrm>
            <a:off x="539640" y="236520"/>
            <a:ext cx="7993080" cy="59864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Tahoma"/>
              </a:rPr>
              <a:t>Москвичи слушают по радио заявление Советского правительства о вероломном нападении фашистской Германии на Советский Союз. </a:t>
            </a:r>
            <a:br>
              <a:rPr sz="1800"/>
            </a:br>
            <a:r>
              <a:rPr b="0" lang="ru-RU" sz="1800" spc="-1" strike="noStrike">
                <a:solidFill>
                  <a:srgbClr val="ffffcc"/>
                </a:solidFill>
                <a:latin typeface="Tahoma"/>
              </a:rPr>
              <a:t>Очень известная фотография первого дня войны</a:t>
            </a: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4" name="Picture 7" descr="Москвичи слушают сообщение о начале войны с Германией"/>
          <p:cNvPicPr/>
          <p:nvPr/>
        </p:nvPicPr>
        <p:blipFill>
          <a:blip r:embed="rId1"/>
          <a:stretch/>
        </p:blipFill>
        <p:spPr>
          <a:xfrm>
            <a:off x="3340080" y="1700280"/>
            <a:ext cx="3505320" cy="48243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Танкисты из советской 108-й танковой дивизии с танком КВ. Брянский фронт, сентябрь 1941.</a:t>
            </a: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6" name="Picture 6" descr="Танкисты из советской 108-й танковой дивизии с танком КВ"/>
          <p:cNvPicPr/>
          <p:nvPr/>
        </p:nvPicPr>
        <p:blipFill>
          <a:blip r:embed="rId1"/>
          <a:stretch/>
        </p:blipFill>
        <p:spPr>
          <a:xfrm>
            <a:off x="1312920" y="1600200"/>
            <a:ext cx="6518160" cy="45306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6" descr="ANd9GcQneM_rABYu8z4-1QantL87yhRyJfbnndHH6ROp9tyZ79gKkS4_GA"/>
          <p:cNvPicPr/>
          <p:nvPr/>
        </p:nvPicPr>
        <p:blipFill>
          <a:blip r:embed="rId1"/>
          <a:stretch/>
        </p:blipFill>
        <p:spPr>
          <a:xfrm>
            <a:off x="755640" y="620640"/>
            <a:ext cx="7272360" cy="54262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457200" y="277920"/>
            <a:ext cx="8229600" cy="58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оветские солдаты сражались за каждую улицу, каждый дом, каждый этаж, за каждый камушек родной земл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9" name="Picture 6" descr="ANd9GcRuMyicZS4wzprFaiwlrACZ7Y180D_m0Ul6ZsoCi9zUSDosENad2A"/>
          <p:cNvPicPr/>
          <p:nvPr/>
        </p:nvPicPr>
        <p:blipFill>
          <a:blip r:embed="rId1"/>
          <a:stretch/>
        </p:blipFill>
        <p:spPr>
          <a:xfrm>
            <a:off x="1428840" y="1928880"/>
            <a:ext cx="6408720" cy="46400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457200" y="277920"/>
            <a:ext cx="8229600" cy="58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ечный огон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1" name="Picture 6" descr="ANd9GcSdTJOmmyNextDoJ3PRt5cgEs4i_qJbm7CO1oOoQJIwSbOdRj1r"/>
          <p:cNvPicPr/>
          <p:nvPr/>
        </p:nvPicPr>
        <p:blipFill>
          <a:blip r:embed="rId1"/>
          <a:stretch/>
        </p:blipFill>
        <p:spPr>
          <a:xfrm>
            <a:off x="1116000" y="1052640"/>
            <a:ext cx="6551640" cy="49147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0T16:24:46Z</dcterms:created>
  <dc:creator>ОЛЯ</dc:creator>
  <dc:description/>
  <dc:language>en-US</dc:language>
  <cp:lastModifiedBy>User</cp:lastModifiedBy>
  <dcterms:modified xsi:type="dcterms:W3CDTF">2015-05-07T12:24:05Z</dcterms:modified>
  <cp:revision>35</cp:revision>
  <dc:subject/>
  <dc:title>Помните!  Через века, через года – помните! О тех, кто уже не придет никогда, - помните! Мечту пронесите через года и жизнью наполните!.. Но о тех, кто уже не придет никогда, - пожалуйста, ПОМНИТЕ! </dc:title>
</cp:coreProperties>
</file>