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3096E-BE90-4226-88D0-D99A3083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B94A1-7DAD-4EE6-B2D2-3557D23C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D082-D48E-40CD-ACF8-3A2DD976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B6657-8CD3-4C69-9877-2AD9FA50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F210-B664-4637-9775-9AD77D53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1A96-5254-4B35-84E4-1E5A16B2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F656-9904-4FA2-9CD8-EC32E877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B0B9-2EBC-4045-A535-59FFB743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8254-C79A-4E30-B227-8869C28F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675C-1766-4403-87BB-35F45F29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0097-3757-45E2-A125-6A538B2D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588E2-D217-4840-89F4-67D29267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0741-5CD0-4BE3-9549-5428BF8F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AE91-EBCF-4F1D-B15B-FE51F46E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898A-23DA-488F-81C2-C80DE520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162C-CAA0-422F-ACA1-D5ECF1CF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8A42-516A-4AB6-A22A-637A4D4C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69DF2-2B0D-40E4-BB34-67C787D4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D061-F4D3-43E4-B1F9-29A270F4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ABBC9-C58D-4FCC-ABEE-0788F001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77908-AB16-4C58-B341-4E7083D5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71D73-FCC3-4F1A-83CB-8C4708A2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769D7-6E78-4213-B663-DB286E66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40CC7-17D3-46AD-B8AC-672FA264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5E5C-D998-4D70-A282-7E4450B7CF5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9D05-C16B-4FDC-9742-CEB961B31C3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b050"/>
                </a:solidFill>
                <a:latin typeface="Tahoma"/>
              </a:rPr>
              <a:t>Моя</a:t>
            </a:r>
            <a:r>
              <a:rPr b="0" i="1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4800" spc="-1" strike="noStrike">
                <a:solidFill>
                  <a:srgbClr val="ffc000"/>
                </a:solidFill>
                <a:latin typeface="Tahoma"/>
              </a:rPr>
              <a:t>семья</a:t>
            </a:r>
            <a:r>
              <a:rPr b="0" i="1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4800" spc="-1" strike="noStrike">
                <a:solidFill>
                  <a:srgbClr val="002060"/>
                </a:solidFill>
                <a:latin typeface="Tahoma"/>
              </a:rPr>
              <a:t>в годы войн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071600" y="3644640"/>
            <a:ext cx="38847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и: семь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бедевой Надеж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цы 1 «В»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БОУ СОШ № 58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 Санкт-Петербур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от самый длинный  день в году,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 его безоблачной погодой,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м выдал общую беду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 всех, на все четыре года.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ANd9GcTLdgqs1JBefadm1pby6xoce4RzXPK1auWeXkCr3B82uF0yta9BDg"/>
          <p:cNvPicPr/>
          <p:nvPr/>
        </p:nvPicPr>
        <p:blipFill>
          <a:blip r:embed="rId1"/>
          <a:stretch/>
        </p:blipFill>
        <p:spPr>
          <a:xfrm>
            <a:off x="1428840" y="2338560"/>
            <a:ext cx="6672240" cy="37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ANd9GcRmABWNDvNzf_WbfkkycAQu9oCU8CDN8JQJsCpMDz1qHcFVPL4K"/>
          <p:cNvPicPr/>
          <p:nvPr/>
        </p:nvPicPr>
        <p:blipFill>
          <a:blip r:embed="rId1"/>
          <a:stretch/>
        </p:blipFill>
        <p:spPr>
          <a:xfrm>
            <a:off x="1908000" y="549360"/>
            <a:ext cx="5187960" cy="540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g_hi" descr="ANd9GcQPUte55wFNp4-Ks4XKhLSx33kvmY-M6nRJV9fFkmABHPGDMmkReQ"/>
          <p:cNvPicPr/>
          <p:nvPr/>
        </p:nvPicPr>
        <p:blipFill>
          <a:blip r:embed="rId1"/>
          <a:stretch/>
        </p:blipFill>
        <p:spPr>
          <a:xfrm>
            <a:off x="642960" y="571680"/>
            <a:ext cx="7920000" cy="496404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"/>
          <p:cNvSpPr/>
          <p:nvPr/>
        </p:nvSpPr>
        <p:spPr>
          <a:xfrm>
            <a:off x="5929200" y="114300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ahoma"/>
              </a:rPr>
              <a:t>Нас у Москвы</a:t>
            </a:r>
            <a:br>
              <a:rPr sz="1800"/>
            </a:br>
            <a:r>
              <a:rPr b="0" i="1" lang="ru-RU" sz="1800" spc="-1" strike="noStrike">
                <a:solidFill>
                  <a:srgbClr val="ff0000"/>
                </a:solidFill>
                <a:latin typeface="Tahoma"/>
              </a:rPr>
              <a:t>Очень много,</a:t>
            </a:r>
            <a:br>
              <a:rPr sz="1800"/>
            </a:br>
            <a:r>
              <a:rPr b="0" i="1" lang="ru-RU" sz="1800" spc="-1" strike="noStrike">
                <a:solidFill>
                  <a:srgbClr val="ff0000"/>
                </a:solidFill>
                <a:latin typeface="Tahoma"/>
              </a:rPr>
              <a:t>А Москва у нас - одна!</a:t>
            </a:r>
            <a:br>
              <a:rPr sz="1800"/>
            </a:br>
            <a:r>
              <a:rPr b="0" i="1" lang="ru-RU" sz="1800" spc="-1" strike="noStrike">
                <a:solidFill>
                  <a:srgbClr val="ff0000"/>
                </a:solidFill>
                <a:latin typeface="Tahoma"/>
              </a:rPr>
              <a:t>Р. Рождественский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rg_hi" descr="ANd9GcTqSZgypl7lWkOKdz4vd_C6g9AMXagAgf5JMeE4aSXOaciptSyANQ"/>
          <p:cNvPicPr/>
          <p:nvPr/>
        </p:nvPicPr>
        <p:blipFill>
          <a:blip r:embed="rId1"/>
          <a:stretch/>
        </p:blipFill>
        <p:spPr>
          <a:xfrm>
            <a:off x="1332000" y="189000"/>
            <a:ext cx="6481800" cy="592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Великая Отечественная Война завершилась Победой Советского Союза. Победа в войне была обеспечена напряжением всех сил народов СССР, героизмом и мужеством солдат и тружеников ты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алют Победы в Москве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9 мая 1945 год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Picture 6" descr="ANd9GcRtGMm3OtM45OlgPn8yQsUEnL_K2mOLlW0jSXxjllFwAw3Qgl1v"/>
          <p:cNvPicPr/>
          <p:nvPr/>
        </p:nvPicPr>
        <p:blipFill>
          <a:blip r:embed="rId1"/>
          <a:stretch/>
        </p:blipFill>
        <p:spPr>
          <a:xfrm>
            <a:off x="1403280" y="1628640"/>
            <a:ext cx="6121440" cy="42404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алют Победы в Ленинград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8" descr="ANd9GcRvv8-KI74DE0jKBrC-D8M8OSrP8D5PGs9gzCd952pbokcaCjBjcg"/>
          <p:cNvPicPr/>
          <p:nvPr/>
        </p:nvPicPr>
        <p:blipFill>
          <a:blip r:embed="rId1"/>
          <a:stretch/>
        </p:blipFill>
        <p:spPr>
          <a:xfrm>
            <a:off x="1692360" y="1844640"/>
            <a:ext cx="5689440" cy="408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ветский Союз встречал Победу праздничным салютом, который в память о ней гремит каждый год 9 м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6" descr="ANd9GcTJUHlSMoYIg3un2rVYXorLymRa0Kv7hdsb2UDU6CJwtxO4q-Jepg"/>
          <p:cNvPicPr/>
          <p:nvPr/>
        </p:nvPicPr>
        <p:blipFill>
          <a:blip r:embed="rId1"/>
          <a:stretch/>
        </p:blipFill>
        <p:spPr>
          <a:xfrm>
            <a:off x="468360" y="2214720"/>
            <a:ext cx="8064360" cy="44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c000"/>
                </a:solidFill>
                <a:latin typeface="Tahoma"/>
              </a:rPr>
              <a:t>70 лет нашей славной Победе.</a:t>
            </a:r>
            <a:br>
              <a:rPr sz="3200"/>
            </a:br>
            <a:r>
              <a:rPr b="0" i="1" lang="ru-RU" sz="3200" spc="-1" strike="noStrike">
                <a:solidFill>
                  <a:srgbClr val="ffc000"/>
                </a:solidFill>
                <a:latin typeface="Tahoma"/>
              </a:rPr>
              <a:t>Снова майский рассвет. Тишина…</a:t>
            </a:r>
            <a:br>
              <a:rPr sz="3200"/>
            </a:br>
            <a:r>
              <a:rPr b="0" i="1" lang="ru-RU" sz="3200" spc="-1" strike="noStrike">
                <a:solidFill>
                  <a:srgbClr val="ffc000"/>
                </a:solidFill>
                <a:latin typeface="Tahoma"/>
              </a:rPr>
              <a:t>70 лет нашей славной Победе.</a:t>
            </a:r>
            <a:br>
              <a:rPr sz="3200"/>
            </a:br>
            <a:r>
              <a:rPr b="0" i="1" lang="ru-RU" sz="3200" spc="-1" strike="noStrike">
                <a:solidFill>
                  <a:srgbClr val="ffc000"/>
                </a:solidFill>
                <a:latin typeface="Tahoma"/>
              </a:rPr>
              <a:t>70 лет, как убита война!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C:\Documents and Settings\Admin\Рабочий стол\Старая Ладога\IMG_7567.JPG"/>
          <p:cNvPicPr/>
          <p:nvPr/>
        </p:nvPicPr>
        <p:blipFill>
          <a:blip r:embed="rId1"/>
          <a:stretch/>
        </p:blipFill>
        <p:spPr>
          <a:xfrm>
            <a:off x="2746440" y="463680"/>
            <a:ext cx="3651120" cy="548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Фотографии</a:t>
            </a:r>
            <a:br>
              <a:rPr sz="3600"/>
            </a:b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из прадедушкиного альбом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идков Сергей Николае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й прадедушка служил в танковых войс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ргей Николаевич ушел на фронт в 24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6" descr="C:\Documents and Settings\Admin\Рабочий стол\Старая Ладога\Жидков Сергей Николаевич_0003.jpg"/>
          <p:cNvPicPr/>
          <p:nvPr/>
        </p:nvPicPr>
        <p:blipFill>
          <a:blip r:embed="rId1"/>
          <a:stretch/>
        </p:blipFill>
        <p:spPr>
          <a:xfrm>
            <a:off x="785880" y="1500120"/>
            <a:ext cx="3201840" cy="470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Admin\Рабочий стол\Старая Ладога\20150502_131650.jpg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Admin\Рабочий стол\Старая Ладога\20150502_131728.jpg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ffc000"/>
                </a:solidFill>
                <a:latin typeface="Monotype Corsiva"/>
              </a:rPr>
              <a:t>Мы должны уважать и беречь нашу историю, всегда помнить подвиг нашего народа, чтить имена тех, благодаря кому мы живем сейчас, быть достойными их памят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Admin\Рабочий стол\Старая Ладога\IMG_7642.JPG"/>
          <p:cNvPicPr/>
          <p:nvPr/>
        </p:nvPicPr>
        <p:blipFill>
          <a:blip r:embed="rId1"/>
          <a:stretch/>
        </p:blipFill>
        <p:spPr>
          <a:xfrm>
            <a:off x="457200" y="463680"/>
            <a:ext cx="8229600" cy="548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Documents and Settings\Admin\Рабочий стол\Старая Ладога\20150502_184206.jpg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Documents and Settings\Admin\Рабочий стол\Старая Ладога\20150502_184433.jpg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r>
              <a:rPr b="0" i="1" lang="ru-RU" sz="4200" spc="-1" strike="noStrike">
                <a:solidFill>
                  <a:srgbClr val="ffffcc"/>
                </a:solidFill>
                <a:latin typeface="Tahoma"/>
              </a:rPr>
              <a:t>Танкисты всегда были силой державы,</a:t>
            </a:r>
            <a:br>
              <a:rPr sz="4200"/>
            </a:br>
            <a:r>
              <a:rPr b="0" i="1" lang="ru-RU" sz="4200" spc="-1" strike="noStrike">
                <a:solidFill>
                  <a:srgbClr val="ffffcc"/>
                </a:solidFill>
                <a:latin typeface="Tahoma"/>
              </a:rPr>
              <a:t>В военные годы спасали страну.</a:t>
            </a:r>
            <a:br>
              <a:rPr sz="4200"/>
            </a:br>
            <a:r>
              <a:rPr b="0" i="1" lang="ru-RU" sz="4200" spc="-1" strike="noStrike">
                <a:solidFill>
                  <a:srgbClr val="ffffcc"/>
                </a:solidFill>
                <a:latin typeface="Tahoma"/>
              </a:rPr>
              <a:t>Достойны танкисты торжественной славы, </a:t>
            </a:r>
            <a:br>
              <a:rPr sz="4200"/>
            </a:br>
            <a:r>
              <a:rPr b="0" i="1" lang="ru-RU" sz="4200" spc="-1" strike="noStrike">
                <a:solidFill>
                  <a:srgbClr val="ffffcc"/>
                </a:solidFill>
                <a:latin typeface="Tahoma"/>
              </a:rPr>
              <a:t>Желаем, чтоб вы не познали войну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g_hi" descr="ANd9GcRQ6HF_4VB2HR-zRM5H5yFJtu5zEt7VYU1uo5kk7ntqkvqLIn2mPQ"/>
          <p:cNvPicPr/>
          <p:nvPr/>
        </p:nvPicPr>
        <p:blipFill>
          <a:blip r:embed="rId1"/>
          <a:stretch/>
        </p:blipFill>
        <p:spPr>
          <a:xfrm>
            <a:off x="539640" y="236520"/>
            <a:ext cx="7993080" cy="598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Москвичи слушают по радио заявление Советского правительства о вероломном нападении фашистской Германии на Советский Союз. 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Очень известная фотография первого дня войны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7" descr="Москвичи слушают сообщение о начале войны с Германией"/>
          <p:cNvPicPr/>
          <p:nvPr/>
        </p:nvPicPr>
        <p:blipFill>
          <a:blip r:embed="rId1"/>
          <a:stretch/>
        </p:blipFill>
        <p:spPr>
          <a:xfrm>
            <a:off x="3340080" y="1700280"/>
            <a:ext cx="3505320" cy="482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анкисты из советской 108-й танковой дивизии с танком КВ. Брянский фронт, сентябрь 1941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6" descr="Танкисты из советской 108-й танковой дивизии с танком КВ"/>
          <p:cNvPicPr/>
          <p:nvPr/>
        </p:nvPicPr>
        <p:blipFill>
          <a:blip r:embed="rId1"/>
          <a:stretch/>
        </p:blipFill>
        <p:spPr>
          <a:xfrm>
            <a:off x="1312920" y="1600200"/>
            <a:ext cx="6518160" cy="453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ANd9GcQneM_rABYu8z4-1QantL87yhRyJfbnndHH6ROp9tyZ79gKkS4_GA"/>
          <p:cNvPicPr/>
          <p:nvPr/>
        </p:nvPicPr>
        <p:blipFill>
          <a:blip r:embed="rId1"/>
          <a:stretch/>
        </p:blipFill>
        <p:spPr>
          <a:xfrm>
            <a:off x="755640" y="620640"/>
            <a:ext cx="7272360" cy="542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ветские солдаты сражались за каждую улицу, каждый дом, каждый этаж, за каждый камушек родной зем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ANd9GcRuMyicZS4wzprFaiwlrACZ7Y180D_m0Ul6ZsoCi9zUSDosENad2A"/>
          <p:cNvPicPr/>
          <p:nvPr/>
        </p:nvPicPr>
        <p:blipFill>
          <a:blip r:embed="rId1"/>
          <a:stretch/>
        </p:blipFill>
        <p:spPr>
          <a:xfrm>
            <a:off x="1428840" y="1928880"/>
            <a:ext cx="6408720" cy="464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чный ого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6" descr="ANd9GcSdTJOmmyNextDoJ3PRt5cgEs4i_qJbm7CO1oOoQJIwSbOdRj1r"/>
          <p:cNvPicPr/>
          <p:nvPr/>
        </p:nvPicPr>
        <p:blipFill>
          <a:blip r:embed="rId1"/>
          <a:stretch/>
        </p:blipFill>
        <p:spPr>
          <a:xfrm>
            <a:off x="1116000" y="1052640"/>
            <a:ext cx="6551640" cy="491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6:24:46Z</dcterms:created>
  <dc:creator>ОЛЯ</dc:creator>
  <dc:description/>
  <dc:language>en-US</dc:language>
  <cp:lastModifiedBy>User</cp:lastModifiedBy>
  <dcterms:modified xsi:type="dcterms:W3CDTF">2015-05-07T12:24:05Z</dcterms:modified>
  <cp:revision>35</cp:revision>
  <dc:subject/>
  <dc:title>Помните!  Через века, через года – помните! О тех, кто уже не придет никогда, - помните! Мечту пронесите через года и жизнью наполните!.. Но о тех, кто уже не придет никогда, - пожалуйста, ПОМНИТЕ! </dc:title>
</cp:coreProperties>
</file>