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4655-F905-49B7-9B83-F55C4EDF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469A-9B14-459F-80F0-64BE568D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44BF-64F7-42CC-A806-1E6D2CD0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5880-8C38-4745-AE19-FF5F95A5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8202-7E06-4A5B-9018-1151D928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B7EF-8796-49F2-B726-D2A1283F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DC19-EDE1-4C38-AEC2-1548B0D6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75D1-F479-40BF-B20C-ACE48805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DA36-267D-4B86-B661-5EFB34A4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4F35-640E-4F8D-9338-CF2DCE03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3F85-ABFA-451E-8E99-25D2A8F0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303A-5460-4BB6-9D9D-9CB22E31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2D75-ABEE-4378-9BC1-FC02C221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3725-7002-4A6E-A61E-5B316F85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8D54-B96E-4AA5-B110-239B2570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DE68-6C29-4FF1-BE60-D9B33C0F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F93A-0F97-44FA-AE01-3A3A6D30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560-BAB2-40B9-A71D-F07291B5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32AF-1983-4112-801C-2C2C3B6B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C1C-6422-4235-90ED-95645D27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4919-346E-4A5F-8123-CB419B6F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B1FD-BAEB-4F4B-8E20-87BDF005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42DC-5315-4BB6-A87C-408A80FB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DEB0-0ECF-472E-BC4A-D43AF1D7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7476-DF93-4202-8886-ABEBC66441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581A-E945-4942-A1C1-7159E8B5A6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«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апа, мама, я – спортивная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семья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4667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повышение интереса у родителей и детей к совместным занятиям физкультурой и спор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дач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ширять представления родителей о совместных с детьми занятиях физкультурой и спор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вивать у детей интерес к различным видам спорта и спортивным игр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ировать способности детей к двигательному сопереживанию, осознанному выполнению упражн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спитывать дружеские взаимоотношения со сверстниками, желание проявлять активность в разных играх и упражнен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вышать педагогическую компетентность родителей по созданию спортивной развивающей среды в домашних услов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тренняя зарядк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, два, три, четыре, пять –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чинаем мы вставать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у-ка, быстро – не ленись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зарядку становись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2589120"/>
            <a:ext cx="392904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27640" y="141300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удь спортивным и здоровым!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ортивным быть теперь вновь модно!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  спортом много ты поймёшь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орт – и здоровье без таблеток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орт – и веселье без заб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92120" y="1905120"/>
            <a:ext cx="2819520" cy="2023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392120" y="4070520"/>
            <a:ext cx="2820960" cy="20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3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3280" y="148428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ши мальчики     спортсмены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 за что их не унять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ражняются опят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2527200"/>
            <a:ext cx="39276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следовательская деятельн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чему не тонет мя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38080" y="2527200"/>
            <a:ext cx="3927600" cy="294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ниги разные нужны и  о спорте нам важ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2527200"/>
            <a:ext cx="39276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2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3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5T10:38:37Z</dcterms:created>
  <dc:creator>Elena</dc:creator>
  <dc:description/>
  <dc:language>en-US</dc:language>
  <cp:lastModifiedBy>Elena</cp:lastModifiedBy>
  <dcterms:modified xsi:type="dcterms:W3CDTF">2014-12-01T19:06:36Z</dcterms:modified>
  <cp:revision>3</cp:revision>
  <dc:subject/>
  <dc:title>«Папа, мама, я – спортивная семья» </dc:title>
</cp:coreProperties>
</file>