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BAB-6208-4DD5-8674-232C1AE9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F92-E0AC-4112-8D77-0BBFD346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310-01F7-4E0F-AC23-3799241B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8EF-1904-4826-BF14-4606C4C7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556F-98F2-4215-9925-427E6F40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AD91-DE45-4C3B-BE0E-9FC77777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2ED3-87BA-4D76-8812-7E347E99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C8C5-A4E5-4616-B614-6911D973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05A8-C847-41A9-9880-A93136AA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C2DB-5FC1-4F01-940B-AAD6FB16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E30B-BFF9-42E3-ACEB-5686DE3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D3F-B646-4F4B-B798-E0858C38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C31A-386F-4EC7-A9C9-7E02BE3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4ACC-6D9D-42A6-B241-9B5C9CB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F648-3B3A-4C2A-9834-65A712A2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B853-771A-4034-A025-0980EEB2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1D47-F3EF-4496-9802-6B17B71D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D50-DB4B-4E1E-8B0D-1813CC19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146-CA27-40DA-B171-89FA17A0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AD8-F54D-4CD4-AB16-DEA4B27B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774-7D9C-4C6F-B0B6-A2A99988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825-E85E-44F0-90FA-1E43FFD4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283-30F6-41D3-91E4-D0662E03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7A5-DF11-494F-AF33-77E3D78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726-E98E-413D-9AA8-FE290CFD12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59EF-E57B-4DC6-BDA7-DFC279F0F7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«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па, мама, я – спортивная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семья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667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овышение интереса у родителей и детей к совместным занятиям физкультурой и 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ширять представления родителей о совместных с детьми занятиях физкультурой и 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вать у детей интерес к различным видам спорта и спортивным игр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ть способности детей к двигательному сопереживанию, осознанному выполнению упражн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итывать дружеские взаимоотношения со сверстниками, желание проявлять активность в разных играх и упражн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ать педагогическую компетентность родителей по созданию спортивной развивающей среды в домашн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ренняя заряд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, два, три, четыре, пять –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чинаем мы вставать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-ка, быстро – не ленис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зарядку становись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589120"/>
            <a:ext cx="39290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27640" y="141300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дь спортивным и здоровым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ртивным быть теперь вновь модно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  спортом много ты поймёшь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рт – и здоровье без таблеток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рт – и веселье без заб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92120" y="1905120"/>
            <a:ext cx="2819520" cy="202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92120" y="4070520"/>
            <a:ext cx="28209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и мальчики     спортсмены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за что их не унять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ражняются опя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тельская деятель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не тонет мя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ниги разные нужны и  о спорте нам важ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0:38:37Z</dcterms:created>
  <dc:creator>Elena</dc:creator>
  <dc:description/>
  <dc:language>en-US</dc:language>
  <cp:lastModifiedBy>Elena</cp:lastModifiedBy>
  <dcterms:modified xsi:type="dcterms:W3CDTF">2014-12-01T19:06:36Z</dcterms:modified>
  <cp:revision>3</cp:revision>
  <dc:subject/>
  <dc:title>«Папа, мама, я – спортивная семья» </dc:title>
</cp:coreProperties>
</file>