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D4C6-7AEB-448E-9A93-DDCC7A29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E10-DC57-4068-BE4F-3B116F45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9EC3-4540-4DCA-9671-452B1567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750-0C1C-48E6-BE7F-FD50C285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7DAB-ADFB-4BBF-B41D-F1BA584A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4A39-2D91-4385-B9D4-6F487045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9A98-156E-448E-A211-481598EC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B4A5-C2C2-484A-BE3C-F8C90D95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516-65FB-4986-9522-391C7B3F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8C9-65DA-4A3D-BF85-C28FF007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ACF-3EBE-4C79-84E6-5F255B6F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636A-320F-4858-A2AF-BE38D392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63E7-E6B3-4F6E-8641-2D72FE15DE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Марина\Pictures\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484360" y="1197000"/>
            <a:ext cx="518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Нет в  России семьи такой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где не памятен свой герой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197760" y="501336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Arial"/>
              </a:rPr>
              <a:t>Работа ученицы 1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Arial"/>
              </a:rPr>
              <a:t>Руденко В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Arial"/>
              </a:rPr>
              <a:t>             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Arial"/>
              </a:rPr>
              <a:t>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Марина\Pictures\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"/>
          <p:cNvSpPr/>
          <p:nvPr/>
        </p:nvSpPr>
        <p:spPr>
          <a:xfrm>
            <a:off x="3851280" y="3613680"/>
            <a:ext cx="496872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Виноградов   Владимир  Николаевич 1918 года рожд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Закончил  экстренно 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Ленинградское</a:t>
            </a:r>
            <a:r>
              <a:rPr b="1" lang="ru-RU" sz="1400" spc="-1" strike="noStrike">
                <a:solidFill>
                  <a:srgbClr val="545454"/>
                </a:solidFill>
                <a:latin typeface="Calibri"/>
                <a:ea typeface="Calibri"/>
              </a:rPr>
              <a:t> 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военно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-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инженерное училище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. После которого его отправили  на 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Северо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-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Западный фронт 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в</a:t>
            </a:r>
            <a:r>
              <a:rPr b="1" lang="ru-RU" sz="1400" spc="-1" strike="noStrike">
                <a:solidFill>
                  <a:srgbClr val="545454"/>
                </a:solidFill>
                <a:latin typeface="Calibri"/>
                <a:ea typeface="Calibri"/>
              </a:rPr>
              <a:t> 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качестве командира саперного взвода 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(Саперы при наступлении идут всегда первые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Марина\Pictures\руденко фото\Изображение (2).bmp"/>
          <p:cNvPicPr/>
          <p:nvPr/>
        </p:nvPicPr>
        <p:blipFill>
          <a:blip r:embed="rId2"/>
          <a:stretch/>
        </p:blipFill>
        <p:spPr>
          <a:xfrm>
            <a:off x="4716360" y="549360"/>
            <a:ext cx="21402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Марина\Pictures\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3635280" y="3439440"/>
            <a:ext cx="4969080" cy="22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Он 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участвовал в боях под Старой Руссой. Воевал в  составе 2-го  Украинского фронта. Участвовал</a:t>
            </a:r>
            <a:r>
              <a:rPr b="1" lang="ru-RU" sz="1400" spc="-1" strike="noStrike">
                <a:solidFill>
                  <a:srgbClr val="545454"/>
                </a:solidFill>
                <a:latin typeface="Calibri"/>
                <a:ea typeface="Calibri"/>
              </a:rPr>
              <a:t> 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в</a:t>
            </a:r>
            <a:r>
              <a:rPr b="1" lang="ru-RU" sz="1400" spc="-1" strike="noStrike">
                <a:solidFill>
                  <a:srgbClr val="545454"/>
                </a:solidFill>
                <a:latin typeface="Calibri"/>
                <a:ea typeface="Calibri"/>
              </a:rPr>
              <a:t> 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боях</a:t>
            </a:r>
            <a:r>
              <a:rPr b="1" lang="ru-RU" sz="1400" spc="-1" strike="noStrike">
                <a:solidFill>
                  <a:srgbClr val="545454"/>
                </a:solidFill>
                <a:latin typeface="Calibri"/>
                <a:ea typeface="Calibri"/>
              </a:rPr>
              <a:t> 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за</a:t>
            </a:r>
            <a:r>
              <a:rPr b="1" lang="ru-RU" sz="1400" spc="-1" strike="noStrike">
                <a:solidFill>
                  <a:srgbClr val="545454"/>
                </a:solidFill>
                <a:latin typeface="Calibri"/>
                <a:ea typeface="Calibri"/>
              </a:rPr>
              <a:t> 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освобождение Кировограда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,</a:t>
            </a:r>
            <a:r>
              <a:rPr b="1" lang="ru-RU" sz="1400" spc="-1" strike="noStrike">
                <a:solidFill>
                  <a:srgbClr val="545454"/>
                </a:solidFill>
                <a:latin typeface="Calibri"/>
                <a:ea typeface="Calibri"/>
              </a:rPr>
              <a:t> 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Кривого Рога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,</a:t>
            </a:r>
            <a:r>
              <a:rPr b="1" i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 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Правобере́жной Укра́ины, Венгрии, Румын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19  февраля 1944года  был  ранен в висок, в плечо и ногу. Его с поля боя вынес солдат.   5 месяцев находился в госпитале (осколок из ноги вынимали после войны.) .  Когда вернулось зрение он снова отправился на фрон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Марина\Pictures\руденко фото\Изображение (4).bmp"/>
          <p:cNvPicPr/>
          <p:nvPr/>
        </p:nvPicPr>
        <p:blipFill>
          <a:blip r:embed="rId2"/>
          <a:stretch/>
        </p:blipFill>
        <p:spPr>
          <a:xfrm>
            <a:off x="4067280" y="549360"/>
            <a:ext cx="335268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Марина\Pictures\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1619280" y="483480"/>
            <a:ext cx="6913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	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В последние дни войны воинская часть, в которой воевал мой прадедушка, находилась на территории Венгрии. Там он узнал счастливую весть: НАСТУПИЛА ПОБЕДА. Командиры сказали, что отправить воинские  часть  в СССР нет возможности т.к очень много эшелонов с ранеными. Командиры   приняли  решение добираться в расположение воинской части  пешком, шли только ночью, потому что было жарко . Так они оказались в Николаев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Марина\Pictures\руденко фото\Изображение (3).bmp"/>
          <p:cNvPicPr/>
          <p:nvPr/>
        </p:nvPicPr>
        <p:blipFill>
          <a:blip r:embed="rId2"/>
          <a:stretch/>
        </p:blipFill>
        <p:spPr>
          <a:xfrm>
            <a:off x="4427640" y="2060640"/>
            <a:ext cx="26715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Марина\Pictures\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C:\Users\Марина\Pictures\руденко фото\Изображение.bmp"/>
          <p:cNvPicPr/>
          <p:nvPr/>
        </p:nvPicPr>
        <p:blipFill>
          <a:blip r:embed="rId2"/>
          <a:stretch/>
        </p:blipFill>
        <p:spPr>
          <a:xfrm>
            <a:off x="5940360" y="189000"/>
            <a:ext cx="2808360" cy="4162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826920" y="847080"/>
            <a:ext cx="4824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Мой прадедушка был награжден двумя орденами Красной звезды, орденом Отечественной войны второй степен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и медалями 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-За отваг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-за боевые заслуг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- за победу над Германи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-много юбилейных меда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После войны продолжал служить в рядах  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Вооружённых Силах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 </a:t>
            </a:r>
            <a:r>
              <a:rPr b="1" lang="ru-RU" sz="1400" spc="-1" strike="noStrike">
                <a:solidFill>
                  <a:srgbClr val="6a6a6a"/>
                </a:solidFill>
                <a:latin typeface="Arial"/>
                <a:ea typeface="Calibri"/>
              </a:rPr>
              <a:t>Советской</a:t>
            </a:r>
            <a:r>
              <a:rPr b="1" lang="ru-RU" sz="1400" spc="-1" strike="noStrike">
                <a:solidFill>
                  <a:srgbClr val="545454"/>
                </a:solidFill>
                <a:latin typeface="Arial"/>
                <a:ea typeface="Calibri"/>
              </a:rPr>
              <a:t> арми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Марина\Pictures\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913680" y="476280"/>
            <a:ext cx="424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Источники</a:t>
            </a:r>
            <a:r>
              <a:rPr b="0" lang="en-US" sz="1800" spc="-1" strike="noStrike">
                <a:solidFill>
                  <a:srgbClr val="c00000"/>
                </a:solidFill>
                <a:latin typeface="Monotype Corsiv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фотографии, текст - семейый архи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</a:rPr>
              <a:t>фон-</a:t>
            </a:r>
            <a:r>
              <a:rPr b="0" lang="en-US" sz="1800" spc="-1" strike="noStrike">
                <a:solidFill>
                  <a:srgbClr val="c00000"/>
                </a:solidFill>
                <a:latin typeface="Monotype Corsiva"/>
              </a:rPr>
              <a:t>http—nachalo4ka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7T15:48:16Z</dcterms:created>
  <dc:creator>Марина</dc:creator>
  <dc:description/>
  <dc:language>en-US</dc:language>
  <cp:lastModifiedBy>Марина</cp:lastModifiedBy>
  <dcterms:modified xsi:type="dcterms:W3CDTF">2015-05-07T16:15:32Z</dcterms:modified>
  <cp:revision>3</cp:revision>
  <dc:subject/>
  <dc:title>Слайд 1</dc:title>
</cp:coreProperties>
</file>