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B89-8F09-400E-A03B-B605BAAE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F61-AEE2-48B4-995B-8211386D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C50-EEB7-46EA-B729-FEE71420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EE6-79BC-4B1A-BB8E-E4EED399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FB1-4605-409B-8D58-B53F6438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779-3F31-4A55-A26F-617A0678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7A3-67F8-4A29-976E-E42FE0B3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294-03B3-47C9-B3A5-C9A4EEA8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6B3-C937-418E-967E-1597704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C1D-7495-48EF-9355-15CCFF43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551-C0CE-4D8E-8239-1320F19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567-1145-4FF8-9EFC-4E89325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C176-5E3C-4CBC-BF3B-70345946A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484360" y="1197000"/>
            <a:ext cx="51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Нет в  России семьи тако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где не памятен свой герой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197760" y="501336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Arial"/>
              </a:rPr>
              <a:t>Работа ученицы 1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Arial"/>
              </a:rPr>
              <a:t>Руденко В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3851280" y="3613680"/>
            <a:ext cx="496872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Виноградов   Владимир  Николаевич 1918 года рожд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Закончил  экстренно 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Ленинградское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военно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инженерное училище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. После которого его отправили  на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Северо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Западный фронт 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в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качестве командира саперного взвода 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(Саперы при наступлении идут всегда первы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Марина\Pictures\руденко фото\Изображение (2).bmp"/>
          <p:cNvPicPr/>
          <p:nvPr/>
        </p:nvPicPr>
        <p:blipFill>
          <a:blip r:embed="rId2"/>
          <a:stretch/>
        </p:blipFill>
        <p:spPr>
          <a:xfrm>
            <a:off x="4716360" y="549360"/>
            <a:ext cx="21402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3635280" y="3439440"/>
            <a:ext cx="496908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Он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участвовал в боях под Старой Руссой. Воевал в  составе 2-го  Украинского фронта. Участвовал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в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боях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за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освобождение Кировограда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,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Кривого Рога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,</a:t>
            </a:r>
            <a:r>
              <a:rPr b="1" i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Правобере́жной Укра́ины, Венгрии, Румын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19  февраля 1944года  был  ранен в висок, в плечо и ногу. Его с поля боя вынес солдат.   5 месяцев находился в госпитале (осколок из ноги вынимали после войны.) .  Когда вернулось зрение он снова отправился на фрон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Марина\Pictures\руденко фото\Изображение (4).bmp"/>
          <p:cNvPicPr/>
          <p:nvPr/>
        </p:nvPicPr>
        <p:blipFill>
          <a:blip r:embed="rId2"/>
          <a:stretch/>
        </p:blipFill>
        <p:spPr>
          <a:xfrm>
            <a:off x="4067280" y="549360"/>
            <a:ext cx="335268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619280" y="483480"/>
            <a:ext cx="6913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	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В последние дни войны воинская часть, в которой воевал мой прадедушка, находилась на территории Венгрии. Там он узнал счастливую весть: НАСТУПИЛА ПОБЕДА. Командиры сказали, что отправить воинские  часть  в СССР нет возможности т.к очень много эшелонов с ранеными. Командиры   приняли  решение добираться в расположение воинской части  пешком, шли только ночью, потому что было жарко . Так они оказались в Николаев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Марина\Pictures\руденко фото\Изображение (3).bmp"/>
          <p:cNvPicPr/>
          <p:nvPr/>
        </p:nvPicPr>
        <p:blipFill>
          <a:blip r:embed="rId2"/>
          <a:stretch/>
        </p:blipFill>
        <p:spPr>
          <a:xfrm>
            <a:off x="4427640" y="2060640"/>
            <a:ext cx="2671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C:\Users\Марина\Pictures\руденко фото\Изображение.bmp"/>
          <p:cNvPicPr/>
          <p:nvPr/>
        </p:nvPicPr>
        <p:blipFill>
          <a:blip r:embed="rId2"/>
          <a:stretch/>
        </p:blipFill>
        <p:spPr>
          <a:xfrm>
            <a:off x="5940360" y="189000"/>
            <a:ext cx="2808360" cy="4162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826920" y="847080"/>
            <a:ext cx="482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Мой прадедушка был награжден двумя орденами Красной звезды, орденом Отечественной войны второй степе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и медалями 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За отваг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за боевые заслу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 за победу над Герман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много юбилейных меда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После войны продолжал служить в рядах 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Вооружённых Силах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Советской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 арм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913680" y="476280"/>
            <a:ext cx="42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Источники</a:t>
            </a:r>
            <a:r>
              <a:rPr b="0" lang="en-US" sz="1800" spc="-1" strike="noStrike">
                <a:solidFill>
                  <a:srgbClr val="c00000"/>
                </a:solidFill>
                <a:latin typeface="Monotype Corsiv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фотографии, текст - семейый архи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фон-</a:t>
            </a:r>
            <a:r>
              <a:rPr b="0" lang="en-US" sz="1800" spc="-1" strike="noStrike">
                <a:solidFill>
                  <a:srgbClr val="c00000"/>
                </a:solidFill>
                <a:latin typeface="Monotype Corsiva"/>
              </a:rPr>
              <a:t>http—nachalo4ka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15:48:16Z</dcterms:created>
  <dc:creator>Марина</dc:creator>
  <dc:description/>
  <dc:language>en-US</dc:language>
  <cp:lastModifiedBy>Марина</cp:lastModifiedBy>
  <dcterms:modified xsi:type="dcterms:W3CDTF">2015-05-07T16:15:32Z</dcterms:modified>
  <cp:revision>3</cp:revision>
  <dc:subject/>
  <dc:title>Слайд 1</dc:title>
</cp:coreProperties>
</file>