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5FA-3330-4523-850F-EA431A01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627-E6D1-46FE-8FE5-E9547F02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091-F19A-4920-8FDE-E9D9190E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9F3-1B6F-4365-98AB-E9063DD6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954E-F8EB-48FB-916C-55C83DCD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FC60-0AFC-43B4-8CF9-DBDC0C9D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B42C-79F3-47B6-A87E-52BAD7D2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5372-02D3-4629-91FC-6E469EE0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F6A8-36C7-4AD8-BEA6-1D994405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799956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57D-903A-47F4-9874-0DB8AD5E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673B-2CA1-4075-8650-DDF30C5B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E1D-9A6E-49FA-9B9D-D98902E1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2FE6-61B8-4C8C-814E-0C34038C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0427-BB45-4B16-834A-FB486F3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86B0-272C-484D-9E15-648DB88D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806C-B3F8-4530-B072-E49FFFAB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BD83-DD23-4A71-9FCF-8402F792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E38-0093-48B1-81AC-06129F7A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80E-E50E-4FCA-807E-6FE14B6A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87E-AB69-4BDC-A235-B9B06F5D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799956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AFC-7979-4EC0-A50E-92F87245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9B5-5B98-4295-8465-33E3B86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6DB-5EC9-4A76-B0C2-17CEE34F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D22-5B10-4445-B237-F2B153DA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9995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cap="sq"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D1CC59-1C10-4458-BBEC-A0EAC4BE75F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Segoe U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CDDBB-1FD8-4C02-B6BD-571D796F4DC3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729.html" TargetMode="External"/><Relationship Id="rId3" Type="http://schemas.openxmlformats.org/officeDocument/2006/relationships/hyperlink" Target="http://www.aforism.su/avtor/729.html" TargetMode="External"/><Relationship Id="rId4" Type="http://schemas.openxmlformats.org/officeDocument/2006/relationships/hyperlink" Target="http://www.aforism.su/avtor/729.html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647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phorism-list.com/autors.php?page=lokk&amp;tkautors=lokk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203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orism.su/avtor/309.htm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Verdana"/>
              </a:rPr>
              <a:t>           </a:t>
            </a:r>
            <a:r>
              <a:rPr b="1" i="1" lang="ru-RU" sz="3200" spc="-1" strike="noStrike">
                <a:solidFill>
                  <a:srgbClr val="0033cc"/>
                </a:solidFill>
                <a:latin typeface="Verdana"/>
              </a:rPr>
              <a:t>Родительское собрание</a:t>
            </a:r>
            <a:br>
              <a:rPr sz="3200"/>
            </a:br>
            <a:r>
              <a:rPr b="1" i="1" lang="ru-RU" sz="3200" spc="-1" strike="noStrike">
                <a:solidFill>
                  <a:srgbClr val="0033cc"/>
                </a:solidFill>
                <a:latin typeface="Verdana"/>
              </a:rPr>
              <a:t>                ( круглый стол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66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Verdan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Развитие внимания у младшего школьн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Выявление признаков  дефицита вним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Рекомендации учителя по развитию внимания у детей 6 – 8 л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51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Анкета «Мудрые мысли о воспит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13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                             </a:t>
            </a:r>
            <a:r>
              <a:rPr b="1" i="1" lang="ru-RU" sz="1300" spc="-1" strike="noStrike">
                <a:solidFill>
                  <a:srgbClr val="cc0000"/>
                </a:solidFill>
                <a:latin typeface="Verdana"/>
              </a:rPr>
              <a:t>Дровникова Н.А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1300" spc="-1" strike="noStrike">
                <a:solidFill>
                  <a:srgbClr val="0033cc"/>
                </a:solidFill>
                <a:latin typeface="Verdana"/>
              </a:rPr>
              <a:t>                                                                                         </a:t>
            </a:r>
            <a:r>
              <a:rPr b="1" i="1" lang="ru-RU" sz="1300" spc="-1" strike="noStrike">
                <a:solidFill>
                  <a:srgbClr val="0033cc"/>
                </a:solidFill>
                <a:latin typeface="Verdana"/>
              </a:rPr>
              <a:t>МАОУ «СОШ № 33»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71640"/>
                <a:tab algn="l" pos="1886040"/>
                <a:tab algn="l" pos="2800440"/>
                <a:tab algn="l" pos="3714840"/>
                <a:tab algn="l" pos="4629240"/>
                <a:tab algn="l" pos="5543640"/>
                <a:tab algn="l" pos="6458040"/>
                <a:tab algn="l" pos="7372440"/>
                <a:tab algn="l" pos="8286840"/>
                <a:tab algn="l" pos="9201240"/>
                <a:tab algn="l" pos="10115640"/>
                <a:tab algn="l" pos="10333080"/>
                <a:tab algn="l" pos="10782360"/>
              </a:tabLst>
            </a:pPr>
            <a:r>
              <a:rPr b="1" i="1" lang="ru-RU" sz="1300" spc="-1" strike="noStrike">
                <a:solidFill>
                  <a:srgbClr val="0033cc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1" i="1" lang="ru-RU" sz="1300" spc="-1" strike="noStrike">
                <a:solidFill>
                  <a:srgbClr val="0033cc"/>
                </a:solidFill>
                <a:latin typeface="Verdana"/>
              </a:rPr>
              <a:t>Белгородской област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езультаты анкет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знаки гиперактивности (симптомы 1, 2, 9, 10)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внимательности и отвлекаемости (симптомы 3, 6—8, 12, 13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мпульсивности (симптомы 4, 5, 11, 14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нке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Мудрые мысли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о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воспитании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i="1" lang="ru-RU" sz="4700" spc="-1" strike="noStrike">
                <a:solidFill>
                  <a:srgbClr val="000000"/>
                </a:solidFill>
                <a:latin typeface="Verdana"/>
              </a:rPr>
              <a:t>детей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24480" y="4119480"/>
            <a:ext cx="281952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Гераклит Эфесский (р.ок.544-540 до н. э.?), древнегреческий философ-материали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10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Verdana"/>
              </a:rPr>
              <a:t>Своеволие следует гасить скорее, чем пожар.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10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Фуллер</a:t>
            </a:r>
            <a:r>
              <a:rPr b="0" lang="ru-RU" sz="3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 Томас (1608—1661), английский литератор</a:t>
            </a:r>
            <a:r>
              <a:rPr b="0" lang="ru-RU" sz="3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Пусть первым уроком ребенка будет повиновение,— тогда вторым может стать то, что ты считаешь необходимым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Сухомлинский В. А</a:t>
            </a:r>
            <a:r>
              <a:rPr b="1" lang="ru-RU" sz="3600" spc="-1" strike="noStrike">
                <a:solidFill>
                  <a:srgbClr val="0033cc"/>
                </a:solidFill>
                <a:latin typeface="Verdana"/>
              </a:rPr>
              <a:t> (1918-1970) советский педаго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Если люди говорят плохое о твоих детях — это значит, они говорят плохое о тебе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Писемский Алексей  (1821—1881), рус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Быть бессмысленно добрым так же глупо,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как и быть безумно    строгим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Д. Локк</a:t>
            </a: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 (1632-1704),  английский филосо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Девять десятых тех людей, с которыми мы встречаемся, являются тем, что они есть – добрыми или злыми, полезными или бесполезными – благодаря воспитанию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Горький М.</a:t>
            </a: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 (1868-1936) совет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Verdana"/>
              </a:rPr>
              <a:t>Любить детей — это и курица умеет. А вот уметь воспитывать их — это великое  дело, требующее таланта и широкого знания жизни.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Руссо Жан-Жак (1712—1778), французский философ, писатель и педаго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Verdana"/>
              </a:rPr>
              <a:t>Знаете ли, какой самый верный способ сделать вашего ребенка несчастным,— это приучить его не встречать ни в чем отказа.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Коменский Ян Амос (1592-1670), чешский педагог-гуманист, общественный дея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Дети охотно всегда чем-нибудь занимаются. Это весьма полезно, а потому не только не следует этому мешать, но нужно принимать меры к тому, чтобы всегда у них было что делать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обро пожаловать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6629400" cy="41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364824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Цвейг Стефан (1881—1942), австрий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Наивысшего человек достигает тогда, когда подает хороший пример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Verdana"/>
              </a:rPr>
              <a:t>Анатоль Бройяр (политический обозреватель газеты «Нью – Йорк Таймс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11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Verdana"/>
              </a:rPr>
              <a:t>Было время, когда от детей не ожидали ничего, кроме послушания; теперь от них ожидают всего, кроме послушания.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Verdana"/>
              </a:rPr>
              <a:t>Ренар Жюль (1864 – 1910) – французский пис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Гораздо легче говорит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 толпой, че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 отдельным                     индивидуумом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Карамзин Н. М.</a:t>
            </a:r>
            <a:r>
              <a:rPr b="1" i="1" lang="ru-RU" sz="3200" spc="-1" strike="noStrike">
                <a:solidFill>
                  <a:srgbClr val="0033cc"/>
                </a:solidFill>
                <a:latin typeface="Verdana"/>
              </a:rPr>
              <a:t> (1766-1826) русский писатель, истор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Без хороших отцов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ет хорошего воспитания, несмотря на все школы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Verdana"/>
              </a:rPr>
              <a:t>Моруа Андре - (1885-1967) - французский писатель, мастер психологического       романа и романизированной биограф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Товарищи воспитывают гораздо лучше, чем родители, ибо им не свойственна жалос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Verdana"/>
              </a:rPr>
              <a:t>Литвак М. Е.- (род. 1938) автор более 20 книг посвященных актуальным вопросам психологии и психотерап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огда ругаешь ребенка, подумай, нет ли в тебе этих качеств, ведь это же ТВОЙ ребенок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838188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160" y="4572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витие вним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Что такое внима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Виды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 Свойства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Причины невнимате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Проявления синдромов дефицита 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Упражнения на развитие вним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1 – 2 -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 Часто наблюдаются беспокойные движения в кистях и стопах. Сидя на стуле, ребенок корчится, извивае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 Не может спокойно сидеть на месте, когда это требуе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 Легко отвлекается на посторонние стиму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4 -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 С трудом дожидается своей очереди во время игр и в различных ситуациях в коллективе (занятия в школе, экскурсии и т. д.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 На вопросы часто отвечает, не задумываясь, не выслушав их до конц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6 - 7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 При выполнении предложенных заданий испытывает сложности (не связанные с негативным поведением или недостаточностью понимания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 С трудом сохраняет внимание при выполнении заданий или во время игр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8 – 9 -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8. Часто переходит от одного незавершенного действия к другому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 Не может играть тихо, спокойн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 Болтливы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11 - 1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 Мешает другим, пристает к окружающим (например, вмешивается в игры других детей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 Часто складывается впечатление, что ребенок не слушает обращенную к нему речь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13 - 1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3. Теряет вещи, необходимые в школе и дома (например, игрушки, карандаши, книги и одежду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. Часто совершает опасные действия, не задумываясь о последствиях (например, выбегает на улицу, не оглядываясь по сторонам). При этом не ищет приключений или острых ощущени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5-07T12:26:1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