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C877-541D-4979-AB5D-FB34FB519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5429-C886-4D59-A0A0-9B364EDF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751A-724F-43A7-997D-4E2C938FE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564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564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F48C-DC62-4C92-A811-751D0BD3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44F5-8FAA-49C3-80A8-C8612232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C3CD-E08A-4E93-BBA0-699CFB1E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0E5D-0F6B-41BE-BBA7-CFDDEF78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973C-F3CD-4CF7-86E0-180619C0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95F9-10FF-4B67-AC49-BBC52AAE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560"/>
            <a:ext cx="799956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162B-05BD-45A6-A34F-AB59E7D8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2766-B928-4D5E-A2D3-AB4E88DC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119A-1B8D-4768-A975-ABEC2153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62D8-A444-44DE-B3C9-F9E33938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B245-FC56-4143-A5A6-C3A0D93B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E654-2E5E-468E-A9EA-62C3D561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1FEC-9D83-4049-9C3D-0422C9E6C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564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096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564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4C30-8B43-40F6-BCCE-D51BECE18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9142-525F-40ED-AE5E-ADF9E9BE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D5E6-9172-42AC-8848-018F2C95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557B-9D68-423B-8B6D-BB50861F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560"/>
            <a:ext cx="799956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07B4-C74E-4E39-834F-376449B7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7191-CEE0-4F5C-B79B-3E6DFA5F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15A1-BEB1-45EB-A049-D23CD6BD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58FC-9CC0-4AC3-B06F-8C9B2315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cap="sq"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cap="sq"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120" y="6245280"/>
            <a:ext cx="19796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egoe UI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19796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D6A604-11BB-4A3D-A81D-31AC72911C50}" type="slidenum">
              <a:rPr b="0" lang="ru-RU" sz="18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Verdana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Verdana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Segoe U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Verdan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2A85B-F9ED-401E-8D98-3ECD294AD843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cap="sq"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forism.su/avtor/729.html" TargetMode="External"/><Relationship Id="rId3" Type="http://schemas.openxmlformats.org/officeDocument/2006/relationships/hyperlink" Target="http://www.aforism.su/avtor/729.html" TargetMode="External"/><Relationship Id="rId4" Type="http://schemas.openxmlformats.org/officeDocument/2006/relationships/hyperlink" Target="http://www.aforism.su/avtor/729.html" TargetMode="Externa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forism.su/avtor/647.html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aphorism-list.com/autors.php?page=lokk&amp;tkautors=lokk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forism.su/avtor/203.html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forism.su/avtor/309.html" TargetMode="Externa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Verdana"/>
              </a:rPr>
              <a:t>           </a:t>
            </a:r>
            <a:r>
              <a:rPr b="1" i="1" lang="ru-RU" sz="3200" spc="-1" strike="noStrike">
                <a:solidFill>
                  <a:srgbClr val="0033cc"/>
                </a:solidFill>
                <a:latin typeface="Verdana"/>
              </a:rPr>
              <a:t>Родительское собрание</a:t>
            </a:r>
            <a:br>
              <a:rPr sz="3200"/>
            </a:br>
            <a:r>
              <a:rPr b="1" i="1" lang="ru-RU" sz="3200" spc="-1" strike="noStrike">
                <a:solidFill>
                  <a:srgbClr val="0033cc"/>
                </a:solidFill>
                <a:latin typeface="Verdana"/>
              </a:rPr>
              <a:t>                ( круглый стол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66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71640"/>
                <a:tab algn="l" pos="1886040"/>
                <a:tab algn="l" pos="2800440"/>
                <a:tab algn="l" pos="3714840"/>
                <a:tab algn="l" pos="4629240"/>
                <a:tab algn="l" pos="5543640"/>
                <a:tab algn="l" pos="6458040"/>
                <a:tab algn="l" pos="7372440"/>
                <a:tab algn="l" pos="8286840"/>
                <a:tab algn="l" pos="9201240"/>
                <a:tab algn="l" pos="1011564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cc0000"/>
                </a:solidFill>
                <a:latin typeface="Verdana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65160" indent="-495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71640"/>
                <a:tab algn="l" pos="1886040"/>
                <a:tab algn="l" pos="2800440"/>
                <a:tab algn="l" pos="3714840"/>
                <a:tab algn="l" pos="4629240"/>
                <a:tab algn="l" pos="5543640"/>
                <a:tab algn="l" pos="6458040"/>
                <a:tab algn="l" pos="7372440"/>
                <a:tab algn="l" pos="8286840"/>
                <a:tab algn="l" pos="9201240"/>
                <a:tab algn="l" pos="1011564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Verdana"/>
              </a:rPr>
              <a:t>Развитие внимания у младшего школьн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65160" indent="-495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71640"/>
                <a:tab algn="l" pos="1886040"/>
                <a:tab algn="l" pos="2800440"/>
                <a:tab algn="l" pos="3714840"/>
                <a:tab algn="l" pos="4629240"/>
                <a:tab algn="l" pos="5543640"/>
                <a:tab algn="l" pos="6458040"/>
                <a:tab algn="l" pos="7372440"/>
                <a:tab algn="l" pos="8286840"/>
                <a:tab algn="l" pos="9201240"/>
                <a:tab algn="l" pos="1011564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Verdana"/>
              </a:rPr>
              <a:t>Выявление признаков  дефицита внима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65160" indent="-495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71640"/>
                <a:tab algn="l" pos="1886040"/>
                <a:tab algn="l" pos="2800440"/>
                <a:tab algn="l" pos="3714840"/>
                <a:tab algn="l" pos="4629240"/>
                <a:tab algn="l" pos="5543640"/>
                <a:tab algn="l" pos="6458040"/>
                <a:tab algn="l" pos="7372440"/>
                <a:tab algn="l" pos="8286840"/>
                <a:tab algn="l" pos="9201240"/>
                <a:tab algn="l" pos="1011564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Verdana"/>
              </a:rPr>
              <a:t>Рекомендации учителя по развитию внимания у детей 6 – 8 л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65160" indent="-495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71640"/>
                <a:tab algn="l" pos="1886040"/>
                <a:tab algn="l" pos="2800440"/>
                <a:tab algn="l" pos="3714840"/>
                <a:tab algn="l" pos="4629240"/>
                <a:tab algn="l" pos="5543640"/>
                <a:tab algn="l" pos="6458040"/>
                <a:tab algn="l" pos="7372440"/>
                <a:tab algn="l" pos="8286840"/>
                <a:tab algn="l" pos="9201240"/>
                <a:tab algn="l" pos="1011564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Verdana"/>
              </a:rPr>
              <a:t>Анкета «Мудрые мысли о воспитан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71640"/>
                <a:tab algn="l" pos="1886040"/>
                <a:tab algn="l" pos="2800440"/>
                <a:tab algn="l" pos="3714840"/>
                <a:tab algn="l" pos="4629240"/>
                <a:tab algn="l" pos="5543640"/>
                <a:tab algn="l" pos="6458040"/>
                <a:tab algn="l" pos="7372440"/>
                <a:tab algn="l" pos="8286840"/>
                <a:tab algn="l" pos="9201240"/>
                <a:tab algn="l" pos="1011564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71640"/>
                <a:tab algn="l" pos="1886040"/>
                <a:tab algn="l" pos="2800440"/>
                <a:tab algn="l" pos="3714840"/>
                <a:tab algn="l" pos="4629240"/>
                <a:tab algn="l" pos="5543640"/>
                <a:tab algn="l" pos="6458040"/>
                <a:tab algn="l" pos="7372440"/>
                <a:tab algn="l" pos="8286840"/>
                <a:tab algn="l" pos="9201240"/>
                <a:tab algn="l" pos="1011564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71640"/>
                <a:tab algn="l" pos="1886040"/>
                <a:tab algn="l" pos="2800440"/>
                <a:tab algn="l" pos="3714840"/>
                <a:tab algn="l" pos="4629240"/>
                <a:tab algn="l" pos="5543640"/>
                <a:tab algn="l" pos="6458040"/>
                <a:tab algn="l" pos="7372440"/>
                <a:tab algn="l" pos="8286840"/>
                <a:tab algn="l" pos="9201240"/>
                <a:tab algn="l" pos="1011564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71640"/>
                <a:tab algn="l" pos="1886040"/>
                <a:tab algn="l" pos="2800440"/>
                <a:tab algn="l" pos="3714840"/>
                <a:tab algn="l" pos="4629240"/>
                <a:tab algn="l" pos="5543640"/>
                <a:tab algn="l" pos="6458040"/>
                <a:tab algn="l" pos="7372440"/>
                <a:tab algn="l" pos="8286840"/>
                <a:tab algn="l" pos="9201240"/>
                <a:tab algn="l" pos="1011564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71640"/>
                <a:tab algn="l" pos="1886040"/>
                <a:tab algn="l" pos="2800440"/>
                <a:tab algn="l" pos="3714840"/>
                <a:tab algn="l" pos="4629240"/>
                <a:tab algn="l" pos="5543640"/>
                <a:tab algn="l" pos="6458040"/>
                <a:tab algn="l" pos="7372440"/>
                <a:tab algn="l" pos="8286840"/>
                <a:tab algn="l" pos="9201240"/>
                <a:tab algn="l" pos="10115640"/>
                <a:tab algn="l" pos="10333080"/>
                <a:tab algn="l" pos="10782360"/>
              </a:tabLst>
            </a:pPr>
            <a:r>
              <a:rPr b="1" i="1" lang="ru-RU" sz="1300" spc="-1" strike="noStrike">
                <a:solidFill>
                  <a:srgbClr val="cc0000"/>
                </a:solidFill>
                <a:latin typeface="Verdana"/>
              </a:rPr>
              <a:t>                                                                                                      </a:t>
            </a:r>
            <a:r>
              <a:rPr b="1" i="1" lang="ru-RU" sz="1300" spc="-1" strike="noStrike">
                <a:solidFill>
                  <a:srgbClr val="cc0000"/>
                </a:solidFill>
                <a:latin typeface="Verdana"/>
              </a:rPr>
              <a:t>Дровникова Н.А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71640"/>
                <a:tab algn="l" pos="1886040"/>
                <a:tab algn="l" pos="2800440"/>
                <a:tab algn="l" pos="3714840"/>
                <a:tab algn="l" pos="4629240"/>
                <a:tab algn="l" pos="5543640"/>
                <a:tab algn="l" pos="6458040"/>
                <a:tab algn="l" pos="7372440"/>
                <a:tab algn="l" pos="8286840"/>
                <a:tab algn="l" pos="9201240"/>
                <a:tab algn="l" pos="10115640"/>
                <a:tab algn="l" pos="10333080"/>
                <a:tab algn="l" pos="10782360"/>
              </a:tabLst>
            </a:pPr>
            <a:r>
              <a:rPr b="1" i="1" lang="ru-RU" sz="1300" spc="-1" strike="noStrike">
                <a:solidFill>
                  <a:srgbClr val="0033cc"/>
                </a:solidFill>
                <a:latin typeface="Verdana"/>
              </a:rPr>
              <a:t>                                                                                         </a:t>
            </a:r>
            <a:r>
              <a:rPr b="1" i="1" lang="ru-RU" sz="1300" spc="-1" strike="noStrike">
                <a:solidFill>
                  <a:srgbClr val="0033cc"/>
                </a:solidFill>
                <a:latin typeface="Verdana"/>
              </a:rPr>
              <a:t>МАОУ «СОШ № 33»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71640"/>
                <a:tab algn="l" pos="1886040"/>
                <a:tab algn="l" pos="2800440"/>
                <a:tab algn="l" pos="3714840"/>
                <a:tab algn="l" pos="4629240"/>
                <a:tab algn="l" pos="5543640"/>
                <a:tab algn="l" pos="6458040"/>
                <a:tab algn="l" pos="7372440"/>
                <a:tab algn="l" pos="8286840"/>
                <a:tab algn="l" pos="9201240"/>
                <a:tab algn="l" pos="10115640"/>
                <a:tab algn="l" pos="10333080"/>
                <a:tab algn="l" pos="10782360"/>
              </a:tabLst>
            </a:pPr>
            <a:r>
              <a:rPr b="1" i="1" lang="ru-RU" sz="1300" spc="-1" strike="noStrike">
                <a:solidFill>
                  <a:srgbClr val="0033cc"/>
                </a:solidFill>
                <a:latin typeface="Verdana"/>
              </a:rPr>
              <a:t>                                                                                                  </a:t>
            </a:r>
            <a:r>
              <a:rPr b="1" i="1" lang="ru-RU" sz="1300" spc="-1" strike="noStrike">
                <a:solidFill>
                  <a:srgbClr val="0033cc"/>
                </a:solidFill>
                <a:latin typeface="Verdana"/>
              </a:rPr>
              <a:t>Белгородской области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езультаты анкеты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изнаки гиперактивности (симптомы 1, 2, 9, 10)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внимательности и отвлекаемости (симптомы 3, 6—8, 12, 13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мпульсивности (симптомы 4, 5, 11, 14)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Анке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1176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47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i="1" lang="ru-RU" sz="4700" spc="-1" strike="noStrike">
                <a:solidFill>
                  <a:srgbClr val="000000"/>
                </a:solidFill>
                <a:latin typeface="Verdana"/>
              </a:rPr>
              <a:t>Мудрые мысли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176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47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1" i="1" lang="ru-RU" sz="4700" spc="-1" strike="noStrike">
                <a:solidFill>
                  <a:srgbClr val="000000"/>
                </a:solidFill>
                <a:latin typeface="Verdana"/>
              </a:rPr>
              <a:t>о 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176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47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i="1" lang="ru-RU" sz="4700" spc="-1" strike="noStrike">
                <a:solidFill>
                  <a:srgbClr val="000000"/>
                </a:solidFill>
                <a:latin typeface="Verdana"/>
              </a:rPr>
              <a:t>воспитании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176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47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i="1" lang="ru-RU" sz="4700" spc="-1" strike="noStrike">
                <a:solidFill>
                  <a:srgbClr val="000000"/>
                </a:solidFill>
                <a:latin typeface="Verdana"/>
              </a:rPr>
              <a:t>детей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324480" y="4119480"/>
            <a:ext cx="2819520" cy="27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Verdana"/>
              </a:rPr>
              <a:t>Гераклит Эфесский (р.ок.544-540 до н. э.?), древнегреческий философ-материалис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spcBef>
                <a:spcPts val="107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10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Verdana"/>
              </a:rPr>
              <a:t>Своеволие следует гасить скорее, чем пожар. 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107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Фуллер</a:t>
            </a:r>
            <a:r>
              <a:rPr b="0" lang="ru-RU" sz="3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 Томас (1608—1661), английский литератор</a:t>
            </a:r>
            <a:r>
              <a:rPr b="0" lang="ru-RU" sz="34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0000"/>
              </a:lnSpc>
              <a:spcBef>
                <a:spcPts val="11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Verdana"/>
              </a:rPr>
              <a:t>Пусть первым уроком ребенка будет повиновение,— тогда вторым может стать то, что ты считаешь необходимым. 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Сухомлинский В. А</a:t>
            </a:r>
            <a:r>
              <a:rPr b="1" lang="ru-RU" sz="3600" spc="-1" strike="noStrike">
                <a:solidFill>
                  <a:srgbClr val="0033cc"/>
                </a:solidFill>
                <a:latin typeface="Verdana"/>
              </a:rPr>
              <a:t> (1918-1970) советский педагог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spcBef>
                <a:spcPts val="11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Verdana"/>
              </a:rPr>
              <a:t>Если люди говорят плохое о твоих детях — это значит, они говорят плохое о тебе.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Verdana"/>
              </a:rPr>
              <a:t>Писемский Алексей  (1821—1881), русский писател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1176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4700" spc="-1" strike="noStrike">
                <a:solidFill>
                  <a:srgbClr val="000000"/>
                </a:solidFill>
                <a:latin typeface="Verdana"/>
              </a:rPr>
              <a:t>Быть бессмысленно добрым так же глупо, 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176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4700" spc="-1" strike="noStrike">
                <a:solidFill>
                  <a:srgbClr val="000000"/>
                </a:solidFill>
                <a:latin typeface="Verdana"/>
              </a:rPr>
              <a:t>как и быть безумно    строгим. 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Д. Локк</a:t>
            </a:r>
            <a:r>
              <a:rPr b="1" i="1" lang="ru-RU" sz="3600" spc="-1" strike="noStrike">
                <a:solidFill>
                  <a:srgbClr val="0033cc"/>
                </a:solidFill>
                <a:latin typeface="Verdana"/>
              </a:rPr>
              <a:t> (1632-1704),  английский философ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spcBef>
                <a:spcPts val="9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Verdana"/>
              </a:rPr>
              <a:t>Девять десятых тех людей, с которыми мы встречаемся, являются тем, что они есть – добрыми или злыми, полезными или бесполезными – благодаря воспитанию.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Горький М.</a:t>
            </a:r>
            <a:r>
              <a:rPr b="1" i="1" lang="ru-RU" sz="3600" spc="-1" strike="noStrike">
                <a:solidFill>
                  <a:srgbClr val="0033cc"/>
                </a:solidFill>
                <a:latin typeface="Verdana"/>
              </a:rPr>
              <a:t> (1868-1936) советский писател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spcBef>
                <a:spcPts val="10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Verdana"/>
              </a:rPr>
              <a:t>Любить детей — это и курица умеет. А вот уметь воспитывать их — это великое  дело, требующее таланта и широкого знания жизни. 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Verdana"/>
              </a:rPr>
              <a:t>Руссо Жан-Жак (1712—1778), французский философ, писатель и педаго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0000"/>
              </a:lnSpc>
              <a:spcBef>
                <a:spcPts val="10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Verdana"/>
              </a:rPr>
              <a:t>Знаете ли, какой самый верный способ сделать вашего ребенка несчастным,— это приучить его не встречать ни в чем отказа. 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Verdana"/>
              </a:rPr>
              <a:t>Коменский Ян Амос (1592-1670), чешский педагог-гуманист, общественный деяте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spcBef>
                <a:spcPts val="8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Дети охотно всегда чем-нибудь занимаются. Это весьма полезно, а потому не только не следует этому мешать, но нужно принимать меры к тому, чтобы всегда у них было что делать.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Добро пожаловать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743200" y="2743200"/>
            <a:ext cx="6629400" cy="411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0" y="1676520"/>
            <a:ext cx="3648240" cy="27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3600" spc="-1" strike="noStrike">
                <a:solidFill>
                  <a:srgbClr val="0033cc"/>
                </a:solidFill>
                <a:latin typeface="Verdana"/>
              </a:rPr>
              <a:t>Цвейг Стефан (1881—1942), австрийский писател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spcBef>
                <a:spcPts val="11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Verdana"/>
              </a:rPr>
              <a:t>Наивысшего человек достигает тогда, когда подает хороший пример. 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0033cc"/>
                </a:solidFill>
                <a:latin typeface="Verdana"/>
              </a:rPr>
              <a:t>Анатоль Бройяр (политический обозреватель газеты «Нью – Йорк Таймс»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0000"/>
              </a:lnSpc>
              <a:spcBef>
                <a:spcPts val="11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Verdana"/>
              </a:rPr>
              <a:t>Было время, когда от детей не ожидали ничего, кроме послушания; теперь от них ожидают всего, кроме послушания. 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Verdana"/>
              </a:rPr>
              <a:t>Ренар Жюль (1864 – 1910) – французский писател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spcBef>
                <a:spcPts val="11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Гораздо легче говорить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1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с толпой, чем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с отдельным                     индивидуумом.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Карамзин Н. М.</a:t>
            </a:r>
            <a:r>
              <a:rPr b="1" i="1" lang="ru-RU" sz="3200" spc="-1" strike="noStrike">
                <a:solidFill>
                  <a:srgbClr val="0033cc"/>
                </a:solidFill>
                <a:latin typeface="Verdana"/>
              </a:rPr>
              <a:t> (1766-1826) русский писатель, истори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spcBef>
                <a:spcPts val="11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Без хороших отцов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1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нет хорошего воспитания, несмотря на все школы.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0033cc"/>
                </a:solidFill>
                <a:latin typeface="Verdana"/>
              </a:rPr>
              <a:t>Моруа Андре - (1885-1967) - французский писатель, мастер психологического       романа и романизированной биографии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Товарищи воспитывают гораздо лучше, чем родители, ибо им не свойственна жалость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Verdana"/>
              </a:rPr>
              <a:t>Литвак М. Е.- (род. 1938) автор более 20 книг посвященных актуальным вопросам психологии и психотерап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огда ругаешь ребенка, подумай, нет ли в тебе этих качеств, ведь это же ТВОЙ ребенок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62120" y="2057400"/>
            <a:ext cx="8381880" cy="26668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33160" y="45720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звитие внима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Что такое внимани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Виды внима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 Свойства внима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.Причины невнимательност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5.Проявления синдромов дефицита  внима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6.Упражнения на развитие внима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1 – 2 - 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 Часто наблюдаются беспокойные движения в кистях и стопах. Сидя на стуле, ребенок корчится, извиваетс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 Не может спокойно сидеть на месте, когда это требуетс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 Легко отвлекается на посторонние стимулы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4 - 5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. С трудом дожидается своей очереди во время игр и в различных ситуациях в коллективе (занятия в школе, экскурсии и т. д.)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5. На вопросы часто отвечает, не задумываясь, не выслушав их до конца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6 - 7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6. При выполнении предложенных заданий испытывает сложности (не связанные с негативным поведением или недостаточностью понимания)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7. С трудом сохраняет внимание при выполнении заданий или во время игр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8 – 9 - 1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8. Часто переходит от одного незавершенного действия к другому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9. Не может играть тихо, спокойно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0. Болтливый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11 - 1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1. Мешает другим, пристает к окружающим (например, вмешивается в игры других детей)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2. Часто складывается впечатление, что ребенок не слушает обращенную к нему речь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13 - 1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3. Теряет вещи, необходимые в школе и дома (например, игрушки, карандаши, книги и одежду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4. Часто совершает опасные действия, не задумываясь о последствиях (например, выбегает на улицу, не оглядываясь по сторонам). При этом не ищет приключений или острых ощущений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5-05-07T12:26:15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