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CC46-0967-4D99-85FE-0216FB3A8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DBF1-93D3-4453-A719-F3D3AD3FE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1FF-3CC6-4C04-9EFF-A3CE889E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C2B-E539-47FE-A4D6-688929F0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8A7-E2FF-4C31-9571-DC14637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C57-7473-41F4-8DF7-4AD8F8D4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74B6-B925-4D18-AC5D-0CF90F6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38CB-85AF-4CD3-B8BF-47449271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FD99-3BD0-4D0C-BDA7-3D0ECCB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2AA-DD81-490C-8AD2-0362A65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108-EE69-4C6B-B934-3F112EB6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17FC-9ED8-43C1-81CA-C8E87DC1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A90E-1314-44A5-84E8-224C84E1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D50-C0FF-4E1C-97E1-026AC19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5D13-C2BE-4A8D-BF63-0EC3C29B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3474-6CDB-4F0A-A32D-6CCE2A26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A49C-1320-4EC4-A083-24F60BE5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09E5-B1E6-4DA4-95AE-E9DAC341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CCA0-4D78-4DA6-9C7D-B070E0E7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66A-0EAB-4C0C-A956-903D0379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935-6986-4DA1-8945-63C4D4A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48B-CA4D-4799-9C8D-8411826B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BA5-A1AC-4701-A487-1F5CE81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881-7133-4151-999D-5D2EB07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BB9-DC2B-4CD3-B022-F66C5121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6CA-23AA-4120-AC97-15CA062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C114-42C0-4947-815E-2AADC31B1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673-E4C2-4949-9EE7-0A1E0C5BD7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Заголовок 1"/>
          <p:cNvGrpSpPr/>
          <p:nvPr/>
        </p:nvGrpSpPr>
        <p:grpSpPr>
          <a:xfrm>
            <a:off x="706320" y="781200"/>
            <a:ext cx="7785360" cy="1938240"/>
            <a:chOff x="706320" y="781200"/>
            <a:chExt cx="7785360" cy="1938240"/>
          </a:xfrm>
        </p:grpSpPr>
        <p:pic>
          <p:nvPicPr>
            <p:cNvPr id="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06320" y="781200"/>
              <a:ext cx="77853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4240" y="785880"/>
              <a:ext cx="77724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9d51"/>
                  </a:solidFill>
                  <a:latin typeface="Century Schoolbook"/>
                </a:rPr>
                <a:t>Уравнение окружност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99720" y="3143160"/>
            <a:ext cx="60008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рок геометрии в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C:\Documents and Settings\Admin\Рабочий стол\уравнение окружности\7.png"/>
          <p:cNvPicPr/>
          <p:nvPr/>
        </p:nvPicPr>
        <p:blipFill>
          <a:blip r:embed="rId1"/>
          <a:stretch/>
        </p:blipFill>
        <p:spPr>
          <a:xfrm>
            <a:off x="480960" y="1981080"/>
            <a:ext cx="4365720" cy="415764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1857240" y="3071880"/>
            <a:ext cx="71640" cy="7128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C:\Documents and Settings\Admin\Рабочий стол\уравнение окружности\8.png"/>
          <p:cNvPicPr/>
          <p:nvPr/>
        </p:nvPicPr>
        <p:blipFill>
          <a:blip r:embed="rId1"/>
          <a:stretch/>
        </p:blipFill>
        <p:spPr>
          <a:xfrm>
            <a:off x="633240" y="1994040"/>
            <a:ext cx="4518360" cy="4297320"/>
          </a:xfrm>
          <a:prstGeom prst="rect">
            <a:avLst/>
          </a:prstGeom>
          <a:ln w="0">
            <a:noFill/>
          </a:ln>
        </p:spPr>
      </p:pic>
      <p:sp>
        <p:nvSpPr>
          <p:cNvPr id="134" name="Овал 5"/>
          <p:cNvSpPr/>
          <p:nvPr/>
        </p:nvSpPr>
        <p:spPr>
          <a:xfrm>
            <a:off x="2286000" y="3286080"/>
            <a:ext cx="71280" cy="7164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d51"/>
                </a:solidFill>
                <a:latin typeface="Times New Roman"/>
              </a:rPr>
              <a:t>2 этап:    </a:t>
            </a:r>
            <a:r>
              <a:rPr b="1" i="1" lang="ru-RU" sz="4400" spc="-1" strike="noStrike">
                <a:solidFill>
                  <a:srgbClr val="009d51"/>
                </a:solidFill>
                <a:latin typeface="Times New Roman"/>
              </a:rPr>
              <a:t>Работа в группах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Содержимое 2"/>
          <p:cNvGrpSpPr/>
          <p:nvPr/>
        </p:nvGrpSpPr>
        <p:grpSpPr>
          <a:xfrm>
            <a:off x="1206360" y="2419200"/>
            <a:ext cx="5370480" cy="2086200"/>
            <a:chOff x="1206360" y="2419200"/>
            <a:chExt cx="5370480" cy="2086200"/>
          </a:xfrm>
        </p:grpSpPr>
        <p:pic>
          <p:nvPicPr>
            <p:cNvPr id="1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206360" y="2419200"/>
              <a:ext cx="53704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214280" y="2428920"/>
              <a:ext cx="535788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1 группа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2группа 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3 группа    </a:t>
              </a:r>
              <a:r>
                <a:rPr b="1" i="1" lang="ru-RU" sz="16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TextBox 4"/>
          <p:cNvGrpSpPr/>
          <p:nvPr/>
        </p:nvGrpSpPr>
        <p:grpSpPr>
          <a:xfrm>
            <a:off x="2992320" y="6138720"/>
            <a:ext cx="1944720" cy="474840"/>
            <a:chOff x="2992320" y="6138720"/>
            <a:chExt cx="1944720" cy="474840"/>
          </a:xfrm>
        </p:grpSpPr>
        <p:pic>
          <p:nvPicPr>
            <p:cNvPr id="141" name="TextBox 4" descr=""/>
            <p:cNvPicPr/>
            <p:nvPr/>
          </p:nvPicPr>
          <p:blipFill>
            <a:blip r:embed="rId2"/>
            <a:stretch/>
          </p:blipFill>
          <p:spPr>
            <a:xfrm>
              <a:off x="2992320" y="6138720"/>
              <a:ext cx="1944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000240" y="614376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1</a:t>
            </a:r>
            <a:br>
              <a:rPr sz="3600"/>
            </a:b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1    Заполните таблицу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484280"/>
          <a:ext cx="8072640" cy="4357800"/>
        </p:xfrm>
        <a:graphic>
          <a:graphicData uri="http://schemas.openxmlformats.org/drawingml/2006/table">
            <a:tbl>
              <a:tblPr/>
              <a:tblGrid>
                <a:gridCol w="503280"/>
                <a:gridCol w="3745080"/>
                <a:gridCol w="1368360"/>
                <a:gridCol w="2455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равнение окру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2.</a:t>
            </a: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стройте в тетради окружности, заданные уравнени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) 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4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TextBox 7"/>
          <p:cNvGrpSpPr/>
          <p:nvPr/>
        </p:nvGrpSpPr>
        <p:grpSpPr>
          <a:xfrm>
            <a:off x="1127160" y="5919840"/>
            <a:ext cx="5243400" cy="480960"/>
            <a:chOff x="1127160" y="5919840"/>
            <a:chExt cx="5243400" cy="480960"/>
          </a:xfrm>
        </p:grpSpPr>
        <p:pic>
          <p:nvPicPr>
            <p:cNvPr id="148" name="TextBox 7" descr=""/>
            <p:cNvPicPr/>
            <p:nvPr/>
          </p:nvPicPr>
          <p:blipFill>
            <a:blip r:embed="rId1"/>
            <a:stretch/>
          </p:blipFill>
          <p:spPr>
            <a:xfrm>
              <a:off x="1127160" y="5919840"/>
              <a:ext cx="5243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143000" y="592920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9d51"/>
                </a:solidFill>
                <a:latin typeface="Century Schoolbook"/>
              </a:rPr>
              <a:t>Группа2:</a:t>
            </a: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d51"/>
                </a:solidFill>
                <a:latin typeface="Century Schoolbook"/>
              </a:rPr>
              <a:t>№1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координаты центра и радиус, если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А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диаметр данной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45440" cy="4946760"/>
        </p:xfrm>
        <a:graphic>
          <a:graphicData uri="http://schemas.openxmlformats.org/drawingml/2006/table">
            <a:tbl>
              <a:tblPr/>
              <a:tblGrid>
                <a:gridCol w="1397160"/>
                <a:gridCol w="4216320"/>
                <a:gridCol w="2631960"/>
              </a:tblGrid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инаты 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=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+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(0;   2)        </a:t>
                      </a:r>
                      <a:r>
                        <a:rPr b="0" lang="ru-RU" sz="2800" spc="-1" strike="noStrike" u="sng">
                          <a:solidFill>
                            <a:srgbClr val="ffffee"/>
                          </a:solidFill>
                          <a:uFillTx/>
                          <a:latin typeface="Century Schoolbook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  ;       )-середин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;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15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−2;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4;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 №</a:t>
            </a: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71680" y="17859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по полученным данным окружности в тетр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алгоритм построения окружности по координатам концов диа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Прямоугольник 5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15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3: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Century Schoolbook"/>
              </a:rPr>
              <a:t>№1</a:t>
            </a: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008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2), проходящей через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7;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41280" y="1627200"/>
            <a:ext cx="4138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в точке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−1), проходящей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Прямоугольник 4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16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d5d44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68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координат середины от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вычисления длины век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расстояния между точками (длины отрезк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Times New Roman"/>
              </a:rPr>
              <a:t>1 этап:  </a:t>
            </a: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714840" y="1571760"/>
            <a:ext cx="450036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равнение фигуры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о урав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 двумя переменным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, которо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довлетворяют координаты люб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точки фигу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 – точка окружност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(х; у)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– точка окруж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то можно сказать о взаимном расположении точек А и С на плоскости и точек А и М на плоск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к можно сформулировать определение окружн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857160" y="5143680"/>
            <a:ext cx="7572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18"/>
          <p:cNvSpPr/>
          <p:nvPr/>
        </p:nvSpPr>
        <p:spPr>
          <a:xfrm>
            <a:off x="928800" y="5143680"/>
            <a:ext cx="7572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Окружностью 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Documents and Settings\Admin\Рабочий стол\уравнение окружности\4.png"/>
          <p:cNvPicPr/>
          <p:nvPr/>
        </p:nvPicPr>
        <p:blipFill>
          <a:blip r:embed="rId1"/>
          <a:stretch/>
        </p:blipFill>
        <p:spPr>
          <a:xfrm>
            <a:off x="281160" y="1779480"/>
            <a:ext cx="2906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</a:t>
            </a: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) – точка окру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можно назвать отрезок 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=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ова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=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928960" y="5286240"/>
            <a:ext cx="49672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08080" y="1920960"/>
            <a:ext cx="27241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, 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−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,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−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адиу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точки окружност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__________________________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;4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3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81160" y="1852560"/>
            <a:ext cx="30524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 окружн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0;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х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−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кружности с центром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е координат.               </a:t>
            </a:r>
            <a:r>
              <a:rPr b="0" lang="ru-RU" sz="2800" spc="-1" strike="noStrike" u="sng">
                <a:solidFill>
                  <a:srgbClr val="ffffee"/>
                </a:solidFill>
                <a:uFillTx/>
                <a:latin typeface="Century Schoolbook"/>
              </a:rPr>
              <a:t>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0;0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2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635280" y="3141720"/>
            <a:ext cx="25210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:\Documents and Settings\Admin\Рабочий стол\уравнение окружности\Безымянный5.png"/>
          <p:cNvPicPr/>
          <p:nvPr/>
        </p:nvPicPr>
        <p:blipFill>
          <a:blip r:embed="rId1"/>
          <a:stretch/>
        </p:blipFill>
        <p:spPr>
          <a:xfrm>
            <a:off x="-6480" y="1706400"/>
            <a:ext cx="35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Для того чтобы составить уравнение</a:t>
            </a:r>
            <a:br>
              <a:rPr sz="3600"/>
            </a:b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окружности, нуж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Rectangle 3"/>
          <p:cNvGrpSpPr/>
          <p:nvPr/>
        </p:nvGrpSpPr>
        <p:grpSpPr>
          <a:xfrm>
            <a:off x="420840" y="2066760"/>
            <a:ext cx="8242200" cy="4510080"/>
            <a:chOff x="420840" y="2066760"/>
            <a:chExt cx="8242200" cy="4510080"/>
          </a:xfrm>
        </p:grpSpPr>
        <p:pic>
          <p:nvPicPr>
            <p:cNvPr id="121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2066760"/>
              <a:ext cx="824220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28760" y="2071800"/>
              <a:ext cx="822960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1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координаты центр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2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длину радиус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3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дставить координаты центра 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;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и длину радиуса </a:t>
              </a:r>
              <a:r>
                <a:rPr b="1" i="1" lang="en-US" sz="40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в уравнение окружнос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+ 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</a:t>
              </a:r>
              <a:r>
                <a:rPr b="1" lang="en-US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=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Documents and Settings\Admin\Рабочий стол\уравнение окружности\Безымянный1.png"/>
          <p:cNvPicPr/>
          <p:nvPr/>
        </p:nvPicPr>
        <p:blipFill>
          <a:blip r:embed="rId1"/>
          <a:stretch/>
        </p:blipFill>
        <p:spPr>
          <a:xfrm>
            <a:off x="208080" y="170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Documents and Settings\Admin\Рабочий стол\уравнение окружности\Безымянный6.png"/>
          <p:cNvPicPr/>
          <p:nvPr/>
        </p:nvPicPr>
        <p:blipFill>
          <a:blip r:embed="rId1"/>
          <a:stretch/>
        </p:blipFill>
        <p:spPr>
          <a:xfrm>
            <a:off x="-6480" y="1706400"/>
            <a:ext cx="36450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2:19:18Z</dcterms:created>
  <dc:creator>Admin</dc:creator>
  <dc:description/>
  <cp:keywords/>
  <dc:language>en-US</dc:language>
  <cp:lastModifiedBy>DNA7 X86</cp:lastModifiedBy>
  <dcterms:modified xsi:type="dcterms:W3CDTF">2015-03-24T09:46:16Z</dcterms:modified>
  <cp:revision>46</cp:revision>
  <dc:subject/>
  <dc:title>Уравнение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