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8CF-2BAE-4F60-B79A-F06A40BF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646-22BD-4816-B4F0-29572BA4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D15-3DDD-42E8-9CE2-93D672D2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3D3-E19B-4DDA-AE1D-389B94DB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7E8-5474-4C0F-A7BC-938ED6F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07E-6B58-44D8-83E4-DABE59E0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67F-B257-4359-B7AF-F9872F5A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38C-A44A-4498-A6F9-8C56A32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CD2-ABB1-46F3-9985-8588CC82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33E-8D19-4CCB-9801-A5F0AED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61D-7AAB-47E3-9DAF-1E0666B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321-6C62-4C85-BFAA-46EDAE1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B01-4303-4882-B53C-5F2712BF4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57160" y="2214720"/>
            <a:ext cx="65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abic Typesetting"/>
              </a:rPr>
              <a:t>Дидактическое пособ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abic Typesetting"/>
              </a:rPr>
              <a:t>«Занимательные карти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29000" y="514368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риал подготовила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Щепеткина Ма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БДОУ д/с № 27 «Березка» г. Кстово Нижегород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_vyrn_657mandarinka.jpg"/>
          <p:cNvPicPr/>
          <p:nvPr/>
        </p:nvPicPr>
        <p:blipFill>
          <a:blip r:embed="rId1"/>
          <a:stretch/>
        </p:blipFill>
        <p:spPr>
          <a:xfrm>
            <a:off x="7143840" y="428760"/>
            <a:ext cx="1655640" cy="1641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klubnika-sadovaya.jpg"/>
          <p:cNvPicPr/>
          <p:nvPr/>
        </p:nvPicPr>
        <p:blipFill>
          <a:blip r:embed="rId2"/>
          <a:srcRect l="13574" t="0" r="13574" b="0"/>
          <a:stretch/>
        </p:blipFill>
        <p:spPr>
          <a:xfrm>
            <a:off x="357120" y="142920"/>
            <a:ext cx="185760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69167409_ZAYKA_KLIPART.png"/>
          <p:cNvPicPr/>
          <p:nvPr/>
        </p:nvPicPr>
        <p:blipFill>
          <a:blip r:embed="rId3"/>
          <a:stretch/>
        </p:blipFill>
        <p:spPr>
          <a:xfrm>
            <a:off x="3571920" y="142920"/>
            <a:ext cx="1932120" cy="2130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1801.jpg"/>
          <p:cNvPicPr/>
          <p:nvPr/>
        </p:nvPicPr>
        <p:blipFill>
          <a:blip r:embed="rId4"/>
          <a:stretch/>
        </p:blipFill>
        <p:spPr>
          <a:xfrm>
            <a:off x="428760" y="3857760"/>
            <a:ext cx="2428920" cy="2433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x_1bf84635.jpg"/>
          <p:cNvPicPr/>
          <p:nvPr/>
        </p:nvPicPr>
        <p:blipFill>
          <a:blip r:embed="rId5"/>
          <a:stretch/>
        </p:blipFill>
        <p:spPr>
          <a:xfrm>
            <a:off x="6858000" y="2786040"/>
            <a:ext cx="180972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94276786_3745730_banana.jpg"/>
          <p:cNvPicPr/>
          <p:nvPr/>
        </p:nvPicPr>
        <p:blipFill>
          <a:blip r:embed="rId6"/>
          <a:stretch/>
        </p:blipFill>
        <p:spPr>
          <a:xfrm>
            <a:off x="4071960" y="3643200"/>
            <a:ext cx="18018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341000" y="214200"/>
            <a:ext cx="65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домашних животных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61328664_mail_1141017_kms.jpg"/>
          <p:cNvPicPr/>
          <p:nvPr/>
        </p:nvPicPr>
        <p:blipFill>
          <a:blip r:embed="rId1"/>
          <a:stretch/>
        </p:blipFill>
        <p:spPr>
          <a:xfrm>
            <a:off x="6286680" y="928800"/>
            <a:ext cx="2414520" cy="2071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63050582_1282497367_Horses_019.jpg"/>
          <p:cNvPicPr/>
          <p:nvPr/>
        </p:nvPicPr>
        <p:blipFill>
          <a:blip r:embed="rId2"/>
          <a:stretch/>
        </p:blipFill>
        <p:spPr>
          <a:xfrm>
            <a:off x="357120" y="92880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102947531_11.jpg"/>
          <p:cNvPicPr/>
          <p:nvPr/>
        </p:nvPicPr>
        <p:blipFill>
          <a:blip r:embed="rId3"/>
          <a:srcRect l="0" t="0" r="0" b="4683"/>
          <a:stretch/>
        </p:blipFill>
        <p:spPr>
          <a:xfrm>
            <a:off x="3500280" y="100008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139142408_8651e7d4da_z.jpg"/>
          <p:cNvPicPr/>
          <p:nvPr/>
        </p:nvPicPr>
        <p:blipFill>
          <a:blip r:embed="rId4"/>
          <a:stretch/>
        </p:blipFill>
        <p:spPr>
          <a:xfrm>
            <a:off x="285840" y="4071960"/>
            <a:ext cx="271440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lisica.jpg"/>
          <p:cNvPicPr/>
          <p:nvPr/>
        </p:nvPicPr>
        <p:blipFill>
          <a:blip r:embed="rId5"/>
          <a:stretch/>
        </p:blipFill>
        <p:spPr>
          <a:xfrm>
            <a:off x="6357960" y="407196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89292655_3501548_koza.jpg"/>
          <p:cNvPicPr/>
          <p:nvPr/>
        </p:nvPicPr>
        <p:blipFill>
          <a:blip r:embed="rId6"/>
          <a:srcRect l="18549" t="0" r="0" b="0"/>
          <a:stretch/>
        </p:blipFill>
        <p:spPr>
          <a:xfrm>
            <a:off x="3500280" y="4071960"/>
            <a:ext cx="2422800" cy="17859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звук 8">
            <a:hlinkClick r:id="rId7"/>
          </p:cNvPr>
          <p:cNvSpPr/>
          <p:nvPr/>
        </p:nvSpPr>
        <p:spPr>
          <a:xfrm>
            <a:off x="357120" y="3000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8406"/>
                </a:moveTo>
                <a:lnTo>
                  <a:pt x="15418" y="8406"/>
                </a:lnTo>
                <a:lnTo>
                  <a:pt x="19839" y="3794"/>
                </a:lnTo>
                <a:lnTo>
                  <a:pt x="19839" y="17806"/>
                </a:lnTo>
                <a:lnTo>
                  <a:pt x="15418" y="13194"/>
                </a:lnTo>
                <a:lnTo>
                  <a:pt x="10987" y="13194"/>
                </a:lnTo>
                <a:close/>
              </a:path>
              <a:path fill="darken" w="35988" h="21600">
                <a:moveTo>
                  <a:pt x="21493" y="10800"/>
                </a:moveTo>
                <a:lnTo>
                  <a:pt x="25000" y="10800"/>
                </a:lnTo>
              </a:path>
              <a:path fill="darken" w="35988" h="21600">
                <a:moveTo>
                  <a:pt x="21493" y="8406"/>
                </a:moveTo>
                <a:lnTo>
                  <a:pt x="25000" y="5639"/>
                </a:lnTo>
              </a:path>
              <a:path fill="darken" w="35988" h="21600">
                <a:moveTo>
                  <a:pt x="21493" y="13194"/>
                </a:moveTo>
                <a:lnTo>
                  <a:pt x="2500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звук 9">
            <a:hlinkClick r:id="rId8"/>
          </p:cNvPr>
          <p:cNvSpPr/>
          <p:nvPr/>
        </p:nvSpPr>
        <p:spPr>
          <a:xfrm>
            <a:off x="3500280" y="30002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8406"/>
                </a:moveTo>
                <a:lnTo>
                  <a:pt x="15418" y="8406"/>
                </a:lnTo>
                <a:lnTo>
                  <a:pt x="19839" y="3794"/>
                </a:lnTo>
                <a:lnTo>
                  <a:pt x="19839" y="17806"/>
                </a:lnTo>
                <a:lnTo>
                  <a:pt x="15418" y="13194"/>
                </a:lnTo>
                <a:lnTo>
                  <a:pt x="10987" y="13194"/>
                </a:lnTo>
                <a:close/>
              </a:path>
              <a:path fill="darken" w="35988" h="21600">
                <a:moveTo>
                  <a:pt x="21493" y="10800"/>
                </a:moveTo>
                <a:lnTo>
                  <a:pt x="25000" y="10800"/>
                </a:lnTo>
              </a:path>
              <a:path fill="darken" w="35988" h="21600">
                <a:moveTo>
                  <a:pt x="21493" y="8406"/>
                </a:moveTo>
                <a:lnTo>
                  <a:pt x="25000" y="5639"/>
                </a:lnTo>
              </a:path>
              <a:path fill="darken" w="35988" h="21600">
                <a:moveTo>
                  <a:pt x="21493" y="13194"/>
                </a:moveTo>
                <a:lnTo>
                  <a:pt x="2500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звук 10">
            <a:hlinkClick r:id="rId9"/>
          </p:cNvPr>
          <p:cNvSpPr/>
          <p:nvPr/>
        </p:nvSpPr>
        <p:spPr>
          <a:xfrm>
            <a:off x="6286680" y="300024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8406"/>
                </a:moveTo>
                <a:lnTo>
                  <a:pt x="12847" y="8406"/>
                </a:lnTo>
                <a:lnTo>
                  <a:pt x="17268" y="3794"/>
                </a:lnTo>
                <a:lnTo>
                  <a:pt x="17268" y="17806"/>
                </a:lnTo>
                <a:lnTo>
                  <a:pt x="12847" y="13194"/>
                </a:lnTo>
                <a:lnTo>
                  <a:pt x="8417" y="13194"/>
                </a:lnTo>
                <a:close/>
              </a:path>
              <a:path fill="darken" w="30846" h="21600">
                <a:moveTo>
                  <a:pt x="18922" y="10800"/>
                </a:moveTo>
                <a:lnTo>
                  <a:pt x="22430" y="10800"/>
                </a:lnTo>
              </a:path>
              <a:path fill="darken" w="30846" h="21600">
                <a:moveTo>
                  <a:pt x="18922" y="8406"/>
                </a:moveTo>
                <a:lnTo>
                  <a:pt x="22430" y="5639"/>
                </a:lnTo>
              </a:path>
              <a:path fill="darken" w="30846" h="21600">
                <a:moveTo>
                  <a:pt x="18922" y="13194"/>
                </a:moveTo>
                <a:lnTo>
                  <a:pt x="2243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звук 12">
            <a:hlinkClick r:id="rId10"/>
          </p:cNvPr>
          <p:cNvSpPr/>
          <p:nvPr/>
        </p:nvSpPr>
        <p:spPr>
          <a:xfrm>
            <a:off x="285840" y="585792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8406"/>
                </a:moveTo>
                <a:lnTo>
                  <a:pt x="15409" y="8406"/>
                </a:lnTo>
                <a:lnTo>
                  <a:pt x="19830" y="3794"/>
                </a:lnTo>
                <a:lnTo>
                  <a:pt x="19830" y="17806"/>
                </a:lnTo>
                <a:lnTo>
                  <a:pt x="15409" y="13194"/>
                </a:lnTo>
                <a:lnTo>
                  <a:pt x="10978" y="13194"/>
                </a:lnTo>
                <a:close/>
              </a:path>
              <a:path fill="darken" w="35970" h="21600">
                <a:moveTo>
                  <a:pt x="21484" y="10800"/>
                </a:moveTo>
                <a:lnTo>
                  <a:pt x="24991" y="10800"/>
                </a:lnTo>
              </a:path>
              <a:path fill="darken" w="35970" h="21600">
                <a:moveTo>
                  <a:pt x="21484" y="8406"/>
                </a:moveTo>
                <a:lnTo>
                  <a:pt x="24991" y="5639"/>
                </a:lnTo>
              </a:path>
              <a:path fill="darken" w="35970" h="21600">
                <a:moveTo>
                  <a:pt x="21484" y="13194"/>
                </a:moveTo>
                <a:lnTo>
                  <a:pt x="24991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звук 13">
            <a:hlinkClick r:id="rId11"/>
          </p:cNvPr>
          <p:cNvSpPr/>
          <p:nvPr/>
        </p:nvSpPr>
        <p:spPr>
          <a:xfrm>
            <a:off x="3500280" y="58579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8406"/>
                </a:moveTo>
                <a:lnTo>
                  <a:pt x="17212" y="8406"/>
                </a:lnTo>
                <a:lnTo>
                  <a:pt x="21633" y="3794"/>
                </a:lnTo>
                <a:lnTo>
                  <a:pt x="21633" y="17806"/>
                </a:lnTo>
                <a:lnTo>
                  <a:pt x="17212" y="13194"/>
                </a:lnTo>
                <a:lnTo>
                  <a:pt x="12781" y="13194"/>
                </a:lnTo>
                <a:close/>
              </a:path>
              <a:path fill="darken" w="39576" h="21600">
                <a:moveTo>
                  <a:pt x="23287" y="10800"/>
                </a:moveTo>
                <a:lnTo>
                  <a:pt x="26794" y="10800"/>
                </a:lnTo>
              </a:path>
              <a:path fill="darken" w="39576" h="21600">
                <a:moveTo>
                  <a:pt x="23287" y="8406"/>
                </a:moveTo>
                <a:lnTo>
                  <a:pt x="26794" y="5639"/>
                </a:lnTo>
              </a:path>
              <a:path fill="darken" w="39576" h="21600">
                <a:moveTo>
                  <a:pt x="23287" y="13194"/>
                </a:moveTo>
                <a:lnTo>
                  <a:pt x="2679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звук 14">
            <a:hlinkClick r:id="rId12"/>
          </p:cNvPr>
          <p:cNvSpPr/>
          <p:nvPr/>
        </p:nvSpPr>
        <p:spPr>
          <a:xfrm>
            <a:off x="6357960" y="585792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8406"/>
                </a:moveTo>
                <a:lnTo>
                  <a:pt x="19006" y="8406"/>
                </a:lnTo>
                <a:lnTo>
                  <a:pt x="23427" y="3794"/>
                </a:lnTo>
                <a:lnTo>
                  <a:pt x="23427" y="17806"/>
                </a:lnTo>
                <a:lnTo>
                  <a:pt x="19006" y="13194"/>
                </a:lnTo>
                <a:lnTo>
                  <a:pt x="14575" y="13194"/>
                </a:lnTo>
                <a:close/>
              </a:path>
              <a:path fill="darken" w="43164" h="21600">
                <a:moveTo>
                  <a:pt x="25081" y="10800"/>
                </a:moveTo>
                <a:lnTo>
                  <a:pt x="28588" y="10800"/>
                </a:lnTo>
              </a:path>
              <a:path fill="darken" w="43164" h="21600">
                <a:moveTo>
                  <a:pt x="25081" y="8406"/>
                </a:moveTo>
                <a:lnTo>
                  <a:pt x="28588" y="5639"/>
                </a:lnTo>
              </a:path>
              <a:path fill="darken" w="43164" h="21600">
                <a:moveTo>
                  <a:pt x="25081" y="13194"/>
                </a:moveTo>
                <a:lnTo>
                  <a:pt x="2858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483560" y="428760"/>
            <a:ext cx="65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диких животных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17af2b97db6899306fe15e1319add8e0083511a6_700.jpg"/>
          <p:cNvPicPr/>
          <p:nvPr/>
        </p:nvPicPr>
        <p:blipFill>
          <a:blip r:embed="rId1"/>
          <a:stretch/>
        </p:blipFill>
        <p:spPr>
          <a:xfrm>
            <a:off x="285840" y="128592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102947531_11.jpg"/>
          <p:cNvPicPr/>
          <p:nvPr/>
        </p:nvPicPr>
        <p:blipFill>
          <a:blip r:embed="rId2"/>
          <a:stretch/>
        </p:blipFill>
        <p:spPr>
          <a:xfrm>
            <a:off x="6286680" y="4143240"/>
            <a:ext cx="257148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lisica.jpg"/>
          <p:cNvPicPr/>
          <p:nvPr/>
        </p:nvPicPr>
        <p:blipFill>
          <a:blip r:embed="rId3"/>
          <a:stretch/>
        </p:blipFill>
        <p:spPr>
          <a:xfrm>
            <a:off x="6357960" y="1268280"/>
            <a:ext cx="2401920" cy="1803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Gray-Wolf-In-Autumn-2048x2560.jpg"/>
          <p:cNvPicPr/>
          <p:nvPr/>
        </p:nvPicPr>
        <p:blipFill>
          <a:blip r:embed="rId4"/>
          <a:stretch/>
        </p:blipFill>
        <p:spPr>
          <a:xfrm>
            <a:off x="3338640" y="4143240"/>
            <a:ext cx="244764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v0R2g.jpg"/>
          <p:cNvPicPr/>
          <p:nvPr/>
        </p:nvPicPr>
        <p:blipFill>
          <a:blip r:embed="rId5"/>
          <a:stretch/>
        </p:blipFill>
        <p:spPr>
          <a:xfrm>
            <a:off x="3286080" y="1285920"/>
            <a:ext cx="245268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39897946_1235036068_File14.jpg"/>
          <p:cNvPicPr/>
          <p:nvPr/>
        </p:nvPicPr>
        <p:blipFill>
          <a:blip r:embed="rId6"/>
          <a:srcRect l="8982" t="23441" r="14847" b="15630"/>
          <a:stretch/>
        </p:blipFill>
        <p:spPr>
          <a:xfrm>
            <a:off x="142920" y="4143240"/>
            <a:ext cx="259380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звук 9">
            <a:hlinkClick r:id="rId7"/>
          </p:cNvPr>
          <p:cNvSpPr/>
          <p:nvPr/>
        </p:nvSpPr>
        <p:spPr>
          <a:xfrm>
            <a:off x="285840" y="3071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звук 10">
            <a:hlinkClick r:id="rId8"/>
          </p:cNvPr>
          <p:cNvSpPr/>
          <p:nvPr/>
        </p:nvSpPr>
        <p:spPr>
          <a:xfrm>
            <a:off x="3286080" y="3000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8406"/>
                </a:moveTo>
                <a:lnTo>
                  <a:pt x="12526" y="8406"/>
                </a:lnTo>
                <a:lnTo>
                  <a:pt x="16948" y="3794"/>
                </a:lnTo>
                <a:lnTo>
                  <a:pt x="16948" y="17806"/>
                </a:lnTo>
                <a:lnTo>
                  <a:pt x="12526" y="13194"/>
                </a:lnTo>
                <a:lnTo>
                  <a:pt x="8096" y="13194"/>
                </a:lnTo>
                <a:close/>
              </a:path>
              <a:path fill="darken" w="30205" h="21600">
                <a:moveTo>
                  <a:pt x="18602" y="10800"/>
                </a:moveTo>
                <a:lnTo>
                  <a:pt x="22109" y="10800"/>
                </a:lnTo>
              </a:path>
              <a:path fill="darken" w="30205" h="21600">
                <a:moveTo>
                  <a:pt x="18602" y="8406"/>
                </a:moveTo>
                <a:lnTo>
                  <a:pt x="22109" y="5639"/>
                </a:lnTo>
              </a:path>
              <a:path fill="darken" w="30205" h="21600">
                <a:moveTo>
                  <a:pt x="18602" y="13194"/>
                </a:moveTo>
                <a:lnTo>
                  <a:pt x="22109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звук 11">
            <a:hlinkClick r:id="rId9"/>
          </p:cNvPr>
          <p:cNvSpPr/>
          <p:nvPr/>
        </p:nvSpPr>
        <p:spPr>
          <a:xfrm>
            <a:off x="6357960" y="307188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звук 12">
            <a:hlinkClick r:id="rId10"/>
          </p:cNvPr>
          <p:cNvSpPr/>
          <p:nvPr/>
        </p:nvSpPr>
        <p:spPr>
          <a:xfrm>
            <a:off x="3357720" y="60721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правляющая кнопка: звук 13">
            <a:hlinkClick r:id="rId11"/>
          </p:cNvPr>
          <p:cNvSpPr/>
          <p:nvPr/>
        </p:nvSpPr>
        <p:spPr>
          <a:xfrm>
            <a:off x="6286680" y="6000840"/>
            <a:ext cx="642600" cy="357120"/>
          </a:xfrm>
          <a:custGeom>
            <a:avLst/>
            <a:gdLst>
              <a:gd name="textAreaLeft" fmla="*/ 23040 w 642600"/>
              <a:gd name="textAreaRight" fmla="*/ 619560 w 642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50" h="21600">
                <a:moveTo>
                  <a:pt x="0" y="0"/>
                </a:moveTo>
                <a:lnTo>
                  <a:pt x="38850" y="0"/>
                </a:lnTo>
                <a:lnTo>
                  <a:pt x="38850" y="21600"/>
                </a:lnTo>
                <a:lnTo>
                  <a:pt x="0" y="21600"/>
                </a:lnTo>
                <a:close/>
              </a:path>
              <a:path fill="lightenLess" w="38850" h="21600">
                <a:moveTo>
                  <a:pt x="0" y="0"/>
                </a:moveTo>
                <a:lnTo>
                  <a:pt x="38850" y="0"/>
                </a:lnTo>
                <a:lnTo>
                  <a:pt x="37450" y="1400"/>
                </a:lnTo>
                <a:lnTo>
                  <a:pt x="1400" y="1400"/>
                </a:lnTo>
                <a:close/>
              </a:path>
              <a:path fill="darken" w="38850" h="21600">
                <a:moveTo>
                  <a:pt x="38850" y="0"/>
                </a:moveTo>
                <a:lnTo>
                  <a:pt x="38850" y="21600"/>
                </a:lnTo>
                <a:lnTo>
                  <a:pt x="37450" y="20200"/>
                </a:lnTo>
                <a:lnTo>
                  <a:pt x="37450" y="1400"/>
                </a:lnTo>
                <a:close/>
              </a:path>
              <a:path fill="darkenLess" w="38850" h="21600">
                <a:moveTo>
                  <a:pt x="38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50" y="20200"/>
                </a:lnTo>
                <a:close/>
              </a:path>
              <a:path fill="lighten" w="38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50" h="21600">
                <a:moveTo>
                  <a:pt x="12418" y="8406"/>
                </a:moveTo>
                <a:lnTo>
                  <a:pt x="16848" y="8406"/>
                </a:lnTo>
                <a:lnTo>
                  <a:pt x="21270" y="3794"/>
                </a:lnTo>
                <a:lnTo>
                  <a:pt x="21270" y="17806"/>
                </a:lnTo>
                <a:lnTo>
                  <a:pt x="16848" y="13194"/>
                </a:lnTo>
                <a:lnTo>
                  <a:pt x="12418" y="13194"/>
                </a:lnTo>
                <a:close/>
              </a:path>
              <a:path fill="darken" w="38850" h="21600">
                <a:moveTo>
                  <a:pt x="22924" y="10800"/>
                </a:moveTo>
                <a:lnTo>
                  <a:pt x="26431" y="10800"/>
                </a:lnTo>
              </a:path>
              <a:path fill="darken" w="38850" h="21600">
                <a:moveTo>
                  <a:pt x="22924" y="8406"/>
                </a:moveTo>
                <a:lnTo>
                  <a:pt x="26431" y="5639"/>
                </a:lnTo>
              </a:path>
              <a:path fill="darken" w="38850" h="21600">
                <a:moveTo>
                  <a:pt x="22924" y="13194"/>
                </a:moveTo>
                <a:lnTo>
                  <a:pt x="26431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звук 14">
            <a:hlinkClick r:id="rId12"/>
          </p:cNvPr>
          <p:cNvSpPr/>
          <p:nvPr/>
        </p:nvSpPr>
        <p:spPr>
          <a:xfrm>
            <a:off x="142920" y="607212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1269360" y="285840"/>
            <a:ext cx="65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 цветы и нажми на знач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лодисменты- правильный ответ, колокольчик- надо подум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0a1f735683694e036b21e417a8664ed7.jpg"/>
          <p:cNvPicPr/>
          <p:nvPr/>
        </p:nvPicPr>
        <p:blipFill>
          <a:blip r:embed="rId1"/>
          <a:stretch/>
        </p:blipFill>
        <p:spPr>
          <a:xfrm>
            <a:off x="642960" y="1357200"/>
            <a:ext cx="2556000" cy="191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33569249.jpg"/>
          <p:cNvPicPr/>
          <p:nvPr/>
        </p:nvPicPr>
        <p:blipFill>
          <a:blip r:embed="rId2"/>
          <a:srcRect l="2692" t="3896" r="3849" b="5429"/>
          <a:stretch/>
        </p:blipFill>
        <p:spPr>
          <a:xfrm>
            <a:off x="6143760" y="13572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88963371_014170bae911.jpg"/>
          <p:cNvPicPr/>
          <p:nvPr/>
        </p:nvPicPr>
        <p:blipFill>
          <a:blip r:embed="rId3"/>
          <a:srcRect l="0" t="0" r="8796" b="0"/>
          <a:stretch/>
        </p:blipFill>
        <p:spPr>
          <a:xfrm>
            <a:off x="6286680" y="4357800"/>
            <a:ext cx="242856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100454816_large_oduvanchik.jpg"/>
          <p:cNvPicPr/>
          <p:nvPr/>
        </p:nvPicPr>
        <p:blipFill>
          <a:blip r:embed="rId4"/>
          <a:stretch/>
        </p:blipFill>
        <p:spPr>
          <a:xfrm>
            <a:off x="3500280" y="4357800"/>
            <a:ext cx="2430720" cy="1785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254590834588.jpg"/>
          <p:cNvPicPr/>
          <p:nvPr/>
        </p:nvPicPr>
        <p:blipFill>
          <a:blip r:embed="rId5"/>
          <a:stretch/>
        </p:blipFill>
        <p:spPr>
          <a:xfrm>
            <a:off x="3429000" y="1357200"/>
            <a:ext cx="2475000" cy="1919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t05Hc.jpg"/>
          <p:cNvPicPr/>
          <p:nvPr/>
        </p:nvPicPr>
        <p:blipFill>
          <a:blip r:embed="rId6"/>
          <a:stretch/>
        </p:blipFill>
        <p:spPr>
          <a:xfrm>
            <a:off x="714240" y="4357800"/>
            <a:ext cx="2428920" cy="1832040"/>
          </a:xfrm>
          <a:prstGeom prst="rect">
            <a:avLst/>
          </a:prstGeom>
          <a:ln w="0">
            <a:noFill/>
          </a:ln>
        </p:spPr>
      </p:pic>
      <p:sp>
        <p:nvSpPr>
          <p:cNvPr id="82" name="Управляющая кнопка: звук 10">
            <a:hlinkClick r:id="rId7"/>
          </p:cNvPr>
          <p:cNvSpPr/>
          <p:nvPr/>
        </p:nvSpPr>
        <p:spPr>
          <a:xfrm>
            <a:off x="642960" y="328608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звук 11">
            <a:hlinkClick r:id="rId8"/>
          </p:cNvPr>
          <p:cNvSpPr/>
          <p:nvPr/>
        </p:nvSpPr>
        <p:spPr>
          <a:xfrm>
            <a:off x="3429000" y="32860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звук 12">
            <a:hlinkClick r:id="rId9"/>
          </p:cNvPr>
          <p:cNvSpPr/>
          <p:nvPr/>
        </p:nvSpPr>
        <p:spPr>
          <a:xfrm>
            <a:off x="6143760" y="32860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8406"/>
                </a:moveTo>
                <a:lnTo>
                  <a:pt x="12542" y="8406"/>
                </a:lnTo>
                <a:lnTo>
                  <a:pt x="16963" y="3794"/>
                </a:lnTo>
                <a:lnTo>
                  <a:pt x="16963" y="17806"/>
                </a:lnTo>
                <a:lnTo>
                  <a:pt x="12542" y="13194"/>
                </a:lnTo>
                <a:lnTo>
                  <a:pt x="8111" y="13194"/>
                </a:lnTo>
                <a:close/>
              </a:path>
              <a:path fill="darken" w="30236" h="21600">
                <a:moveTo>
                  <a:pt x="18617" y="10800"/>
                </a:moveTo>
                <a:lnTo>
                  <a:pt x="22124" y="10800"/>
                </a:lnTo>
              </a:path>
              <a:path fill="darken" w="30236" h="21600">
                <a:moveTo>
                  <a:pt x="18617" y="8406"/>
                </a:moveTo>
                <a:lnTo>
                  <a:pt x="22124" y="5639"/>
                </a:lnTo>
              </a:path>
              <a:path fill="darken" w="30236" h="21600">
                <a:moveTo>
                  <a:pt x="18617" y="13194"/>
                </a:moveTo>
                <a:lnTo>
                  <a:pt x="22124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звук 13">
            <a:hlinkClick r:id="rId10"/>
          </p:cNvPr>
          <p:cNvSpPr/>
          <p:nvPr/>
        </p:nvSpPr>
        <p:spPr>
          <a:xfrm>
            <a:off x="3500280" y="6143760"/>
            <a:ext cx="500400" cy="357120"/>
          </a:xfrm>
          <a:custGeom>
            <a:avLst/>
            <a:gdLst>
              <a:gd name="textAreaLeft" fmla="*/ 23040 w 500400"/>
              <a:gd name="textAreaRight" fmla="*/ 477360 w 500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57" h="21600">
                <a:moveTo>
                  <a:pt x="0" y="0"/>
                </a:moveTo>
                <a:lnTo>
                  <a:pt x="30257" y="0"/>
                </a:lnTo>
                <a:lnTo>
                  <a:pt x="30257" y="21600"/>
                </a:lnTo>
                <a:lnTo>
                  <a:pt x="0" y="21600"/>
                </a:lnTo>
                <a:close/>
              </a:path>
              <a:path fill="lightenLess" w="30257" h="21600">
                <a:moveTo>
                  <a:pt x="0" y="0"/>
                </a:moveTo>
                <a:lnTo>
                  <a:pt x="30257" y="0"/>
                </a:lnTo>
                <a:lnTo>
                  <a:pt x="28857" y="1400"/>
                </a:lnTo>
                <a:lnTo>
                  <a:pt x="1400" y="1400"/>
                </a:lnTo>
                <a:close/>
              </a:path>
              <a:path fill="darken" w="30257" h="21600">
                <a:moveTo>
                  <a:pt x="30257" y="0"/>
                </a:moveTo>
                <a:lnTo>
                  <a:pt x="30257" y="21600"/>
                </a:lnTo>
                <a:lnTo>
                  <a:pt x="28857" y="20200"/>
                </a:lnTo>
                <a:lnTo>
                  <a:pt x="28857" y="1400"/>
                </a:lnTo>
                <a:close/>
              </a:path>
              <a:path fill="darkenLess" w="30257" h="21600">
                <a:moveTo>
                  <a:pt x="30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7" y="20200"/>
                </a:lnTo>
                <a:close/>
              </a:path>
              <a:path fill="lighten" w="30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7" h="21600">
                <a:moveTo>
                  <a:pt x="8122" y="8406"/>
                </a:moveTo>
                <a:lnTo>
                  <a:pt x="12552" y="8406"/>
                </a:lnTo>
                <a:lnTo>
                  <a:pt x="16974" y="3794"/>
                </a:lnTo>
                <a:lnTo>
                  <a:pt x="16974" y="17806"/>
                </a:lnTo>
                <a:lnTo>
                  <a:pt x="12552" y="13194"/>
                </a:lnTo>
                <a:lnTo>
                  <a:pt x="8122" y="13194"/>
                </a:lnTo>
                <a:close/>
              </a:path>
              <a:path fill="darken" w="30257" h="21600">
                <a:moveTo>
                  <a:pt x="18628" y="10800"/>
                </a:moveTo>
                <a:lnTo>
                  <a:pt x="22135" y="10800"/>
                </a:lnTo>
              </a:path>
              <a:path fill="darken" w="30257" h="21600">
                <a:moveTo>
                  <a:pt x="18628" y="8406"/>
                </a:moveTo>
                <a:lnTo>
                  <a:pt x="22135" y="5639"/>
                </a:lnTo>
              </a:path>
              <a:path fill="darken" w="30257" h="21600">
                <a:moveTo>
                  <a:pt x="18628" y="13194"/>
                </a:moveTo>
                <a:lnTo>
                  <a:pt x="22135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звук 14">
            <a:hlinkClick r:id="rId11"/>
          </p:cNvPr>
          <p:cNvSpPr/>
          <p:nvPr/>
        </p:nvSpPr>
        <p:spPr>
          <a:xfrm>
            <a:off x="714240" y="614376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8406"/>
                </a:moveTo>
                <a:lnTo>
                  <a:pt x="16859" y="8406"/>
                </a:lnTo>
                <a:lnTo>
                  <a:pt x="21281" y="3794"/>
                </a:lnTo>
                <a:lnTo>
                  <a:pt x="21281" y="17806"/>
                </a:lnTo>
                <a:lnTo>
                  <a:pt x="16859" y="13194"/>
                </a:lnTo>
                <a:lnTo>
                  <a:pt x="12429" y="13194"/>
                </a:lnTo>
                <a:close/>
              </a:path>
              <a:path fill="darken" w="38871" h="21600">
                <a:moveTo>
                  <a:pt x="22935" y="10800"/>
                </a:moveTo>
                <a:lnTo>
                  <a:pt x="26442" y="10800"/>
                </a:lnTo>
              </a:path>
              <a:path fill="darken" w="38871" h="21600">
                <a:moveTo>
                  <a:pt x="22935" y="8406"/>
                </a:moveTo>
                <a:lnTo>
                  <a:pt x="26442" y="5639"/>
                </a:lnTo>
              </a:path>
              <a:path fill="darken" w="38871" h="21600">
                <a:moveTo>
                  <a:pt x="22935" y="13194"/>
                </a:moveTo>
                <a:lnTo>
                  <a:pt x="26442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звук 15">
            <a:hlinkClick r:id="rId12"/>
          </p:cNvPr>
          <p:cNvSpPr/>
          <p:nvPr/>
        </p:nvSpPr>
        <p:spPr>
          <a:xfrm>
            <a:off x="6286680" y="6143760"/>
            <a:ext cx="571320" cy="357120"/>
          </a:xfrm>
          <a:custGeom>
            <a:avLst/>
            <a:gdLst>
              <a:gd name="textAreaLeft" fmla="*/ 23040 w 571320"/>
              <a:gd name="textAreaRight" fmla="*/ 548280 w 5713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43" h="21600">
                <a:moveTo>
                  <a:pt x="0" y="0"/>
                </a:moveTo>
                <a:lnTo>
                  <a:pt x="34543" y="0"/>
                </a:lnTo>
                <a:lnTo>
                  <a:pt x="34543" y="21600"/>
                </a:lnTo>
                <a:lnTo>
                  <a:pt x="0" y="21600"/>
                </a:lnTo>
                <a:close/>
              </a:path>
              <a:path fill="lightenLess" w="34543" h="21600">
                <a:moveTo>
                  <a:pt x="0" y="0"/>
                </a:moveTo>
                <a:lnTo>
                  <a:pt x="34543" y="0"/>
                </a:lnTo>
                <a:lnTo>
                  <a:pt x="33143" y="1400"/>
                </a:lnTo>
                <a:lnTo>
                  <a:pt x="1400" y="1400"/>
                </a:lnTo>
                <a:close/>
              </a:path>
              <a:path fill="darken" w="34543" h="21600">
                <a:moveTo>
                  <a:pt x="34543" y="0"/>
                </a:moveTo>
                <a:lnTo>
                  <a:pt x="34543" y="21600"/>
                </a:lnTo>
                <a:lnTo>
                  <a:pt x="33143" y="20200"/>
                </a:lnTo>
                <a:lnTo>
                  <a:pt x="33143" y="1400"/>
                </a:lnTo>
                <a:close/>
              </a:path>
              <a:path fill="darkenLess" w="34543" h="21600">
                <a:moveTo>
                  <a:pt x="3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3" y="20200"/>
                </a:lnTo>
                <a:close/>
              </a:path>
              <a:path fill="lighten" w="3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3" h="21600">
                <a:moveTo>
                  <a:pt x="10265" y="8406"/>
                </a:moveTo>
                <a:lnTo>
                  <a:pt x="14695" y="8406"/>
                </a:lnTo>
                <a:lnTo>
                  <a:pt x="19116" y="3794"/>
                </a:lnTo>
                <a:lnTo>
                  <a:pt x="19116" y="17806"/>
                </a:lnTo>
                <a:lnTo>
                  <a:pt x="14695" y="13194"/>
                </a:lnTo>
                <a:lnTo>
                  <a:pt x="10265" y="13194"/>
                </a:lnTo>
                <a:close/>
              </a:path>
              <a:path fill="darken" w="34543" h="21600">
                <a:moveTo>
                  <a:pt x="20770" y="10800"/>
                </a:moveTo>
                <a:lnTo>
                  <a:pt x="24278" y="10800"/>
                </a:lnTo>
              </a:path>
              <a:path fill="darken" w="34543" h="21600">
                <a:moveTo>
                  <a:pt x="20770" y="8406"/>
                </a:moveTo>
                <a:lnTo>
                  <a:pt x="24278" y="5639"/>
                </a:lnTo>
              </a:path>
              <a:path fill="darken" w="34543" h="21600">
                <a:moveTo>
                  <a:pt x="20770" y="13194"/>
                </a:moveTo>
                <a:lnTo>
                  <a:pt x="24278" y="15961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0:42:05Z</dcterms:created>
  <dc:creator>Admin</dc:creator>
  <dc:description/>
  <dc:language>en-US</dc:language>
  <cp:lastModifiedBy>HP</cp:lastModifiedBy>
  <dcterms:modified xsi:type="dcterms:W3CDTF">2015-05-07T14:48:44Z</dcterms:modified>
  <cp:revision>3</cp:revision>
  <dc:subject/>
  <dc:title>Слайд 1</dc:title>
</cp:coreProperties>
</file>