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99D-D736-4ABF-BB2C-CA85D85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D6E-E5CB-4E2D-8E74-05B8C6C6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FD7-744A-46E5-9639-583C2939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67B-8059-4C93-9C66-4B48DBB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AD77A-DD88-4B47-AE77-B7F63CA8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5158-C790-4CDE-9092-30CC713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200A5-5EDD-4C9A-B930-40A4CEF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AE5F7-5E8E-4582-81D4-A90E074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F1E0A-92E8-4C77-A042-C136457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556D-4009-40D0-8489-6DBD7878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91E9E-D194-47E5-A8AB-17D6D1D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1B-AED9-4FB5-8AC2-951CCCC1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A3BC3-5482-4582-950C-6C05836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B5466-D1C1-42E4-BE99-AED9A37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0AE66-B2BA-433E-BAD4-042B55F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23A8B-6DD9-4A2A-8FE5-8DBC2952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9E4A-373A-43C3-B75D-A5873D57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FEA-FB94-4F6E-815C-E3344DA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50C-8B72-4930-BE5D-AE93683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572-D766-4DF4-9CA0-3081BB58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455-EDDD-4C81-9DCB-0B12EA3A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34E-9DF0-4E02-A882-AF5BE41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29E-0FAE-4222-A9EE-679F188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2CC-D7C9-4569-A412-E205029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D10-AC29-4465-8FE6-CCE05610D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D52A-AED1-41B1-AABA-D31F863BE3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73640" y="1773360"/>
            <a:ext cx="793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99"/>
                </a:solidFill>
                <a:latin typeface="Times New Roman"/>
              </a:rPr>
              <a:t>Зимующие птиц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753800" y="4292640"/>
            <a:ext cx="40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МБДОУ детский сад№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лова Татьяна Пет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оробе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2951280" cy="2520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маленькая подвижная птичка с округлой головкой, короткой шеей</a:t>
            </a:r>
            <a:r>
              <a:rPr b="0" lang="ru-RU" sz="2000" spc="-1" strike="noStrike">
                <a:solidFill>
                  <a:srgbClr val="000074"/>
                </a:solidFill>
                <a:latin typeface="Times New Roman"/>
              </a:rPr>
              <a:t>,  В</a:t>
            </a: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 холодную пору птицы сидят, плотно прижавшись друг к другу, нахохливши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04A0650"/>
          <p:cNvPicPr/>
          <p:nvPr/>
        </p:nvPicPr>
        <p:blipFill>
          <a:blip r:embed="rId1"/>
          <a:stretch/>
        </p:blipFill>
        <p:spPr>
          <a:xfrm>
            <a:off x="3851280" y="907920"/>
            <a:ext cx="4933800" cy="34704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0" name="Rectangle 5"/>
          <p:cNvSpPr/>
          <p:nvPr/>
        </p:nvSpPr>
        <p:spPr>
          <a:xfrm>
            <a:off x="755640" y="4643640"/>
            <a:ext cx="777708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58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Воробьи спокойно переносят холод. Когда им холодно, они прячут одну лапку в пушистое оперение своего брюшка, а на другой ноге стоят. Чаще воробьи сидят, прижавшись друг к другу, нахохлившись. Воробьи чистоплотные, постоянно охорашиваются, охотно купаются зимой в сне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4824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ниц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887640" cy="172728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красивая птица. У нее на голове черная шапочка, щеки белые, на горле черная полоса -галстучек, крылья и хвост серые, спина желто-зеленая, а брюшко - желт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синица"/>
          <p:cNvPicPr/>
          <p:nvPr/>
        </p:nvPicPr>
        <p:blipFill>
          <a:blip r:embed="rId1"/>
          <a:stretch/>
        </p:blipFill>
        <p:spPr>
          <a:xfrm>
            <a:off x="4932360" y="333360"/>
            <a:ext cx="3760920" cy="60930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4" name="Rectangle 5"/>
          <p:cNvSpPr/>
          <p:nvPr/>
        </p:nvSpPr>
        <p:spPr>
          <a:xfrm>
            <a:off x="539640" y="4023000"/>
            <a:ext cx="381636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58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иницы очень подвижные птицы.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26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ятел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3241440" cy="2160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8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Большой пёстрый дятел"/>
          <p:cNvPicPr/>
          <p:nvPr/>
        </p:nvPicPr>
        <p:blipFill>
          <a:blip r:embed="rId1"/>
          <a:stretch/>
        </p:blipFill>
        <p:spPr>
          <a:xfrm>
            <a:off x="4932360" y="260280"/>
            <a:ext cx="3780000" cy="2901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5292720" y="3446280"/>
            <a:ext cx="3564000" cy="31431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В наших лесах чаще всего встречается большой пестрый дятел. Он - украшение нашего леса. Дятел - труженик. Расклюет дятел в своей «кузнице» шишку и летит за новой. Нередко стайки синичек и других маленьких птичек летают вслед за дят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дятел-2"/>
          <p:cNvPicPr/>
          <p:nvPr/>
        </p:nvPicPr>
        <p:blipFill>
          <a:blip r:embed="rId2"/>
          <a:stretch/>
        </p:blipFill>
        <p:spPr>
          <a:xfrm>
            <a:off x="1042920" y="3429000"/>
            <a:ext cx="3241800" cy="3144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3174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негир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3313080" cy="2376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У этой птицы верх головы, крылья, хвост - черные; спина голубовато-серая, а брюшко -красное. Клюв короткий, толстый, конической формы, черного ц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снегирь"/>
          <p:cNvPicPr/>
          <p:nvPr/>
        </p:nvPicPr>
        <p:blipFill>
          <a:blip r:embed="rId1"/>
          <a:stretch/>
        </p:blipFill>
        <p:spPr>
          <a:xfrm>
            <a:off x="4500720" y="333360"/>
            <a:ext cx="4281480" cy="428148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826920" y="4815000"/>
            <a:ext cx="779004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негири - нарядные птицы. Самцы красно­грудые, а у самочек наряд более скромный. Снегири держатся обычно небольшими стайками (7—10 птичек). Чем сильнее мороз, тем спокойнее сидит стайка, изредка передвигаясь, чтобы сорвать ягодку. С приходом темноты вся стайка улетает на кусты или деревья, где и ночу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9:14Z</dcterms:created>
  <dc:creator>User</dc:creator>
  <dc:description/>
  <dc:language>en-US</dc:language>
  <cp:lastModifiedBy>Лариса Иванова</cp:lastModifiedBy>
  <dcterms:modified xsi:type="dcterms:W3CDTF">2015-05-08T02:11:22Z</dcterms:modified>
  <cp:revision>7</cp:revision>
  <dc:subject/>
  <dc:title>Слайд 1</dc:title>
</cp:coreProperties>
</file>