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gif" ContentType="image/gif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D75-0F1F-4187-B6EE-A2950F07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206-5B44-4BFB-98E3-5457CFCF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36A-C9A7-420C-A12F-73336CC4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C2D-622C-4858-A099-D075AF2A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AA1A-9F24-44BB-B401-66989D98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F538-4164-447C-9018-D7554B4C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339C-50C4-4939-9FDD-1326EF67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85B8-E940-4558-A453-D5ADBAC1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488F-FF8B-4725-8786-D1D7D802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9F6F-E6BB-4AFF-9BD0-EA1F8ABA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47B5-2B9A-4D67-AEDB-7DFED5E9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DF1F-9129-4086-B84F-F78B1C8C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CBEF-16EE-4D4D-957E-0E068747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A297-B3F4-433A-8509-999C8DE5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7875-639F-42C0-A3B5-ACCB446C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0EB2-3F98-4A42-91BA-A42F4AFA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4440-B190-422F-A440-574DBB30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491-0EBD-4FEB-A1A2-393BE7C6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7DD-08C7-464E-B4CE-EE94944B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2E5B-7A6F-49DC-88AE-1A1EAABD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651-0C5A-4BCD-A239-A284DFD6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CCC-49E0-42B1-BEFE-2648CB7D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E09-E593-49AF-BAA2-D5B2EE64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91A-89F0-4DE2-B85F-B59912B0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B67C-20E2-4A86-A163-CC999FAC8F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C3A1-2AA9-42D5-803C-3EEE046297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00000" y="260280"/>
            <a:ext cx="7561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mic Sans MS"/>
              </a:rPr>
              <a:t>Ведение в шитье.Техника безопасности при шитье.</a:t>
            </a: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2924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558f7d"/>
                </a:solidFill>
                <a:uFillTx/>
                <a:latin typeface="Comic Sans MS"/>
              </a:rPr>
              <a:t>ЦЕЛЬ ЗАНЯТИЯ:</a:t>
            </a:r>
            <a:r>
              <a:rPr b="1" i="1" lang="en-US" sz="2400" spc="-1" strike="noStrike">
                <a:solidFill>
                  <a:srgbClr val="558f7d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4c44"/>
                </a:solidFill>
                <a:latin typeface="Comic Sans MS"/>
              </a:rPr>
              <a:t>Знакомство детей с инструментами, материалами и  техникой безопасности при шитье.  Получение первичных навыков работы с иголкой и ни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66120" y="45075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558f7d"/>
                </a:solidFill>
                <a:uFillTx/>
                <a:latin typeface="Comic Sans MS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4875480"/>
            <a:ext cx="7416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f7d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f7d"/>
                </a:solidFill>
                <a:latin typeface="Comic Sans MS"/>
              </a:rPr>
              <a:t>развивать кругозор, мелкую мотори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f7d"/>
                </a:solidFill>
                <a:latin typeface="Comic Sans MS"/>
              </a:rPr>
              <a:t>2)</a:t>
            </a:r>
            <a:r>
              <a:rPr b="1" lang="en-US" sz="2000" spc="-1" strike="noStrike">
                <a:solidFill>
                  <a:srgbClr val="558f7d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558f7d"/>
                </a:solidFill>
                <a:latin typeface="Comic Sans MS"/>
              </a:rPr>
              <a:t>формировать умение работать с инструментами и материалами для шит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f7d"/>
                </a:solidFill>
                <a:latin typeface="Comic Sans MS"/>
              </a:rPr>
              <a:t>3) научить правилам безопасности при шит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f7d"/>
                </a:solidFill>
                <a:latin typeface="Comic Sans MS"/>
              </a:rPr>
              <a:t>4) научить вдевать нитку в иголку, делать узелок.</a:t>
            </a:r>
            <a:r>
              <a:rPr b="0" lang="ru-RU" sz="2400" spc="-1" strike="noStrike">
                <a:solidFill>
                  <a:srgbClr val="558f7d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3413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08f5e"/>
                </a:solidFill>
                <a:latin typeface="Arial"/>
              </a:rPr>
              <a:t>Автор:    Васильева Е.А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08f5e"/>
                </a:solidFill>
                <a:latin typeface="Arial"/>
              </a:rPr>
              <a:t>педагог дополните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08f5e"/>
                </a:solidFill>
                <a:latin typeface="Arial"/>
              </a:rPr>
              <a:t>ГБОУ ДОД ДДТ Петродворцов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08f5e"/>
                </a:solidFill>
                <a:latin typeface="Arial"/>
              </a:rPr>
              <a:t>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50920" y="765000"/>
            <a:ext cx="712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605a"/>
                </a:solidFill>
                <a:latin typeface="Arial"/>
              </a:rPr>
              <a:t>Конец нитки возьмите в правую руку между большим и указательным пальцами. Его дважды не очень туго накрутите на указательный палец левой руки, придерживая большим пальцем (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605a"/>
                </a:solidFill>
                <a:latin typeface="Arial"/>
              </a:rPr>
              <a:t>Полученные витки немного скрутите между указательным и большим пальцами, постепенно снимите их с пальца, одновременно натягивая нитку (б).</a:t>
            </a:r>
            <a:r>
              <a:rPr b="0" i="1" lang="en-US" sz="2000" spc="-1" strike="noStrike">
                <a:solidFill>
                  <a:srgbClr val="3060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3456000" cy="2181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80" name=""/>
          <p:cNvSpPr/>
          <p:nvPr/>
        </p:nvSpPr>
        <p:spPr>
          <a:xfrm>
            <a:off x="178200" y="260280"/>
            <a:ext cx="76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ак правильно завязать узелок на конце ни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92360" y="3068640"/>
            <a:ext cx="424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рудно?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f7d"/>
                </a:solidFill>
                <a:latin typeface="Comic Sans MS"/>
              </a:rPr>
              <a:t>Ну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f7d"/>
                </a:solidFill>
                <a:latin typeface="Comic Sans MS"/>
              </a:rPr>
              <a:t>поупражня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31960" y="4365720"/>
            <a:ext cx="29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Ура!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ОЛУЧИЛОСЬ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6840" y="5516640"/>
            <a:ext cx="685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ак хранить иголку с ниткой?</a:t>
            </a:r>
            <a:r>
              <a:rPr b="1" lang="en-US" sz="2800" spc="-1" strike="noStrike">
                <a:solidFill>
                  <a:srgbClr val="558f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В игольнице, обвив иголку нит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74304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67680" y="835560"/>
            <a:ext cx="562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А теперь уберем в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в коробку для рукоделия !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4000" y="2707200"/>
            <a:ext cx="397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f7d"/>
                </a:solidFill>
                <a:latin typeface="Arial"/>
              </a:rPr>
              <a:t>Занятие законч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f7d"/>
                </a:solidFill>
                <a:latin typeface="Arial"/>
              </a:rPr>
              <a:t>Спасибо за рабо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24000" y="399240"/>
            <a:ext cx="7488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f7d"/>
                </a:solidFill>
                <a:latin typeface="Arial"/>
              </a:rPr>
              <a:t>Литература, интернет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Каргина З.А. «Практическое пособие для педаго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дополнительного образования» М: Шко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пресса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Г. И. Перевертень «Самоделки из тексти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материалов» Изд.: "Просвещение" ,1990, 160 с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http://ohrana-tryda.com/kruj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http://www.dulka.ru/samodelki_iz_tekstilnyh_materialov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tkani_i_voloknistye_materialy/pravila_tehniki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bezopasnost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http://www.dulka.ru/samodelki_iz_tekstilnyh_materialov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rabota_s_tkanu/podgotovka_k_rabot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http://www.dulka.ru/samodelki_iz_tekstilnyh_materialov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tkani_i_voloknistye_materialy/instrumenty_i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prisposobleni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http://skillville.ru/Homegarden/kak-nauchitsya-shi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6408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d9411"/>
                </a:solidFill>
                <a:uFillTx/>
                <a:latin typeface="Arial"/>
              </a:rPr>
              <a:t>Правила поведения на занятиях</a:t>
            </a:r>
            <a:r>
              <a:rPr b="1" i="1" lang="en-US" sz="2800" spc="-1" strike="noStrike">
                <a:solidFill>
                  <a:srgbClr val="ed9411"/>
                </a:solidFill>
                <a:latin typeface="Arial"/>
              </a:rPr>
              <a:t> кружка «Мастерская рукоделия».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7632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ходить в класс и покидать его можно только с разрешения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8f7d"/>
                </a:solidFill>
                <a:latin typeface="Arial"/>
              </a:rPr>
              <a:t>Учащийся должен занять свое рабоч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8f7d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558f7d"/>
                </a:solidFill>
                <a:latin typeface="Arial"/>
              </a:rPr>
              <a:t>место. Менять его можно только с разрешения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дготовить инструменты и материалы. Начинать работу с разрешения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8f7d"/>
                </a:solidFill>
                <a:latin typeface="Arial"/>
              </a:rPr>
              <a:t>После окончания работы сложить инструменты в отведенное для эт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8f7d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558f7d"/>
                </a:solidFill>
                <a:latin typeface="Arial"/>
              </a:rPr>
              <a:t>место и убрать свое рабоче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5877000"/>
            <a:ext cx="685008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9411"/>
                </a:solidFill>
                <a:latin typeface="Arial"/>
              </a:rPr>
              <a:t>При получении травмы немедл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9411"/>
                </a:solidFill>
                <a:latin typeface="Arial"/>
              </a:rPr>
              <a:t>обратиться к педаг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4720" y="4723560"/>
            <a:ext cx="655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558f7d"/>
                </a:solidFill>
                <a:uFillTx/>
                <a:latin typeface="Comic Sans MS"/>
              </a:rPr>
              <a:t>Шитьё</a:t>
            </a:r>
            <a:r>
              <a:rPr b="1" lang="en-US" sz="4000" spc="-1" strike="noStrike">
                <a:solidFill>
                  <a:srgbClr val="558f7d"/>
                </a:solidFill>
                <a:latin typeface="Comic Sans MS"/>
              </a:rPr>
              <a:t> - это с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8f7d"/>
                </a:solidFill>
                <a:latin typeface="Comic Sans MS"/>
              </a:rPr>
              <a:t>деталей из ткани пр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8f7d"/>
                </a:solidFill>
                <a:latin typeface="Comic Sans MS"/>
              </a:rPr>
              <a:t>помощи иглы и нитки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95280" y="187560"/>
            <a:ext cx="7201080" cy="4465440"/>
            <a:chOff x="395280" y="187560"/>
            <a:chExt cx="7201080" cy="4465440"/>
          </a:xfrm>
        </p:grpSpPr>
        <p:sp>
          <p:nvSpPr>
            <p:cNvPr id="201" name=""/>
            <p:cNvSpPr/>
            <p:nvPr/>
          </p:nvSpPr>
          <p:spPr>
            <a:xfrm>
              <a:off x="3059280" y="187560"/>
              <a:ext cx="4537080" cy="825480"/>
            </a:xfrm>
            <a:prstGeom prst="rect">
              <a:avLst/>
            </a:prstGeom>
            <a:solidFill>
              <a:srgbClr val="d9e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f5e"/>
                  </a:solidFill>
                  <a:latin typeface="Arial"/>
                </a:rPr>
                <a:t>Без топора - не плотник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f5e"/>
                  </a:solidFill>
                  <a:latin typeface="Arial"/>
                </a:rPr>
                <a:t>без иголки - не портной.</a:t>
              </a: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5280" y="1481040"/>
              <a:ext cx="7056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58f7d"/>
                  </a:solidFill>
                  <a:latin typeface="Arial"/>
                </a:rPr>
                <a:t>На станке её ткачиха,</a:t>
              </a:r>
              <a:br>
                <a:rPr sz="2400"/>
              </a:br>
              <a:r>
                <a:rPr b="1" lang="en-US" sz="2400" spc="-1" strike="noStrike">
                  <a:solidFill>
                    <a:srgbClr val="558f7d"/>
                  </a:solidFill>
                  <a:latin typeface="Arial"/>
                </a:rPr>
                <a:t>Нам из нитей сотворит,</a:t>
              </a:r>
              <a:br>
                <a:rPr sz="2400"/>
              </a:br>
              <a:r>
                <a:rPr b="1" lang="en-US" sz="2400" spc="-1" strike="noStrike">
                  <a:solidFill>
                    <a:srgbClr val="558f7d"/>
                  </a:solidFill>
                  <a:latin typeface="Arial"/>
                </a:rPr>
                <a:t>Продавец её отмерит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58f7d"/>
                  </a:solidFill>
                  <a:latin typeface="Arial"/>
                </a:rPr>
                <a:t>А закройщик раскроит.</a:t>
              </a:r>
              <a:br>
                <a:rPr sz="2400"/>
              </a:br>
              <a:r>
                <a:rPr b="1" lang="en-US" sz="2400" spc="-1" strike="noStrike">
                  <a:solidFill>
                    <a:srgbClr val="558f7d"/>
                  </a:solidFill>
                  <a:latin typeface="Arial"/>
                </a:rPr>
                <a:t>Вот и сшили мы обновку,</a:t>
              </a:r>
              <a:br>
                <a:rPr sz="2400"/>
              </a:br>
              <a:r>
                <a:rPr b="1" lang="en-US" sz="2400" spc="-1" strike="noStrike">
                  <a:solidFill>
                    <a:srgbClr val="558f7d"/>
                  </a:solidFill>
                  <a:latin typeface="Arial"/>
                </a:rPr>
                <a:t>Красота какая - глянь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58f7d"/>
                  </a:solidFill>
                  <a:latin typeface="Arial"/>
                </a:rPr>
                <a:t>Для одежды самой разной</a:t>
              </a:r>
              <a:br>
                <a:rPr sz="2400"/>
              </a:br>
              <a:r>
                <a:rPr b="1" lang="en-US" sz="2400" spc="-1" strike="noStrike">
                  <a:solidFill>
                    <a:srgbClr val="558f7d"/>
                  </a:solidFill>
                  <a:latin typeface="Arial"/>
                </a:rPr>
                <a:t>Нам нужна, конечно, ……….</a:t>
              </a:r>
              <a:r>
                <a:rPr b="0" lang="en-US" sz="2400" spc="-1" strike="noStrike">
                  <a:solidFill>
                    <a:srgbClr val="558f7d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50520" y="105264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558f7d"/>
                  </a:solidFill>
                  <a:uFillTx/>
                  <a:latin typeface="Arial"/>
                </a:rPr>
                <a:t>Загадк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800" y="331920"/>
              <a:ext cx="196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a08f5e"/>
                  </a:solidFill>
                  <a:uFillTx/>
                  <a:latin typeface="Arial"/>
                </a:rPr>
                <a:t>Пословиц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Внеклассное мероприятие по физической культуре &quot;Все профессии важны, все профессии нужны&quot;"/>
            <p:cNvPicPr/>
            <p:nvPr/>
          </p:nvPicPr>
          <p:blipFill>
            <a:blip r:embed="rId1"/>
            <a:stretch/>
          </p:blipFill>
          <p:spPr>
            <a:xfrm>
              <a:off x="5003640" y="1052640"/>
              <a:ext cx="2514600" cy="360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4546440" y="3187440"/>
            <a:ext cx="410040" cy="411120"/>
            <a:chOff x="4546440" y="3187440"/>
            <a:chExt cx="410040" cy="411120"/>
          </a:xfrm>
        </p:grpSpPr>
        <p:sp>
          <p:nvSpPr>
            <p:cNvPr id="207" name=""/>
            <p:cNvSpPr/>
            <p:nvPr/>
          </p:nvSpPr>
          <p:spPr>
            <a:xfrm rot="529800">
              <a:off x="4572000" y="3212640"/>
              <a:ext cx="358920" cy="36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29800">
              <a:off x="4714560" y="3286080"/>
              <a:ext cx="73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06920" y="3715560"/>
            <a:ext cx="506880" cy="506520"/>
            <a:chOff x="5506920" y="3715560"/>
            <a:chExt cx="506880" cy="506520"/>
          </a:xfrm>
        </p:grpSpPr>
        <p:sp>
          <p:nvSpPr>
            <p:cNvPr id="210" name=""/>
            <p:cNvSpPr/>
            <p:nvPr/>
          </p:nvSpPr>
          <p:spPr>
            <a:xfrm rot="18612600">
              <a:off x="5580720" y="3788280"/>
              <a:ext cx="358920" cy="36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8612600">
              <a:off x="5724360" y="3861000"/>
              <a:ext cx="73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013360" y="2718360"/>
            <a:ext cx="486000" cy="486360"/>
            <a:chOff x="5013360" y="2718360"/>
            <a:chExt cx="486000" cy="486360"/>
          </a:xfrm>
        </p:grpSpPr>
        <p:sp>
          <p:nvSpPr>
            <p:cNvPr id="213" name=""/>
            <p:cNvSpPr/>
            <p:nvPr/>
          </p:nvSpPr>
          <p:spPr>
            <a:xfrm rot="19923600">
              <a:off x="5076720" y="2781360"/>
              <a:ext cx="358920" cy="36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9923600">
              <a:off x="5220000" y="2854080"/>
              <a:ext cx="73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299640" y="5443200"/>
            <a:ext cx="505800" cy="505440"/>
            <a:chOff x="6299640" y="5443200"/>
            <a:chExt cx="505800" cy="505440"/>
          </a:xfrm>
        </p:grpSpPr>
        <p:sp>
          <p:nvSpPr>
            <p:cNvPr id="216" name=""/>
            <p:cNvSpPr/>
            <p:nvPr/>
          </p:nvSpPr>
          <p:spPr>
            <a:xfrm rot="13850400">
              <a:off x="6373080" y="5515560"/>
              <a:ext cx="358560" cy="36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3850400">
              <a:off x="6516720" y="5587560"/>
              <a:ext cx="7272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 txBox="1"/>
          <p:nvPr/>
        </p:nvSpPr>
        <p:spPr>
          <a:xfrm>
            <a:off x="468360" y="404640"/>
            <a:ext cx="7031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кажи и назови инструменты и материалы для шитья.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5661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740720" y="5667480"/>
            <a:ext cx="1403280" cy="1190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365800" y="544500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a199"/>
                </a:solidFill>
                <a:latin typeface="Arial"/>
              </a:rPr>
              <a:t>и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20319000">
            <a:off x="5879880" y="3713400"/>
            <a:ext cx="1587240" cy="459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8792000">
            <a:off x="4155480" y="2342880"/>
            <a:ext cx="1730520" cy="459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напер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318200">
            <a:off x="4303800" y="3717000"/>
            <a:ext cx="1428840" cy="459720"/>
          </a:xfrm>
          <a:prstGeom prst="rect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бул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47240" y="587700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нитковде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94160" y="436572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2f23"/>
                </a:solidFill>
                <a:latin typeface="Arial"/>
              </a:rPr>
              <a:t>кно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18000">
            <a:off x="5882760" y="2063160"/>
            <a:ext cx="1669680" cy="459720"/>
          </a:xfrm>
          <a:prstGeom prst="rect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пугов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5440" y="47242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413a"/>
                </a:solidFill>
                <a:latin typeface="Arial"/>
              </a:rPr>
              <a:t>ни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59280" y="2781360"/>
            <a:ext cx="2521080" cy="825480"/>
          </a:xfrm>
          <a:prstGeom prst="rect">
            <a:avLst/>
          </a:pr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177"/>
                </a:solidFill>
                <a:latin typeface="Arial"/>
              </a:rPr>
              <a:t>короб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177"/>
                </a:solidFill>
                <a:latin typeface="Arial"/>
              </a:rPr>
              <a:t>для руко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5800" y="508464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4c44"/>
                </a:solidFill>
                <a:latin typeface="Arial"/>
              </a:rPr>
              <a:t>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4716360" y="558936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788000" y="5732640"/>
            <a:ext cx="1443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932360" y="5660640"/>
            <a:ext cx="144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5148000" y="580536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076720" y="573264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445080" y="573264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661080" y="5732640"/>
            <a:ext cx="3603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6444720" y="566064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6805080" y="558936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021440" y="580536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572000" y="573264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868360" y="2276280"/>
            <a:ext cx="504360" cy="504000"/>
            <a:chOff x="5868360" y="2276280"/>
            <a:chExt cx="504360" cy="504000"/>
          </a:xfrm>
        </p:grpSpPr>
        <p:sp>
          <p:nvSpPr>
            <p:cNvPr id="243" name=""/>
            <p:cNvSpPr/>
            <p:nvPr/>
          </p:nvSpPr>
          <p:spPr>
            <a:xfrm rot="13957800">
              <a:off x="5940720" y="2347920"/>
              <a:ext cx="358920" cy="36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3957800">
              <a:off x="6084360" y="2419920"/>
              <a:ext cx="73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764760" y="2885040"/>
            <a:ext cx="438120" cy="436680"/>
            <a:chOff x="6764760" y="2885040"/>
            <a:chExt cx="438120" cy="436680"/>
          </a:xfrm>
        </p:grpSpPr>
        <p:sp>
          <p:nvSpPr>
            <p:cNvPr id="246" name=""/>
            <p:cNvSpPr/>
            <p:nvPr/>
          </p:nvSpPr>
          <p:spPr>
            <a:xfrm rot="4537800">
              <a:off x="6804360" y="2923200"/>
              <a:ext cx="358560" cy="36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4537800">
              <a:off x="6946200" y="2995200"/>
              <a:ext cx="7272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250920" y="1268280"/>
            <a:ext cx="388620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4360" y="1125360"/>
            <a:ext cx="4679640" cy="71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449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Какие опасност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возникаю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при шитье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3720" y="4268880"/>
            <a:ext cx="5336640" cy="7038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8f7d"/>
                </a:solidFill>
                <a:latin typeface="Arial"/>
              </a:rPr>
              <a:t>При работе без напёрстка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8f7d"/>
                </a:solidFill>
                <a:latin typeface="Arial"/>
              </a:rPr>
              <a:t>уколоть пальцы иголками и булав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3284640"/>
            <a:ext cx="4537080" cy="7038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Если неаккуратно обращ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с ножницами, можно порез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2421000"/>
            <a:ext cx="3384360" cy="5814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8f7d"/>
                </a:solidFill>
                <a:latin typeface="Arial"/>
              </a:rPr>
              <a:t>Если взять иголку в рот, ее можно проглот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05280" y="1844640"/>
            <a:ext cx="2789640" cy="10688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Если откус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нитки зуб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можно поранить 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и повредить зу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5157720"/>
            <a:ext cx="7056360" cy="459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Если вколоть в одежду иголку, то можно уколоть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94000" y="3141720"/>
            <a:ext cx="2491200" cy="1008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При уколе ржа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иглой воз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заражение кров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0560" y="5877000"/>
            <a:ext cx="67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605a"/>
                </a:solidFill>
                <a:latin typeface="Arial"/>
              </a:rPr>
              <a:t>При потере иголок и булавок послед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605a"/>
                </a:solidFill>
                <a:latin typeface="Arial"/>
              </a:rPr>
              <a:t>непредсказуемы и очень опас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084720" y="485640"/>
            <a:ext cx="1656000" cy="10573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012000" y="4221000"/>
            <a:ext cx="1224000" cy="976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24000" y="476280"/>
            <a:ext cx="7246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авила безопасности при работе с ножницами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1695960"/>
            <a:ext cx="7488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0000" indent="-93960">
              <a:buClr>
                <a:srgbClr val="558f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Ножницы хранить в определенном мест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в подставке или рабочей короб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ть ножницы сомкнут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звиями от работающ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buClr>
                <a:srgbClr val="558f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Передавая ножницы, держать их за сомкну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лез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ть хорошо отрегулированны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точенными ножни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buClr>
                <a:srgbClr val="558f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Не оставлять ножницы раскрытыми лезв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ить за движением и положением лез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время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buClr>
                <a:srgbClr val="558f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Использовать ножницы только по назна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1944720" cy="1228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79280" y="808200"/>
            <a:ext cx="7618680" cy="58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Иглы хранить в подушечке или игольнице, обвив их нит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Булавки хранить в коробке с плотно закрывающейся крышкой</a:t>
            </a:r>
            <a:r>
              <a:rPr b="0" lang="en-US" sz="2000" spc="-1" strike="noStrike">
                <a:solidFill>
                  <a:srgbClr val="a4c6b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манную иглу не бросать, а класть в специ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денную для этого коро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Знать количество иголок и булав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взятых для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В конце работы проверить их на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558f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работы иголки и булавки вкалывать в подушеч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брать их в рот, не вкалывать в одежду и другие пред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558f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Не шить ржавой иглой. Она плохо проходит в ткан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может слом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558f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креплять выкройки к ткани острыми концами булавок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авлении от себя, чтобы не наколо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558f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Шить только с наперст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оставлять булавки и иголки в готовом издел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260280"/>
            <a:ext cx="7389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авила безопасности при работе с иголками и булавками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651640" y="2205000"/>
            <a:ext cx="146664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35280" y="2060640"/>
            <a:ext cx="3889440" cy="1386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1800" y="260280"/>
            <a:ext cx="6854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411"/>
                </a:solidFill>
                <a:latin typeface="Comic Sans MS"/>
              </a:rPr>
              <a:t>Какие правила техн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411"/>
                </a:solidFill>
                <a:latin typeface="Comic Sans MS"/>
              </a:rPr>
              <a:t>безопасности наруши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411"/>
                </a:solidFill>
                <a:latin typeface="Comic Sans MS"/>
              </a:rPr>
              <a:t>                </a:t>
            </a:r>
            <a:r>
              <a:rPr b="1" lang="en-US" sz="4000" spc="-1" strike="noStrike">
                <a:solidFill>
                  <a:srgbClr val="ed9411"/>
                </a:solidFill>
                <a:latin typeface="Comic Sans MS"/>
              </a:rPr>
              <a:t>портних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22240" y="3570120"/>
            <a:ext cx="311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Целый д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сегодня шью,</a:t>
            </a:r>
            <a:br>
              <a:rPr sz="2400"/>
            </a:b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Одева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всю семью.</a:t>
            </a:r>
            <a:br>
              <a:rPr sz="2400"/>
            </a:b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Погоди немнож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кошка, —</a:t>
            </a:r>
            <a:br>
              <a:rPr sz="2400"/>
            </a:b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Будет и т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одёж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5864400" y="2855880"/>
            <a:ext cx="54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411"/>
                </a:solidFill>
                <a:latin typeface="Arial"/>
              </a:rPr>
              <a:t>ИГРОВАЯ  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809880" cy="516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91880" y="189000"/>
            <a:ext cx="732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9900"/>
                </a:solidFill>
                <a:latin typeface="Comic Sans MS"/>
              </a:rPr>
              <a:t>Подготовим иголку с ниткой</a:t>
            </a:r>
            <a:r>
              <a:rPr b="1" i="1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9900"/>
                </a:solidFill>
                <a:latin typeface="Comic Sans MS"/>
              </a:rPr>
              <a:t>к ши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692280"/>
            <a:ext cx="7632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08f5e"/>
                </a:solidFill>
                <a:latin typeface="Arial"/>
              </a:rPr>
              <a:t>Возьмем катушку хлопчатобумажных ни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ва способа прави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тмерить длину ни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012000" y="1197000"/>
            <a:ext cx="2808000" cy="170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3" name=""/>
          <p:cNvSpPr/>
          <p:nvPr/>
        </p:nvSpPr>
        <p:spPr>
          <a:xfrm>
            <a:off x="250920" y="3716280"/>
            <a:ext cx="676908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ак вдеть нитку в игол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605a"/>
                </a:solidFill>
                <a:latin typeface="Arial"/>
              </a:rPr>
              <a:t>Держите иглу зажатой между большим и указательным пальцами вашей неосновной руки, отверстие игольного ушка должно смотреть на вас. Вставьте нитку в ушк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605a"/>
                </a:solidFill>
                <a:latin typeface="Arial"/>
              </a:rPr>
              <a:t>Протяните нить через ушко, чтобы  образовался свисающий хвостик около 10 см. Это предохраняет нить от выскальзывания из иглы во время ши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560" y="2996280"/>
            <a:ext cx="65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08f5e"/>
                </a:solidFill>
                <a:latin typeface="Arial"/>
              </a:rPr>
              <a:t>Возьмем иглу, ушко которой по разме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08f5e"/>
                </a:solidFill>
                <a:latin typeface="Arial"/>
              </a:rPr>
              <a:t>соответствует толщине используемой нит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989000"/>
            <a:ext cx="54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605a"/>
                </a:solidFill>
                <a:latin typeface="Arial"/>
              </a:rPr>
              <a:t>Отмерим нитку и отрежем ее ножницами. Отрезанный конец покрутим между пальцами – «засучи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942920" cy="1701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7308720" y="3068640"/>
            <a:ext cx="15336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7:00:47Z</dcterms:created>
  <dc:creator>user</dc:creator>
  <dc:description/>
  <dc:language>en-US</dc:language>
  <cp:lastModifiedBy>vas</cp:lastModifiedBy>
  <dcterms:modified xsi:type="dcterms:W3CDTF">2015-05-05T10:42:35Z</dcterms:modified>
  <cp:revision>199</cp:revision>
  <dc:subject/>
  <dc:title>Техника безопасности на уроках технологии</dc:title>
</cp:coreProperties>
</file>