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F4A-F0B9-4612-806C-2C6581BE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0B9-F8F0-4813-82AC-D3F8823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A80-2880-4208-B799-7DDFB5B9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AE1-F7CB-4A2F-A79A-627C0F3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4B30-F12C-4066-80FC-8E21E67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E6D-EBC3-48EC-9796-EB488910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8FA3-1B18-41D8-8CEC-E3A1682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AE5-2A8E-47DA-A7F4-E33AF5C5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ECD-833F-4A62-BABE-972D66B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CC45-9F68-4ED0-8E3E-6D221E29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7684-7DC3-4C37-978A-1C1B9FD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F2C-C36A-4E3A-8AAF-2B53DD1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B5B4-4162-4687-B715-BB382CD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5A18-6B9E-435B-AD07-3ED294B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F56-43AA-4A54-90DE-7D671BA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079-EC80-48AB-8171-B0CA22A0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243F-7297-4CD4-A6BA-66453338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8943-9BA6-44DF-A806-788A79F3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6F5F-4011-45A1-8AC8-CDF87D12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7B68-3C42-4105-BD5B-842B9138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FCE5-A05E-4C16-A45D-4202273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C813-8856-4433-96A1-0F904DE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5BF-B752-4A0E-A53B-C5FBC79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7D07-BAD3-4081-A40D-7EDB1748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3C0D-5AB2-4E99-BC95-BFD2B73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CC83-4F5A-4DD7-BED7-8E2C9C3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06ED-710B-4D1C-BB93-5FD9DB2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F614-AA15-4CC6-AB13-FD1DAE15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639E-0B3C-42AB-BA26-60094D53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7263-7045-409B-BD27-A1307BA6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96AD-0F74-445E-AE2A-3764C591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E53A-B35B-4744-BFD6-D21BF5C6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F8A0-3E6F-46DF-9D7F-9C50B5A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95A-AD12-41A6-934D-FD441E80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5BF3-CFAF-44E4-A3C5-EB25A15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6A3E-0D91-4740-9501-AAB7563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8564-E46E-4099-A691-EC33995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20D6-6E7B-4930-B7D6-B1FF7B3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83D8-F0CE-465E-B8F5-B3B6FBE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EF09-2F4F-4EB1-86C5-03418E1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4419-2E2C-46CD-9717-737A21A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6D18-76B2-487D-8784-9AECD1F7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185F-CBEA-4828-822B-33B63698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CA03C-35FA-4D19-AF8A-46EFFD56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153-88A6-4FF4-9918-40D1FDA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95C2-1378-4CE6-BB02-F47427F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757B-D370-4F2E-ABD9-6E7FAC7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E544-984D-4E46-9CBC-95B44083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9244-8D71-4FA4-AB4D-5ABCA471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0514-88B1-4374-BFFF-AD3B2C9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EFDF-3533-4B97-B117-098E2E9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2AED4-1097-4456-9B45-129483B9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53AA-3969-4AE4-A65A-1228A84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3DBE-55A1-4E31-A5E5-F4CC0FC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CE61-074D-4AA1-B9DF-C91FA48A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821-2600-4D1A-8F2C-48FF4AF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542B-18DC-4859-A0D6-72AE1071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EE4-87BD-42DF-BD35-160BB8D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0E7-902B-49BF-B29B-6B7925D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2C9-7F29-43D6-BE10-424A4BF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657-DF27-46E0-8376-A8BB630B468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F80-8DDA-4D3C-A5ED-C126F08DF73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BFB-240F-4C8A-82D2-EF242818DD5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D75-E87C-48DC-A522-400758CD713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0216-1889-4972-89E0-DEFD8A5A85F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Достопримечательности 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7200" spc="-1" strike="noStrike">
                <a:solidFill>
                  <a:srgbClr val="0082a5"/>
                </a:solidFill>
                <a:latin typeface="Consolas"/>
              </a:rPr>
              <a:t>Лондона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357360" y="5357880"/>
            <a:ext cx="485748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Учитель английского языка</a:t>
            </a:r>
            <a:r>
              <a:rPr b="0" lang="en-US" sz="18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НОУ «Частная школа «ДИПЛОМАТ»Санкт-Петербург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 Караева А. В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6" name="Рисунок 3" descr="uk6.jpg"/>
          <p:cNvPicPr/>
          <p:nvPr/>
        </p:nvPicPr>
        <p:blipFill>
          <a:blip r:embed="rId1"/>
          <a:stretch/>
        </p:blipFill>
        <p:spPr>
          <a:xfrm>
            <a:off x="785880" y="2214720"/>
            <a:ext cx="4143240" cy="293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Вестминстерское аббатство 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(13-19 вв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7" name="Содержимое 3" descr="1875.jpg"/>
          <p:cNvPicPr/>
          <p:nvPr/>
        </p:nvPicPr>
        <p:blipFill>
          <a:blip r:embed="rId1"/>
          <a:stretch/>
        </p:blipFill>
        <p:spPr>
          <a:xfrm>
            <a:off x="857160" y="16430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00.bmp"/>
          <p:cNvPicPr/>
          <p:nvPr/>
        </p:nvPicPr>
        <p:blipFill>
          <a:blip r:embed="rId2"/>
          <a:stretch/>
        </p:blipFill>
        <p:spPr>
          <a:xfrm>
            <a:off x="4857840" y="3929040"/>
            <a:ext cx="3701880" cy="2467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77.bmp"/>
          <p:cNvPicPr/>
          <p:nvPr/>
        </p:nvPicPr>
        <p:blipFill>
          <a:blip r:embed="rId3"/>
          <a:stretch/>
        </p:blipFill>
        <p:spPr>
          <a:xfrm>
            <a:off x="6000840" y="1143000"/>
            <a:ext cx="1714320" cy="257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Лондонский Тауэр (11 век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08" name="Содержимое 5" descr="024_22A.jpg"/>
          <p:cNvPicPr/>
          <p:nvPr/>
        </p:nvPicPr>
        <p:blipFill>
          <a:blip r:embed="rId1"/>
          <a:stretch/>
        </p:blipFill>
        <p:spPr>
          <a:xfrm>
            <a:off x="1428840" y="1643040"/>
            <a:ext cx="6862680" cy="45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a326"/>
                </a:solidFill>
                <a:latin typeface="Consolas"/>
              </a:rPr>
              <a:t>Виндзорский замок (11-13вв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0" name="Содержимое 3" descr="r_p_3c72d77464754b966fb7ad5158919bf0.jpg"/>
          <p:cNvPicPr/>
          <p:nvPr/>
        </p:nvPicPr>
        <p:blipFill>
          <a:blip r:embed="rId1"/>
          <a:stretch/>
        </p:blipFill>
        <p:spPr>
          <a:xfrm>
            <a:off x="1143000" y="1500120"/>
            <a:ext cx="6372360" cy="477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73af"/>
                </a:solidFill>
                <a:latin typeface="Consolas"/>
              </a:rPr>
              <a:t>	</a:t>
            </a:r>
            <a:r>
              <a:rPr b="1" lang="ru-RU" sz="4000" spc="-1" strike="noStrike">
                <a:solidFill>
                  <a:srgbClr val="f273af"/>
                </a:solidFill>
                <a:latin typeface="Consolas"/>
              </a:rPr>
              <a:t>Трафальгарская площад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2" name="Содержимое 3" descr="041.jpg"/>
          <p:cNvPicPr/>
          <p:nvPr/>
        </p:nvPicPr>
        <p:blipFill>
          <a:blip r:embed="rId1"/>
          <a:stretch/>
        </p:blipFill>
        <p:spPr>
          <a:xfrm>
            <a:off x="5000760" y="1714680"/>
            <a:ext cx="3484440" cy="45003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2303.jpg"/>
          <p:cNvPicPr/>
          <p:nvPr/>
        </p:nvPicPr>
        <p:blipFill>
          <a:blip r:embed="rId2"/>
          <a:stretch/>
        </p:blipFill>
        <p:spPr>
          <a:xfrm>
            <a:off x="857160" y="1714680"/>
            <a:ext cx="3483000" cy="45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58d01"/>
                </a:solidFill>
                <a:uFillTx/>
                <a:latin typeface="Consolas"/>
              </a:rPr>
              <a:t>Букенгемский дворец(19 век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5" name="Содержимое 3" descr="5.bmp"/>
          <p:cNvPicPr/>
          <p:nvPr/>
        </p:nvPicPr>
        <p:blipFill>
          <a:blip r:embed="rId1"/>
          <a:stretch/>
        </p:blipFill>
        <p:spPr>
          <a:xfrm>
            <a:off x="1428840" y="1428840"/>
            <a:ext cx="6605640" cy="471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Колесо «</a:t>
            </a:r>
            <a:r>
              <a:rPr b="0" i="1" lang="en-US" sz="4000" spc="-1" strike="noStrike">
                <a:solidFill>
                  <a:srgbClr val="ff0000"/>
                </a:solidFill>
                <a:latin typeface="Consolas"/>
              </a:rPr>
              <a:t>Millenium</a:t>
            </a: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»,</a:t>
            </a:r>
            <a:r>
              <a:rPr b="0" i="1" lang="en-US" sz="4000" spc="-1" strike="noStrike">
                <a:solidFill>
                  <a:srgbClr val="ff0000"/>
                </a:solidFill>
                <a:latin typeface="Consolas"/>
              </a:rPr>
              <a:t> 2000 </a:t>
            </a: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го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7" name="Содержимое 3" descr="458523s528x410_t6.jpg"/>
          <p:cNvPicPr/>
          <p:nvPr/>
        </p:nvPicPr>
        <p:blipFill>
          <a:blip r:embed="rId1"/>
          <a:stretch/>
        </p:blipFill>
        <p:spPr>
          <a:xfrm>
            <a:off x="1500120" y="1643040"/>
            <a:ext cx="650088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eea"/>
                </a:solidFill>
                <a:latin typeface="Consolas"/>
              </a:rPr>
              <a:t>Тоннель под Ла-Маншем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9" name="Содержимое 6" descr="Безымянный.bmp"/>
          <p:cNvPicPr/>
          <p:nvPr/>
        </p:nvPicPr>
        <p:blipFill>
          <a:blip r:embed="rId1"/>
          <a:stretch/>
        </p:blipFill>
        <p:spPr>
          <a:xfrm>
            <a:off x="928800" y="250020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7" descr="8.bmp"/>
          <p:cNvPicPr/>
          <p:nvPr/>
        </p:nvPicPr>
        <p:blipFill>
          <a:blip r:embed="rId2"/>
          <a:stretch/>
        </p:blipFill>
        <p:spPr>
          <a:xfrm>
            <a:off x="5572080" y="1500120"/>
            <a:ext cx="3143160" cy="26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38677"/>
                </a:solidFill>
                <a:latin typeface="Consolas"/>
              </a:rPr>
              <a:t>Часовая башня </a:t>
            </a:r>
            <a:r>
              <a:rPr b="0" lang="en-US" sz="4800" spc="-1" strike="noStrike">
                <a:solidFill>
                  <a:srgbClr val="138677"/>
                </a:solidFill>
                <a:latin typeface="Consolas"/>
              </a:rPr>
              <a:t>Big Be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2" name="Содержимое 3" descr="01.jpg"/>
          <p:cNvPicPr/>
          <p:nvPr/>
        </p:nvPicPr>
        <p:blipFill>
          <a:blip r:embed="rId1"/>
          <a:stretch/>
        </p:blipFill>
        <p:spPr>
          <a:xfrm>
            <a:off x="1143000" y="1500120"/>
            <a:ext cx="2643120" cy="3500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4" descr="r_p_2fdd0a70dbc6dad55857fffcfb868d32.jpg"/>
          <p:cNvPicPr/>
          <p:nvPr/>
        </p:nvPicPr>
        <p:blipFill>
          <a:blip r:embed="rId2"/>
          <a:stretch/>
        </p:blipFill>
        <p:spPr>
          <a:xfrm>
            <a:off x="4857840" y="2428920"/>
            <a:ext cx="2735280" cy="38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58d01"/>
                </a:solidFill>
                <a:latin typeface="Consolas"/>
              </a:rPr>
              <a:t>Вестминстер и Биг Бен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5" name="Содержимое 3" descr="%D0%9B%D0%BE%D0%BD%D0%B4%D0%BE%D0%BD3.jpg"/>
          <p:cNvPicPr/>
          <p:nvPr/>
        </p:nvPicPr>
        <p:blipFill>
          <a:blip r:embed="rId1"/>
          <a:stretch/>
        </p:blipFill>
        <p:spPr>
          <a:xfrm>
            <a:off x="1357200" y="1714680"/>
            <a:ext cx="6491520" cy="472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53:43Z</dcterms:created>
  <dc:creator>user</dc:creator>
  <dc:description/>
  <dc:language>en-US</dc:language>
  <cp:lastModifiedBy>Teacher</cp:lastModifiedBy>
  <dcterms:modified xsi:type="dcterms:W3CDTF">2015-05-08T08:11:46Z</dcterms:modified>
  <cp:revision>18</cp:revision>
  <dc:subject/>
  <dc:title>Лондонский Тауэр (11 век)</dc:title>
</cp:coreProperties>
</file>