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609-E207-4A08-A703-2F275C1F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051-9EDE-4894-844A-9DEEC12B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CCB-F3D0-4E8C-9A43-49B7984E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977-A656-4144-A979-1CEFBC9F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9F71-6A3E-4B8C-9321-7A69C43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B87C-ED9F-4E36-A72F-558E818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3A0-82A3-4E67-950B-B40164D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714-3F30-4A52-A785-1D51584D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B906-0F9C-4BED-B22A-4E6DD36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4338-1AD5-43DF-BDEC-846293F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995-9EEC-4287-909C-2138BCF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F5E-0B4A-45FE-84E9-9DD64650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E176-1861-496D-95C2-BE3A26F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303C-86A9-4CB8-927F-92379CEF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86A9-6988-4E74-AB51-DA4EED6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5A7-42C1-48DE-857E-DFC9DB97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C399-F6E0-47BA-8724-2861CD3C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15D0-2428-4188-B810-6233413B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B7A6-CC3E-4CCF-929E-32AFDEF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B364-D317-40D4-BCB8-0749D19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1CFE-9FB3-4716-9261-FEB546D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F538-5AC2-4DD0-8237-AE8C798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8AC-3092-49B6-B2EB-FCD3C7A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1266-58E9-4F94-8B4E-7CDA5D4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0F49-F281-4362-B0E8-351267A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2A5E-4684-4A2E-9AED-2024383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2A8E-D853-49DD-B921-EFF9FD1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3B57-AB78-48D7-B323-B25E285E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B13D-4EEF-4AED-B0C2-DA773066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A3DC-AA63-4A0C-84A0-931D50B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5CEE-39E7-4ACC-AB06-BFAD6F2F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B152-49E5-41E6-A72A-F7AC30E7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D080-4937-4D78-9394-055AA7A3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5FC-4E89-4224-B28B-5C96168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E9BD-2A84-4C77-A964-4801CBAC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352D-D9E1-42AE-B451-B7313A85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B0E6-AED3-4DEF-8051-E539EA29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7DDD-2B58-4DC4-843D-B300873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D164-5B99-4883-B51A-8360E7A8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7866-C35E-4F83-B7F4-C41D40B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1F7A-15DB-4A18-A123-6670728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D84C-D8B5-4FF1-9B53-40E8C8F0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CC10-F8A8-4DAC-AAD3-A0F15FEC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9205-5E20-43B0-9B8F-1B6FFD01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66D-35AA-4BA3-B0EB-FE1C94D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501E-2AF3-4FB2-9F10-A79725B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6C78-A232-4DB6-B90E-CC99388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B536-CC21-44DE-AB12-7FD52567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4600-D913-4FB1-B748-F7B91A29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668F-E4BA-4BAC-BAB8-A79F994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1D55-E97A-4859-9EFE-1B1ED9E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41F7-DEC2-4E4C-9CF0-E3F5F87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A369-EA91-42CD-9E1B-2AD50F0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58CC-36F3-4832-A4B4-9488533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A926-530A-46B4-A385-8CC9B2E8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9A6-66BA-4DE4-A72C-CD9A9E9B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3E30-DA63-4D1B-B74E-F0F52698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4A2-8A59-4C80-9909-A4D4C59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857-5F25-43A2-B9F0-EE16323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5D6-BBE1-4C41-BC39-627C4DC9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ADB-29EB-4A65-8FA9-1623BD230F6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9B8-97E8-4C91-BF59-D0B056EC971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DB47-7D11-495E-AC0A-A9B61B27476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4E8-13CB-4F7F-84B9-6E92F5988B7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937-F155-4E99-AF5B-080E4DD1840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Достопримечательности 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4800" spc="-1" strike="noStrike">
                <a:solidFill>
                  <a:srgbClr val="0082a5"/>
                </a:solidFill>
                <a:latin typeface="Consolas"/>
              </a:rPr>
              <a:t>	</a:t>
            </a:r>
            <a:r>
              <a:rPr b="0" lang="ru-RU" sz="7200" spc="-1" strike="noStrike">
                <a:solidFill>
                  <a:srgbClr val="0082a5"/>
                </a:solidFill>
                <a:latin typeface="Consolas"/>
              </a:rPr>
              <a:t>Лондона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357360" y="5357880"/>
            <a:ext cx="485748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Учитель английского языка</a:t>
            </a:r>
            <a:r>
              <a:rPr b="0" lang="en-US" sz="18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НОУ «Частная школа «ДИПЛОМАТ»Санкт-Петербург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orbel"/>
                <a:ea typeface="Aharoni"/>
              </a:rPr>
              <a:t> Караева А. В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6" name="Рисунок 3" descr="uk6.jpg"/>
          <p:cNvPicPr/>
          <p:nvPr/>
        </p:nvPicPr>
        <p:blipFill>
          <a:blip r:embed="rId1"/>
          <a:stretch/>
        </p:blipFill>
        <p:spPr>
          <a:xfrm>
            <a:off x="785880" y="2214720"/>
            <a:ext cx="4143240" cy="293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Вестминстерское аббатство 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	</a:t>
            </a:r>
            <a:r>
              <a:rPr b="0" i="1" lang="ru-RU" sz="4000" spc="-1" strike="noStrike">
                <a:solidFill>
                  <a:srgbClr val="007eea"/>
                </a:solidFill>
                <a:latin typeface="Consolas"/>
              </a:rPr>
              <a:t>(13-19 вв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7" name="Содержимое 3" descr="1875.jpg"/>
          <p:cNvPicPr/>
          <p:nvPr/>
        </p:nvPicPr>
        <p:blipFill>
          <a:blip r:embed="rId1"/>
          <a:stretch/>
        </p:blipFill>
        <p:spPr>
          <a:xfrm>
            <a:off x="857160" y="16430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00.bmp"/>
          <p:cNvPicPr/>
          <p:nvPr/>
        </p:nvPicPr>
        <p:blipFill>
          <a:blip r:embed="rId2"/>
          <a:stretch/>
        </p:blipFill>
        <p:spPr>
          <a:xfrm>
            <a:off x="4857840" y="3929040"/>
            <a:ext cx="3701880" cy="2467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77.bmp"/>
          <p:cNvPicPr/>
          <p:nvPr/>
        </p:nvPicPr>
        <p:blipFill>
          <a:blip r:embed="rId3"/>
          <a:stretch/>
        </p:blipFill>
        <p:spPr>
          <a:xfrm>
            <a:off x="6000840" y="1143000"/>
            <a:ext cx="1714320" cy="257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Лондонский Тауэр (11 век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08" name="Содержимое 5" descr="024_22A.jpg"/>
          <p:cNvPicPr/>
          <p:nvPr/>
        </p:nvPicPr>
        <p:blipFill>
          <a:blip r:embed="rId1"/>
          <a:stretch/>
        </p:blipFill>
        <p:spPr>
          <a:xfrm>
            <a:off x="1428840" y="1643040"/>
            <a:ext cx="6862680" cy="45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a326"/>
                </a:solidFill>
                <a:latin typeface="Consolas"/>
              </a:rPr>
              <a:t>Виндзорский замок (11-13вв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0" name="Содержимое 3" descr="r_p_3c72d77464754b966fb7ad5158919bf0.jpg"/>
          <p:cNvPicPr/>
          <p:nvPr/>
        </p:nvPicPr>
        <p:blipFill>
          <a:blip r:embed="rId1"/>
          <a:stretch/>
        </p:blipFill>
        <p:spPr>
          <a:xfrm>
            <a:off x="1143000" y="1500120"/>
            <a:ext cx="6372360" cy="477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73af"/>
                </a:solidFill>
                <a:latin typeface="Consolas"/>
              </a:rPr>
              <a:t>	</a:t>
            </a:r>
            <a:r>
              <a:rPr b="1" lang="ru-RU" sz="4000" spc="-1" strike="noStrike">
                <a:solidFill>
                  <a:srgbClr val="f273af"/>
                </a:solidFill>
                <a:latin typeface="Consolas"/>
              </a:rPr>
              <a:t>Трафальгарская площад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2" name="Содержимое 3" descr="041.jpg"/>
          <p:cNvPicPr/>
          <p:nvPr/>
        </p:nvPicPr>
        <p:blipFill>
          <a:blip r:embed="rId1"/>
          <a:stretch/>
        </p:blipFill>
        <p:spPr>
          <a:xfrm>
            <a:off x="5000760" y="1714680"/>
            <a:ext cx="3484440" cy="45003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2303.jpg"/>
          <p:cNvPicPr/>
          <p:nvPr/>
        </p:nvPicPr>
        <p:blipFill>
          <a:blip r:embed="rId2"/>
          <a:stretch/>
        </p:blipFill>
        <p:spPr>
          <a:xfrm>
            <a:off x="857160" y="1714680"/>
            <a:ext cx="3483000" cy="45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58d01"/>
                </a:solidFill>
                <a:uFillTx/>
                <a:latin typeface="Consolas"/>
              </a:rPr>
              <a:t>Букенгемский дворец(19 век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5" name="Содержимое 3" descr="5.bmp"/>
          <p:cNvPicPr/>
          <p:nvPr/>
        </p:nvPicPr>
        <p:blipFill>
          <a:blip r:embed="rId1"/>
          <a:stretch/>
        </p:blipFill>
        <p:spPr>
          <a:xfrm>
            <a:off x="1428840" y="1428840"/>
            <a:ext cx="6605640" cy="471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Колесо «</a:t>
            </a:r>
            <a:r>
              <a:rPr b="0" i="1" lang="en-US" sz="4000" spc="-1" strike="noStrike">
                <a:solidFill>
                  <a:srgbClr val="ff0000"/>
                </a:solidFill>
                <a:latin typeface="Consolas"/>
              </a:rPr>
              <a:t>Millenium</a:t>
            </a: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»,</a:t>
            </a:r>
            <a:r>
              <a:rPr b="0" i="1" lang="en-US" sz="4000" spc="-1" strike="noStrike">
                <a:solidFill>
                  <a:srgbClr val="ff0000"/>
                </a:solidFill>
                <a:latin typeface="Consolas"/>
              </a:rPr>
              <a:t> 2000 </a:t>
            </a:r>
            <a:r>
              <a:rPr b="0" i="1" lang="ru-RU" sz="4000" spc="-1" strike="noStrike">
                <a:solidFill>
                  <a:srgbClr val="ff0000"/>
                </a:solidFill>
                <a:latin typeface="Consolas"/>
              </a:rPr>
              <a:t>го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7" name="Содержимое 3" descr="458523s528x410_t6.jpg"/>
          <p:cNvPicPr/>
          <p:nvPr/>
        </p:nvPicPr>
        <p:blipFill>
          <a:blip r:embed="rId1"/>
          <a:stretch/>
        </p:blipFill>
        <p:spPr>
          <a:xfrm>
            <a:off x="1500120" y="1643040"/>
            <a:ext cx="650088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eea"/>
                </a:solidFill>
                <a:latin typeface="Consolas"/>
              </a:rPr>
              <a:t>Тоннель под Ла-Маншем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19" name="Содержимое 6" descr="Безымянный.bmp"/>
          <p:cNvPicPr/>
          <p:nvPr/>
        </p:nvPicPr>
        <p:blipFill>
          <a:blip r:embed="rId1"/>
          <a:stretch/>
        </p:blipFill>
        <p:spPr>
          <a:xfrm>
            <a:off x="928800" y="250020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7" descr="8.bmp"/>
          <p:cNvPicPr/>
          <p:nvPr/>
        </p:nvPicPr>
        <p:blipFill>
          <a:blip r:embed="rId2"/>
          <a:stretch/>
        </p:blipFill>
        <p:spPr>
          <a:xfrm>
            <a:off x="5572080" y="1500120"/>
            <a:ext cx="3143160" cy="26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38677"/>
                </a:solidFill>
                <a:latin typeface="Consolas"/>
              </a:rPr>
              <a:t>Часовая башня </a:t>
            </a:r>
            <a:r>
              <a:rPr b="0" lang="en-US" sz="4800" spc="-1" strike="noStrike">
                <a:solidFill>
                  <a:srgbClr val="138677"/>
                </a:solidFill>
                <a:latin typeface="Consolas"/>
              </a:rPr>
              <a:t>Big Be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2" name="Содержимое 3" descr="01.jpg"/>
          <p:cNvPicPr/>
          <p:nvPr/>
        </p:nvPicPr>
        <p:blipFill>
          <a:blip r:embed="rId1"/>
          <a:stretch/>
        </p:blipFill>
        <p:spPr>
          <a:xfrm>
            <a:off x="1143000" y="1500120"/>
            <a:ext cx="2643120" cy="3500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4" descr="r_p_2fdd0a70dbc6dad55857fffcfb868d32.jpg"/>
          <p:cNvPicPr/>
          <p:nvPr/>
        </p:nvPicPr>
        <p:blipFill>
          <a:blip r:embed="rId2"/>
          <a:stretch/>
        </p:blipFill>
        <p:spPr>
          <a:xfrm>
            <a:off x="4857840" y="2428920"/>
            <a:ext cx="2735280" cy="38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58d01"/>
                </a:solidFill>
                <a:latin typeface="Consolas"/>
              </a:rPr>
              <a:t>Вестминстер и Биг Бен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25" name="Содержимое 3" descr="%D0%9B%D0%BE%D0%BD%D0%B4%D0%BE%D0%BD3.jpg"/>
          <p:cNvPicPr/>
          <p:nvPr/>
        </p:nvPicPr>
        <p:blipFill>
          <a:blip r:embed="rId1"/>
          <a:stretch/>
        </p:blipFill>
        <p:spPr>
          <a:xfrm>
            <a:off x="1357200" y="1714680"/>
            <a:ext cx="6491520" cy="472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53:43Z</dcterms:created>
  <dc:creator>user</dc:creator>
  <dc:description/>
  <dc:language>en-US</dc:language>
  <cp:lastModifiedBy>Teacher</cp:lastModifiedBy>
  <dcterms:modified xsi:type="dcterms:W3CDTF">2015-05-08T08:11:46Z</dcterms:modified>
  <cp:revision>18</cp:revision>
  <dc:subject/>
  <dc:title>Лондонский Тауэр (11 век)</dc:title>
</cp:coreProperties>
</file>