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91E-47E3-4CBC-A0D2-CD368C34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EC7-07FA-407C-B2D5-7D13EB94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9D42B-CDC4-43C8-8499-DD4D52D6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1F73EB-B669-44CB-9E85-2D4047B3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88B08-F80E-4DFB-87DD-7B5E7D5D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720D8-B874-4B11-B995-943D2920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0AA25-9A12-4013-87B7-A19D1FAA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4E658-35FE-4B5A-8AA5-3CEC4530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D2BE3-7E80-4FB6-A095-BF097731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E3410-AA1A-44C8-9506-856EAF65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5C56A-1859-4105-AB6B-2C5AD786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D083A-B975-42F5-A2FA-D7325B4F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BFE-42F3-4E73-A2A0-5CCA3843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C4AC7-0B96-47E2-86E4-B869B0B4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C0677-E2E7-4327-BBE8-66136537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E6DEB-C490-4236-8AEB-44F0BEBD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E10AE0-321F-4A2F-9908-78F867D3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6B80FE-B4E0-4CBC-8F2E-86882411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B42A0F-A1B8-4520-962B-A3970395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CE16D7-9077-49F7-9B08-52EBA7C0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97A4A-7A7C-4606-B7FB-8F291A45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6600E-66BE-4A1D-ADE0-7E10D49E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7998A6-30DD-4789-846C-77AC5205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F415-BE9F-40F4-B8AB-D0A34242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2159E-705C-44B9-964E-E9F47959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989AE-287B-41D7-9C61-F3F4B789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91DB1-440A-4EBE-8DDC-3CC9FE7D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B1D38-F4DB-4649-91F6-287E82A2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E3913-EECB-4401-8B03-98ABD9F7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E6B26-D762-492A-808E-6FCEC871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EEDB8-B233-431B-A347-2D2052B1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986F3-00B8-4C22-94EF-D345420E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80CF5-B572-45B0-A065-5CB9BD15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74DBF-883E-4EA4-9686-5CFF3A5E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033A-EEC3-4A48-8D62-9450C688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C0FD7-C2E6-4E8A-93B4-6FED25EE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9BFBC-0338-4B7D-957F-F4E1792B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7567D-CB24-4769-A108-4EF21405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09E0B2-5F22-4924-9E97-3C758AA8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E14EC9-D0CD-4EF1-AD74-5BD29584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3C69B-3F3F-4E84-B458-CAE06CDB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5203A-AE80-44F3-94D5-62C158F7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0CF41-DBA5-48B5-870E-D6CF5CE8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AED4A-0C11-4B30-996F-411D17B4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80EB0-F076-4837-A5D6-BC9D571F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8F52-9722-4C40-BBBB-36974EAE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F80959-AF8A-46B8-A146-8D379914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0C2AA8-5361-46EF-9400-16ECBE10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1E8B1-C126-4B6F-A2E0-D034CCAC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46319-A2DA-4CDC-907A-F4C68B0D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75839-1441-4B05-9D16-CC99DCCD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5865-05CD-4CFE-A8D1-6AFADAC5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D472-EE2C-40FF-ACA6-6040CB22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20DE-04DC-4DE5-BD67-94ED605C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9621-CF3A-49C6-AE4F-1E5F2650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5E72-1E76-48A3-B22F-CF3E80DE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7764-31AE-4523-86C0-26F74927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58CB-1C7F-41D9-88AB-546CAACB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3E5A-B183-4E7A-B4EC-C65DE5CF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9030-52B6-4535-AFF1-4F31F68B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ACFE-EDB4-4C1D-BEFC-81E50830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80E8-07E0-4075-A3D8-EF588FFA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C432-C082-4589-80D1-79F851D0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2508E-6157-4A9E-8AE2-1C80D656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E5EC9-C4E8-4AE1-A419-50278D5F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48A13-5415-45C0-BA1A-D58E7F2A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D3DEE-8598-4DA0-A4C4-ADAA3D48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26CC-9BF0-4E76-8B5E-84CEFD6D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1AE4-22BF-4FF9-B692-F81CB22B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8E18F-4892-48F5-9786-A4396F57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58B90-3256-425A-AD5E-C6F3C28E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40DC7-E3B2-45F9-8DA9-60EC4470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1E519-5E01-4FD0-B788-6DDB3AE8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4BEB5-E3C5-4A3E-A3D6-AC690198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7B88E-FEC8-4147-B062-38E571F5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75F6C-6268-4CF7-9681-5099ACE6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91993-F329-48FF-9D03-A3C09847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83D0B-EDCB-4810-955B-B7365914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D52-E5AA-4B8F-9CDE-5D6ED3D4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323F0-657C-4999-852E-5A1F12E0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494EB-24C6-4061-80AD-4CC532B3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6DA96-C84A-4CED-B636-8CB1B1CB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F977E-E02E-45F4-B3EE-8DFCB9BB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6EC68-8BCC-4CE8-8BF5-6BC69BB0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176A2-DD5D-43B5-BF9D-A0E702B8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5C2E8-2411-497E-AA37-86122766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3A26B-58DA-4158-A074-04F6242C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7654D-585D-4817-9AFB-B82F663B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C4445-3E1A-4735-8336-C93F3F09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73E-01EF-44F1-93BB-384A84F5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D7D9B-23B3-4E77-85E9-26774937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71203-449D-41AF-BF08-D0E3AA67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83D3D-AB21-47F6-BAB4-62B9182E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F5134-8CD9-4226-BC34-38C28913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91A47-2B64-475A-91B3-3F632204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123C0-71A6-47C4-9E01-CB524AA6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FF9F5-BB64-4D4C-B3D6-1F7EDDB6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75E64-A869-4775-8B16-44E92C44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49868-1DB7-4779-9BF0-2ED8685F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921D8-50FE-42EB-9E17-01CCA611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4C8-4D99-4355-ABB2-4E7354B6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287BC-26EF-4DAC-AF86-701168A3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B5EE5-EAA8-45F5-AC66-9B0CCFDA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3545F-C683-4E86-8A74-69E46B86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6357D-7E3D-474D-9E0D-C41D5BA6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3E278-598F-4B87-B65C-08EF7D83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3144D-E3D0-4EFF-8D30-36183E48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902D1-B95D-4233-8BAD-DFD15D11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B9611-CC16-4C8F-BE78-03064BCE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A5900-79DF-4229-AC78-A98C4C94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3FEA8-592A-4D3C-9105-EB7F73AA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CE4-2937-479E-8977-AF9D3B77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D7901-2AF9-4BB2-8B6A-18B06016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AF0DA-C237-4578-9A3B-BD72F6D4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B166A-3A78-488A-A357-E6D03D71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6D887-4A15-434A-8957-0EB9F3AE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93B1F-FB79-4228-9A97-B58B9BF1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393C8-E035-4D4E-A496-9E597709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31C9D-D09F-499A-9C9E-B868132B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E46B2-B7C9-42EE-A434-D0587A82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750A3-B56E-4A32-BF40-47FB3137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CBB21-34B4-4C94-B820-D095A73A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B8F-CAD5-4C3C-9A58-B395EB5E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97250-4B3B-4988-8571-9C97C342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41848-C976-40EC-B04F-F9F5678E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856CE-9F9F-49D2-B7AA-CFAADC8F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7F271-4C41-4BF9-9858-8BD3EC11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79F1C-8621-44A1-98F1-9725636D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51AE8-12AF-42AC-AAE5-CE822EE7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088B5-CF1E-4963-BE39-4D479B60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8A072-513B-420A-9397-2E96AB9B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D313C-22F3-4832-8BBF-C389F7A6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5A87E-159E-400C-8413-6C8AE829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95FD-6199-4713-BBC5-602ABD63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129A0-D845-4A6D-ADA7-F7B6F6CF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EAE08-EA44-495A-AE36-16F11261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6E40B-EF84-4B02-9644-5B1E55B3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06B53-8DC1-479F-BD51-AFECF553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2B74E-D906-4ABC-9D45-E4531F34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E0644-F846-4578-8F5F-BDAD079A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F5D61-8BC9-4C0D-9AD6-707F522D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DEF07C-EECF-4829-B493-56F67109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DC77F-B4BB-445B-8ACB-65B05DAF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B886A-5022-4000-B000-941FA161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6340-E579-4A5B-9593-F48DD334BB15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9D1F-63B7-49AC-8D28-2B77CA3046C1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26A6-BF01-4EF4-83F2-F86F40103BA4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6E3B-7464-420D-B2AC-D22651696FE7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C95D-972C-4137-B694-E2B54365C40D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B948-CBE2-459A-9956-BCBFEC55EC19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DEFE-19CD-4038-B530-CD765D311872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575f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F469-4F2E-404A-A06A-EC7D568C845A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575f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01ED-0E52-4AEE-8344-5EA68DC6686F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BD7A-B995-4216-AAEF-10731255592C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CCFD-1097-40B6-8F80-CA8DDC9F09FF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d2512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A14C-8E09-498B-AAAF-0B42050AE3D4}" type="slidenum">
              <a:rPr b="0" lang="ru-RU" sz="1600" spc="-1" strike="noStrike">
                <a:solidFill>
                  <a:srgbClr val="9d2512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24000" y="5589720"/>
            <a:ext cx="849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УЧИТЕЛЬ ТРУДОВОГО ОБУЧЕН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ГОНЧАРОВА ЕЛЕНА  ГАВРИИЛОВ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395280" y="1820880"/>
            <a:ext cx="8353440" cy="369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000" spc="-1" strike="noStrike" u="sng">
                <a:solidFill>
                  <a:srgbClr val="fe8637"/>
                </a:solidFill>
                <a:uFillTx/>
                <a:latin typeface="Times New Roman"/>
                <a:ea typeface="Times New Roman"/>
              </a:rPr>
              <a:t>Мастер – класс (</a:t>
            </a:r>
            <a:r>
              <a:rPr b="1" lang="en-US" sz="4000" spc="-1" strike="noStrike" u="sng">
                <a:solidFill>
                  <a:srgbClr val="fe8637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ru-RU" sz="4000" spc="-1" strike="noStrike" u="sng">
                <a:solidFill>
                  <a:srgbClr val="fe8637"/>
                </a:solidFill>
                <a:uFillTx/>
                <a:latin typeface="Times New Roman"/>
                <a:ea typeface="Times New Roman"/>
              </a:rPr>
              <a:t> часть)</a:t>
            </a:r>
            <a:br>
              <a:rPr sz="4000"/>
            </a:br>
            <a:r>
              <a:rPr b="1" lang="ru-RU" sz="40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«День Победы – </a:t>
            </a:r>
            <a:br>
              <a:rPr sz="4000"/>
            </a:br>
            <a:r>
              <a:rPr b="1" lang="ru-RU" sz="40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день красных гвоздик»</a:t>
            </a:r>
            <a:br>
              <a:rPr sz="4000"/>
            </a:br>
            <a:r>
              <a:rPr b="1" lang="ru-RU" sz="40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(</a:t>
            </a:r>
            <a:r>
              <a:rPr b="1" i="1" lang="ru-RU" sz="40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изготовление цветов – гвоздик </a:t>
            </a:r>
            <a:br>
              <a:rPr sz="4000"/>
            </a:br>
            <a:r>
              <a:rPr b="1" i="1" lang="ru-RU" sz="4000" spc="-1" strike="noStrike">
                <a:solidFill>
                  <a:srgbClr val="fe8637"/>
                </a:solidFill>
                <a:latin typeface="Times New Roman"/>
                <a:ea typeface="Times New Roman"/>
              </a:rPr>
              <a:t>из крепированной бумаги)</a:t>
            </a:r>
            <a:endParaRPr b="0" lang="en-US" sz="40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08" name="Прямоугольник 3"/>
          <p:cNvSpPr/>
          <p:nvPr/>
        </p:nvSpPr>
        <p:spPr>
          <a:xfrm>
            <a:off x="539640" y="40464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КОУ «Курская специ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ррекционная) общеобразовательная школ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Правила техники безопасности при работе ножницами</a:t>
            </a: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ниц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стрый инструмент. Пользоваться ножницами над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ть ножницы в определённом мест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ержать ножницы острыми концами вверх, передавать кольцами вперё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оставлять ножницы на рабочем месте раскрыты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Срезаем выступающую часть так,</a:t>
            </a:r>
            <a:br>
              <a:rPr sz="3200"/>
            </a:br>
            <a:r>
              <a:rPr b="1" lang="ru-RU" sz="32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 чтобы получился треугольник</a:t>
            </a: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pic>
        <p:nvPicPr>
          <p:cNvPr id="636" name="Picture 4" descr="C:\Users\Елена\Desktop\Мастер-класс\DSC01845.JPG"/>
          <p:cNvPicPr/>
          <p:nvPr/>
        </p:nvPicPr>
        <p:blipFill>
          <a:blip r:embed="rId1"/>
          <a:srcRect l="5415" t="3795" r="3633" b="4858"/>
          <a:stretch/>
        </p:blipFill>
        <p:spPr>
          <a:xfrm>
            <a:off x="2124000" y="1773360"/>
            <a:ext cx="5256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4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d2512"/>
                </a:solidFill>
                <a:latin typeface="Georgia"/>
              </a:rPr>
              <a:t> </a:t>
            </a:r>
            <a:br>
              <a:rPr sz="3300"/>
            </a:br>
            <a:br>
              <a:rPr sz="3300"/>
            </a:br>
            <a:r>
              <a:rPr b="1" lang="ru-RU" sz="32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Разворачиваем треугольник на один сгиб. И обрезаем по краям специальными ножницами</a:t>
            </a:r>
            <a:br>
              <a:rPr sz="3200"/>
            </a:b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pic>
        <p:nvPicPr>
          <p:cNvPr id="638" name="Picture 4" descr="C:\Users\Елена\Desktop\Мастер-класс\DSC01847.JPG"/>
          <p:cNvPicPr/>
          <p:nvPr/>
        </p:nvPicPr>
        <p:blipFill>
          <a:blip r:embed="rId1"/>
          <a:srcRect l="0" t="0" r="3633" b="4854"/>
          <a:stretch/>
        </p:blipFill>
        <p:spPr>
          <a:xfrm>
            <a:off x="1835280" y="1773360"/>
            <a:ext cx="53481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Предлагаю вам сделать красивый букет из гвоздик. Гвоздики мы будем делать красного цвета, как раз такой букетик подойдет к любому празднику. </a:t>
            </a:r>
            <a:br>
              <a:rPr sz="2000"/>
            </a:br>
            <a:r>
              <a:rPr b="1" lang="ru-RU" sz="20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Ребята, какой </a:t>
            </a:r>
            <a:r>
              <a:rPr b="1" lang="ru-RU" sz="2000" spc="-1" strike="noStrike" u="sng">
                <a:solidFill>
                  <a:srgbClr val="9d2512"/>
                </a:solidFill>
                <a:uFillTx/>
                <a:latin typeface="Times New Roman"/>
                <a:ea typeface="Times New Roman"/>
              </a:rPr>
              <a:t>праздник </a:t>
            </a:r>
            <a:r>
              <a:rPr b="1" lang="ru-RU" sz="20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мы будем скоро отмечать?</a:t>
            </a:r>
            <a:br>
              <a:rPr sz="2000"/>
            </a:br>
            <a:endParaRPr b="0" lang="en-US" sz="2000" spc="-1" strike="noStrike">
              <a:solidFill>
                <a:srgbClr val="9d2512"/>
              </a:solidFill>
              <a:latin typeface="Georgia"/>
            </a:endParaRPr>
          </a:p>
        </p:txBody>
      </p:sp>
      <p:pic>
        <p:nvPicPr>
          <p:cNvPr id="610" name="Picture 2" descr="F:\9 мая\70letpobedy.jpg"/>
          <p:cNvPicPr/>
          <p:nvPr/>
        </p:nvPicPr>
        <p:blipFill>
          <a:blip r:embed="rId1"/>
          <a:stretch/>
        </p:blipFill>
        <p:spPr>
          <a:xfrm>
            <a:off x="1476360" y="1844640"/>
            <a:ext cx="6257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18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«День победы- день красных гвоздик»</a:t>
            </a:r>
            <a:br>
              <a:rPr sz="3200"/>
            </a:b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628640"/>
            <a:ext cx="850428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победы – день красных гвозди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похожих на капельки кров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ь тем, кто почётно погиб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память – клочок острой бол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авая себя на войн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люди служили Отчизне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люди служили семь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Победы – День торжества жизни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Маршал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Значение красного цвета</a:t>
            </a: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й - цвет красоты, жизни, огня, мужеств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м Египте им окрашивались изображения мужчин и богов, красный бог солнца в Каббале - строг и непреклонен, у масон он - цвет борьбы, в Древнем Риме красный был цветом Марса - бога войны, в древних обществах им наделяли шаманов, в христианстве - символ крови Иисуса, святых мучеников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вропе он ассоциировался с активными действиями, страстностью, воле к победе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же "красный" означал "красивый"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их широтах до сих пор часто ассоциируется  с советской символикой, где выступал как цвет революции, революционных войск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асная гвоздика - символ отваги и заслуг перед Отечество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Для создания цветов нам потребуется</a:t>
            </a:r>
            <a:endParaRPr b="0" lang="en-US" sz="36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реповая (гофрированная) бумаг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ревянные шпаж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котч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жниц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лей П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C:\Users\Елена\Desktop\Мастер-класс\DSC01838.JPG"/>
          <p:cNvPicPr/>
          <p:nvPr/>
        </p:nvPicPr>
        <p:blipFill>
          <a:blip r:embed="rId1"/>
          <a:stretch/>
        </p:blipFill>
        <p:spPr>
          <a:xfrm>
            <a:off x="5305320" y="1693800"/>
            <a:ext cx="3029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188640"/>
            <a:ext cx="85345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Для одной гвоздики нам потребуется 4 листика крепированной бумаги красного цвета </a:t>
            </a:r>
            <a:br>
              <a:rPr sz="2400"/>
            </a:br>
            <a:r>
              <a:rPr b="1" lang="ru-RU" sz="24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размерами         10х10 см</a:t>
            </a:r>
            <a:endParaRPr b="0" lang="en-US" sz="2400" spc="-1" strike="noStrike">
              <a:solidFill>
                <a:srgbClr val="9d2512"/>
              </a:solidFill>
              <a:latin typeface="Georgia"/>
            </a:endParaRPr>
          </a:p>
        </p:txBody>
      </p:sp>
      <p:pic>
        <p:nvPicPr>
          <p:cNvPr id="619" name="Picture 4" descr="C:\Users\Елена\Desktop\Мастер-класс\DSC01839.JPG"/>
          <p:cNvPicPr/>
          <p:nvPr/>
        </p:nvPicPr>
        <p:blipFill>
          <a:blip r:embed="rId1"/>
          <a:srcRect l="2363" t="5371" r="0" b="4857"/>
          <a:stretch/>
        </p:blipFill>
        <p:spPr>
          <a:xfrm>
            <a:off x="1619280" y="1844640"/>
            <a:ext cx="5743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Складываем квадрат пополам. Затем ещё раз складываем пополам. Получился квадрат размером 5х5см </a:t>
            </a:r>
            <a:endParaRPr b="0" lang="en-US" sz="2400" spc="-1" strike="noStrike">
              <a:solidFill>
                <a:srgbClr val="9d2512"/>
              </a:solidFill>
              <a:latin typeface="Georgia"/>
            </a:endParaRPr>
          </a:p>
        </p:txBody>
      </p:sp>
      <p:pic>
        <p:nvPicPr>
          <p:cNvPr id="621" name="Picture 4" descr="C:\Users\Елена\Desktop\Мастер-класс\DSC01841.JPG"/>
          <p:cNvPicPr/>
          <p:nvPr/>
        </p:nvPicPr>
        <p:blipFill>
          <a:blip r:embed="rId1"/>
          <a:srcRect l="3341" t="0" r="3124" b="6424"/>
          <a:stretch/>
        </p:blipFill>
        <p:spPr>
          <a:xfrm>
            <a:off x="324000" y="220500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C:\Users\Елена\Desktop\Мастер-класс\DSC01842.JPG"/>
          <p:cNvPicPr/>
          <p:nvPr/>
        </p:nvPicPr>
        <p:blipFill>
          <a:blip r:embed="rId2"/>
          <a:stretch/>
        </p:blipFill>
        <p:spPr>
          <a:xfrm>
            <a:off x="4800600" y="219708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65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енный квадратик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гибаем по диагонал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790880" y="1412640"/>
            <a:ext cx="4041720" cy="84276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жний край поднимаем вверх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Сложили 4 квадратика</a:t>
            </a: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pic>
        <p:nvPicPr>
          <p:cNvPr id="626" name="Picture 4" descr="C:\Users\Елена\Desktop\Мастер-класс\DSC01843.JPG"/>
          <p:cNvPicPr/>
          <p:nvPr/>
        </p:nvPicPr>
        <p:blipFill>
          <a:blip r:embed="rId1"/>
          <a:stretch/>
        </p:blipFill>
        <p:spPr>
          <a:xfrm>
            <a:off x="301680" y="2863800"/>
            <a:ext cx="4041720" cy="30337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" descr="C:\Users\Елена\Desktop\Мастер-класс\DSC01844.JPG"/>
          <p:cNvPicPr/>
          <p:nvPr/>
        </p:nvPicPr>
        <p:blipFill>
          <a:blip r:embed="rId2"/>
          <a:stretch/>
        </p:blipFill>
        <p:spPr>
          <a:xfrm>
            <a:off x="4800600" y="2867040"/>
            <a:ext cx="4038480" cy="3030480"/>
          </a:xfrm>
          <a:prstGeom prst="rect">
            <a:avLst/>
          </a:prstGeom>
          <a:ln w="0">
            <a:noFill/>
          </a:ln>
        </p:spPr>
      </p:pic>
      <p:sp>
        <p:nvSpPr>
          <p:cNvPr id="628" name="5-конечная звезда 8"/>
          <p:cNvSpPr/>
          <p:nvPr/>
        </p:nvSpPr>
        <p:spPr>
          <a:xfrm>
            <a:off x="7885080" y="189000"/>
            <a:ext cx="914400" cy="914400"/>
          </a:xfrm>
          <a:prstGeom prst="pie">
            <a:avLst/>
          </a:prstGeom>
          <a:solidFill>
            <a:srgbClr val="fe8637"/>
          </a:solidFill>
          <a:ln w="11520">
            <a:solidFill>
              <a:srgbClr val="bb612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Тб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d2512"/>
                </a:solidFill>
                <a:latin typeface="Times New Roman"/>
                <a:ea typeface="Times New Roman"/>
              </a:rPr>
              <a:t>ЗАГАДКА</a:t>
            </a: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конца, два кольца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 середине гвоздик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и тот насквоз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НИЦ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Содержимое 11" descr="Рисунок9.gif"/>
          <p:cNvPicPr/>
          <p:nvPr/>
        </p:nvPicPr>
        <p:blipFill>
          <a:blip r:embed="rId1"/>
          <a:stretch/>
        </p:blipFill>
        <p:spPr>
          <a:xfrm>
            <a:off x="4932360" y="3357720"/>
            <a:ext cx="2465280" cy="2465280"/>
          </a:xfrm>
          <a:prstGeom prst="rect">
            <a:avLst/>
          </a:prstGeom>
          <a:ln w="0">
            <a:noFill/>
          </a:ln>
        </p:spPr>
      </p:pic>
      <p:sp>
        <p:nvSpPr>
          <p:cNvPr id="632" name="5-конечная звезда 4"/>
          <p:cNvSpPr/>
          <p:nvPr/>
        </p:nvSpPr>
        <p:spPr>
          <a:xfrm>
            <a:off x="7885080" y="260280"/>
            <a:ext cx="914400" cy="914400"/>
          </a:xfrm>
          <a:prstGeom prst="pie">
            <a:avLst/>
          </a:prstGeom>
          <a:solidFill>
            <a:srgbClr val="fe8637"/>
          </a:solidFill>
          <a:ln w="11520">
            <a:solidFill>
              <a:srgbClr val="bb612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Тб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3T19:23:43Z</dcterms:created>
  <dc:creator>Елена</dc:creator>
  <dc:description/>
  <dc:language>en-US</dc:language>
  <cp:lastModifiedBy>Елена</cp:lastModifiedBy>
  <dcterms:modified xsi:type="dcterms:W3CDTF">2015-05-08T13:40:12Z</dcterms:modified>
  <cp:revision>66</cp:revision>
  <dc:subject/>
  <dc:title>Мастер – класс по изготовлению цветка – гвоздика из крепированной бумаги</dc:title>
</cp:coreProperties>
</file>