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035-97DA-45C2-9432-94F645E9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D3B-8342-41FA-A726-B23A994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2789C-75B6-4BF0-A9CA-A85D2EFF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1D042-D5C6-4478-BF39-C814F6CF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C8AAD-593C-453B-8CCC-CC3FFB28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ADAFE-F8F0-4973-A0F7-0445682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32849-650B-47D3-9110-AAEB36A8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AF271-2F54-4A49-AB93-65E3336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CBDA8-9A11-4219-9FB8-25EDF2F5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E50EB-7F40-4998-BA47-E403CACA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C5723-FA50-4C58-BCCA-73555C40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FE992-0D00-436A-A443-4C3C0D1E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CF3-AD19-4994-A322-6575A7D1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E29F9-2094-4B49-880D-954C17A0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C6064-890B-49C5-B8EF-D9B0E25E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7BFFE-7A2A-4452-81D2-2A7B659D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2BBCB-2B22-4A5F-BE5C-0D3D4CA9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5C6B6-E412-4040-8865-B83CFC1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61542-D951-46E7-A5CF-49911BB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F5026-1D96-4239-B966-8F33D82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37CA8-6059-4799-AD2C-C8F7804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568FF-26ED-43AD-A243-B039233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E31F8-AFF8-4C0A-A5C2-6905A097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9E1-F658-4274-A89E-0B97E9B0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17B85-D025-4B14-87C2-6763F89E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C2364-860C-46A6-8A87-85227F6E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DA687-5812-4CA5-95A9-98749E9B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37FD2-9DD6-405C-A299-1CBE3126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A4868-756B-42F0-AA56-A1521A11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9FEA4-33C4-453F-B80D-BC2731CD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CE710-2196-4707-95C9-2C7B09F4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4D104-A88D-4DF9-BB0F-A0E7C2C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6D338-E1F4-43BB-A9D0-209E0F1D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EAF3A-3F82-43EF-90EF-4962ECB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6045-EC13-4172-9F7E-6A75857F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579F2-24A0-4349-81ED-F9499EEC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F512F-1EB7-44EA-B807-C53DA22E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DC14E-8090-478D-947B-F49E646F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76810-A4DB-4B1F-9F10-39CB4C16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29A85-7C30-40B2-B494-8A5101D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635DB-7F56-4C96-B26A-D7D7F0B7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F9EA2-70DC-45CF-B60A-1E0FBBDC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DB157-F027-4D53-BA57-9F2A1A21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83037-FF77-4F45-B47B-D71F0D5B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6B568-EAD6-4BE0-A771-28B27D4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6784-21AF-49C1-A681-0C2FB39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86453-B8F2-4672-B7CF-CDEB330B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9F001-50E5-485C-BCD2-B7019D80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9B335-B79E-4F31-820B-B8FDA1BF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AE46A-A800-44B5-A661-910F8CFD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217FF-0769-4653-8B4C-EF21806F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A990-6EC2-4CE0-A8B3-9A9955FF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928F-D57F-4843-9D3E-ABC9E284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EE48-4D92-4AAF-8291-93B05055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38B5-3D7E-4ED0-A0CA-E6B55680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258-151B-4D86-9BA6-244AB17F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652-FE5F-4C9E-A89C-D27D8A60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0ECA-1A72-4EBD-A2EE-6135386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1F0F-3D0D-4536-899C-CC671543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5001-61B6-4395-A976-2558117F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C25A-85E7-4D4E-A315-2144F094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4654-FD61-4626-A823-3E5C177C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58C1-F8D1-4A7A-BD7B-EEF2324A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5695-554B-400E-A424-E9B4B980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8C55-D327-4DA9-B3B9-E817BFB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4D5C-4B75-469C-9362-158FEF15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4A14-F2FE-4302-A8A1-657A25C0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19A-8FB1-4817-85FD-55732E9F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094C-F56E-4976-87BF-D8508E65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522E-686E-49B4-90E1-1A4CF9A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E588-C3D0-457B-9EC3-DCA68333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73C3-B826-4DDB-94AD-A84651ED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AF9C-CEF5-4E88-96AC-F3B96020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644E-3D4D-4C59-AA42-105ED709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8A7E-8925-4960-B04B-FB40F378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3EA8-F550-4142-9C25-D55FB539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332D-1CEF-454A-B607-EA4BAA6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E511-257A-463E-99E8-21D7CED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A4D-C2EE-4C8F-82A0-DB44BB89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8B7C8-0FB5-498C-A43A-31AEECD6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F630-C6BC-4F7C-9F82-FBD52551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B963-7576-47B1-BDEF-D5823AE2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F5B0-9A54-4D5E-ACF7-4E72793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F6927-77F1-475E-95AD-F290D83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2AA0-F6E4-41E6-8FB3-E9348A15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8C0D-BF63-4842-9182-F72AF9A3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7F96-D592-4E22-A15F-568C3423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1567-C1AC-4EE7-A223-0DDD4672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A9F61-14C0-4855-BCCF-BBE0E52D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C03-16A4-4C11-B9A9-D996FBF4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4553E-EBD6-457C-A57A-1AF070AB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227C-7168-403F-9E53-6AA05EE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6A91D-C1F3-4F9D-9AFE-D21435BA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C5FB-6136-4F62-8F29-47631F86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AD680-0D38-43C7-BD65-1EC11BB7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97FEA-BBF5-46E2-958E-C9E4DA1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8FFCF-D4CC-4BAD-ABC2-3AE513E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46881-3F3C-44F0-A780-0D44A49C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EE55-9DAC-4219-9F19-2C5762CC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90F9-0B03-4557-B729-BFB6894D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94A-05E8-47F0-8794-FA63D03C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0E56-6242-45CE-B7A2-CDDA603B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590CA-60E4-42C1-ABC4-6A541667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9557-4364-4D62-B886-A2C6A3D4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260E6-EF3E-4E87-8C67-DFAF0DEA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D9A4D-AF06-4DE5-9BBA-578ABC0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A1423-3049-4123-8081-0BD5838D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14859-1287-46B6-862A-15DEB0F2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3D91E-6024-4EC5-8006-D2C16914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252FB-F9BA-4641-91A9-CE539DF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4562-6044-433E-B037-8EDED518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5E3-C560-4551-AF9C-69C8255C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2BC8-6F2B-4A3C-8ABE-939973C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C10D-4C30-493E-9E93-6495742C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4F5D2-FA35-4B78-B7C8-4F402A26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F164-D871-4A58-887B-0A606438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ED88-FFCB-43B8-B2D8-518FFFCC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D7B4-4D35-4E01-B1E6-42A6DE3D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16E6-3371-4DBF-9484-76A6111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5027E-A70E-411C-A1C3-97F380AA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D2A8-52BA-4B27-86B7-34071BB1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755E8-3AA4-43B3-BA99-0ABC26B9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A6D-2DEE-4FE2-BCAE-367D4370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D81B7-7411-4988-B6BA-803C3A02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0245D-A0A8-4E60-8027-8A18CE4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ABA0B-900E-4F75-A9C3-CFFDB560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F79EF-3E59-4D1E-ABDD-742AB75B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8A5A-C763-4FFB-9720-092F61FF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836F5-3BC2-4AEB-AFCE-73F266A5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29CA-BC57-48E7-8386-25A5B91F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C154-623C-48B4-93ED-471FADE8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22A1E-2BDA-4DE8-8A67-0AC5CB71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B1137-E014-4B44-A905-03446C9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DC5-8EAF-41D2-A538-375F326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3196B-6E53-47D7-8675-AA0DC700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304E0-29C1-4399-8F87-40626B2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B18C7-E942-4BCC-8EEA-8D915012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23343-9B09-4D81-947D-7155CA27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5BE49-A6A3-40FB-A7C2-6E6697B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F3B85-2F42-4BF4-AAC7-CC20A082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3DDE6-0EBC-453D-9992-5B3C0353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5CE60-6D28-4B16-8FDB-17A65C33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19DED-3AA8-4A62-BB9F-3CDE8039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83AEC-57EA-437E-B790-1B189EE9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EF0-D90E-45EB-B2FA-E73515A386B2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B95E-35DD-4963-BDDD-D5A875C2030A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6ABE-9EDD-48E8-AA97-D27142C501A5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8E6D-5B73-4E82-BD91-63E2057AEE5C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580B-824A-4A9D-99D7-77469C366A4A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F2BD-876A-4243-98CF-2FDB27F32628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6E48-DF65-47F1-BD3D-5AEE2802013D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575f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C456-6E31-4AD0-8F4A-5CA5A9BB3F9A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575f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501-C17E-4272-849B-E45D18EF7E80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1D01-FFB3-44E9-B453-DBF584623E76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7765-FF39-43A2-AEE5-D0C8DFA5CD23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EDCC-128B-4F77-AC85-1D471208AF99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24000" y="558972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УЧИТЕЛЬ ТРУДОВОГО ОБУЧ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ОНЧАРОВА ЕЛЕНА  ГАВРИИЛО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95280" y="1820880"/>
            <a:ext cx="8353440" cy="36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000" spc="-1" strike="noStrike" u="sng">
                <a:solidFill>
                  <a:srgbClr val="fe8637"/>
                </a:solidFill>
                <a:uFillTx/>
                <a:latin typeface="Times New Roman"/>
                <a:ea typeface="Times New Roman"/>
              </a:rPr>
              <a:t>Мастер – класс (</a:t>
            </a:r>
            <a:r>
              <a:rPr b="1" lang="en-US" sz="4000" spc="-1" strike="noStrike" u="sng">
                <a:solidFill>
                  <a:srgbClr val="fe8637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4000" spc="-1" strike="noStrike" u="sng">
                <a:solidFill>
                  <a:srgbClr val="fe8637"/>
                </a:solidFill>
                <a:uFillTx/>
                <a:latin typeface="Times New Roman"/>
                <a:ea typeface="Times New Roman"/>
              </a:rPr>
              <a:t> часть)</a:t>
            </a:r>
            <a:br>
              <a:rPr sz="4000"/>
            </a:br>
            <a:r>
              <a:rPr b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«День Победы – </a:t>
            </a:r>
            <a:br>
              <a:rPr sz="4000"/>
            </a:br>
            <a:r>
              <a:rPr b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день красных гвоздик»</a:t>
            </a:r>
            <a:br>
              <a:rPr sz="4000"/>
            </a:br>
            <a:r>
              <a:rPr b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(</a:t>
            </a:r>
            <a:r>
              <a:rPr b="1" i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изготовление цветов – гвоздик </a:t>
            </a:r>
            <a:br>
              <a:rPr sz="4000"/>
            </a:br>
            <a:r>
              <a:rPr b="1" i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из крепированной бумаги)</a:t>
            </a:r>
            <a:endParaRPr b="0" lang="en-US" sz="40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8" name="Прямоугольник 3"/>
          <p:cNvSpPr/>
          <p:nvPr/>
        </p:nvSpPr>
        <p:spPr>
          <a:xfrm>
            <a:off x="539640" y="40464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КОУ «Курская спе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ррекционная)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Правила техники безопасности при работе ножницами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стрый инструмент. Пользоваться ножницами над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ь ножницы в определённом мест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ржать ножницы острыми концами вверх, передавать кольцами вперё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оставлять ножницы на рабочем месте раскрыты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Срезаем выступающую часть так,</a:t>
            </a:r>
            <a:br>
              <a:rPr sz="3200"/>
            </a:b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 чтобы получился треугольник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36" name="Picture 4" descr="C:\Users\Елена\Desktop\Мастер-класс\DSC01845.JPG"/>
          <p:cNvPicPr/>
          <p:nvPr/>
        </p:nvPicPr>
        <p:blipFill>
          <a:blip r:embed="rId1"/>
          <a:srcRect l="5415" t="3795" r="3633" b="4858"/>
          <a:stretch/>
        </p:blipFill>
        <p:spPr>
          <a:xfrm>
            <a:off x="2124000" y="1773360"/>
            <a:ext cx="5256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d2512"/>
                </a:solidFill>
                <a:latin typeface="Georgia"/>
              </a:rPr>
              <a:t> </a:t>
            </a:r>
            <a:br>
              <a:rPr sz="3300"/>
            </a:br>
            <a:br>
              <a:rPr sz="3300"/>
            </a:b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Разворачиваем треугольник на один сгиб. И обрезаем по краям специальными ножницами</a:t>
            </a:r>
            <a:br>
              <a:rPr sz="3200"/>
            </a:b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38" name="Picture 4" descr="C:\Users\Елена\Desktop\Мастер-класс\DSC01847.JPG"/>
          <p:cNvPicPr/>
          <p:nvPr/>
        </p:nvPicPr>
        <p:blipFill>
          <a:blip r:embed="rId1"/>
          <a:srcRect l="0" t="0" r="3633" b="4854"/>
          <a:stretch/>
        </p:blipFill>
        <p:spPr>
          <a:xfrm>
            <a:off x="1835280" y="1773360"/>
            <a:ext cx="53481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Предлагаю вам сделать красивый букет из гвоздик. Гвоздики мы будем делать красного цвета, как раз такой букетик подойдет к любому празднику. </a:t>
            </a:r>
            <a:br>
              <a:rPr sz="2000"/>
            </a:br>
            <a:r>
              <a:rPr b="1" lang="ru-RU" sz="20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Ребята, какой </a:t>
            </a:r>
            <a:r>
              <a:rPr b="1" lang="ru-RU" sz="2000" spc="-1" strike="noStrike" u="sng">
                <a:solidFill>
                  <a:srgbClr val="9d2512"/>
                </a:solidFill>
                <a:uFillTx/>
                <a:latin typeface="Times New Roman"/>
                <a:ea typeface="Times New Roman"/>
              </a:rPr>
              <a:t>праздник </a:t>
            </a:r>
            <a:r>
              <a:rPr b="1" lang="ru-RU" sz="20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мы будем скоро отмечать?</a:t>
            </a:r>
            <a:br>
              <a:rPr sz="2000"/>
            </a:br>
            <a:endParaRPr b="0" lang="en-US" sz="20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10" name="Picture 2" descr="F:\9 мая\70letpobedy.jpg"/>
          <p:cNvPicPr/>
          <p:nvPr/>
        </p:nvPicPr>
        <p:blipFill>
          <a:blip r:embed="rId1"/>
          <a:stretch/>
        </p:blipFill>
        <p:spPr>
          <a:xfrm>
            <a:off x="1476360" y="1844640"/>
            <a:ext cx="6257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«День победы- день красных гвоздик»</a:t>
            </a:r>
            <a:br>
              <a:rPr sz="3200"/>
            </a:b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обеды – день красных гвозди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похожих на капельки кров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тем, кто почётно погиб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амять – клочок острой бо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вая себя на войн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люди служили Отчизне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люди служили сем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обеды – День торжества жизни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Маршал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Значение красного цвета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- цвет красоты, жизни, огня, мужеств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Египте им окрашивались изображения мужчин и богов, красный бог солнца в Каббале - строг и непреклонен, у масон он - цвет борьбы, в Древнем Риме красный был цветом Марса - бога войны, в древних обществах им наделяли шаманов, в христианстве - символ крови Иисуса, святых мученик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е он ассоциировался с активными действиями, страстностью, воле к побед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же "красный" означал "красивый"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х широтах до сих пор часто ассоциируется  с советской символикой, где выступал как цвет революции, революционных войс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сная гвоздика - символ отваги и заслуг перед Отечеств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Для создания цветов нам потребуется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еповая (гофрированная) бумаг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ревянные шпаж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от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жниц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лей П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Users\Елена\Desktop\Мастер-класс\DSC01838.JPG"/>
          <p:cNvPicPr/>
          <p:nvPr/>
        </p:nvPicPr>
        <p:blipFill>
          <a:blip r:embed="rId1"/>
          <a:stretch/>
        </p:blipFill>
        <p:spPr>
          <a:xfrm>
            <a:off x="5305320" y="1693800"/>
            <a:ext cx="3029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345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Для одной гвоздики нам потребуется 4 листика крепированной бумаги красного цвета </a:t>
            </a:r>
            <a:br>
              <a:rPr sz="2400"/>
            </a:br>
            <a:r>
              <a:rPr b="1" lang="ru-RU" sz="24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размерами         10х10 см</a:t>
            </a:r>
            <a:endParaRPr b="0" lang="en-US" sz="24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19" name="Picture 4" descr="C:\Users\Елена\Desktop\Мастер-класс\DSC01839.JPG"/>
          <p:cNvPicPr/>
          <p:nvPr/>
        </p:nvPicPr>
        <p:blipFill>
          <a:blip r:embed="rId1"/>
          <a:srcRect l="2363" t="5371" r="0" b="4857"/>
          <a:stretch/>
        </p:blipFill>
        <p:spPr>
          <a:xfrm>
            <a:off x="1619280" y="1844640"/>
            <a:ext cx="5743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Складываем квадрат пополам. Затем ещё раз складываем пополам. Получился квадрат размером 5х5см </a:t>
            </a:r>
            <a:endParaRPr b="0" lang="en-US" sz="24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21" name="Picture 4" descr="C:\Users\Елена\Desktop\Мастер-класс\DSC01841.JPG"/>
          <p:cNvPicPr/>
          <p:nvPr/>
        </p:nvPicPr>
        <p:blipFill>
          <a:blip r:embed="rId1"/>
          <a:srcRect l="3341" t="0" r="3124" b="6424"/>
          <a:stretch/>
        </p:blipFill>
        <p:spPr>
          <a:xfrm>
            <a:off x="324000" y="220500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C:\Users\Елена\Desktop\Мастер-класс\DSC01842.JPG"/>
          <p:cNvPicPr/>
          <p:nvPr/>
        </p:nvPicPr>
        <p:blipFill>
          <a:blip r:embed="rId2"/>
          <a:stretch/>
        </p:blipFill>
        <p:spPr>
          <a:xfrm>
            <a:off x="4800600" y="219708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ный квадратик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ибаем по диагонал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790880" y="1412640"/>
            <a:ext cx="4041720" cy="8427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ний край поднимаем ввер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Сложили 4 квадратика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26" name="Picture 4" descr="C:\Users\Елена\Desktop\Мастер-класс\DSC01843.JPG"/>
          <p:cNvPicPr/>
          <p:nvPr/>
        </p:nvPicPr>
        <p:blipFill>
          <a:blip r:embed="rId1"/>
          <a:stretch/>
        </p:blipFill>
        <p:spPr>
          <a:xfrm>
            <a:off x="301680" y="2863800"/>
            <a:ext cx="4041720" cy="30337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C:\Users\Елена\Desktop\Мастер-класс\DSC01844.JPG"/>
          <p:cNvPicPr/>
          <p:nvPr/>
        </p:nvPicPr>
        <p:blipFill>
          <a:blip r:embed="rId2"/>
          <a:stretch/>
        </p:blipFill>
        <p:spPr>
          <a:xfrm>
            <a:off x="4800600" y="286704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628" name="5-конечная звезда 8"/>
          <p:cNvSpPr/>
          <p:nvPr/>
        </p:nvSpPr>
        <p:spPr>
          <a:xfrm>
            <a:off x="7885080" y="189000"/>
            <a:ext cx="914400" cy="914400"/>
          </a:xfrm>
          <a:prstGeom prst="pie">
            <a:avLst/>
          </a:prstGeom>
          <a:solidFill>
            <a:srgbClr val="fe8637"/>
          </a:solidFill>
          <a:ln w="11520">
            <a:solidFill>
              <a:srgbClr val="bb61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Тб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ЗАГАДКА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конца, два кольца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середине гвоздик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 тот насквоз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Содержимое 11" descr="Рисунок9.gif"/>
          <p:cNvPicPr/>
          <p:nvPr/>
        </p:nvPicPr>
        <p:blipFill>
          <a:blip r:embed="rId1"/>
          <a:stretch/>
        </p:blipFill>
        <p:spPr>
          <a:xfrm>
            <a:off x="4932360" y="3357720"/>
            <a:ext cx="2465280" cy="2465280"/>
          </a:xfrm>
          <a:prstGeom prst="rect">
            <a:avLst/>
          </a:prstGeom>
          <a:ln w="0">
            <a:noFill/>
          </a:ln>
        </p:spPr>
      </p:pic>
      <p:sp>
        <p:nvSpPr>
          <p:cNvPr id="632" name="5-конечная звезда 4"/>
          <p:cNvSpPr/>
          <p:nvPr/>
        </p:nvSpPr>
        <p:spPr>
          <a:xfrm>
            <a:off x="7885080" y="260280"/>
            <a:ext cx="914400" cy="914400"/>
          </a:xfrm>
          <a:prstGeom prst="pie">
            <a:avLst/>
          </a:prstGeom>
          <a:solidFill>
            <a:srgbClr val="fe8637"/>
          </a:solidFill>
          <a:ln w="11520">
            <a:solidFill>
              <a:srgbClr val="bb61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Тб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9:23:43Z</dcterms:created>
  <dc:creator>Елена</dc:creator>
  <dc:description/>
  <dc:language>en-US</dc:language>
  <cp:lastModifiedBy>Елена</cp:lastModifiedBy>
  <dcterms:modified xsi:type="dcterms:W3CDTF">2015-05-08T13:40:12Z</dcterms:modified>
  <cp:revision>66</cp:revision>
  <dc:subject/>
  <dc:title>Мастер – класс по изготовлению цветка – гвоздика из крепированной бумаги</dc:title>
</cp:coreProperties>
</file>