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F70-756F-4223-8848-9C4FD59C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5C3-F66B-4F05-873A-A612508F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443-985B-4637-83A0-71A6D488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0BD-FC2B-428C-878B-92FDADB7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98B9-B79E-4A82-976A-5AE98C8C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711C-9BD7-4FB9-A893-3B012B67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E66-0B3B-4E41-B0B5-D1DCACDD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B81B-B8AE-442D-B971-F595533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93B8-B445-4B20-A9BB-9DFF365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7678-4436-4628-B896-28DCB07C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4BA-97E8-459E-A0FB-C20E5D1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D83-E7A6-4E7B-A030-B903986E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F05-FA0D-463F-A5F8-E04B251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FEF-EAF4-444D-BE39-2D0575F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4583-F81D-4C01-96FF-6F98E72F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E0DA-07A7-431F-90BF-F7F3E2B2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4110-8183-4E75-BBA2-32D66A3D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5D5-EC97-4AFA-8471-066CC74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73A-F61B-4BC3-80B5-9348D07E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2DF-5E7F-4F19-94D3-A148074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CEF-048E-49E3-96AE-B823A1A1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384-361C-4594-89EC-734D3A94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597-5E57-4875-A0DA-7E33AB3B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0E6-06D3-4ACF-B08E-2185C27C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CA57-CDF2-4252-BA5C-5C312B6E3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BFA9-62E9-4CFC-AB18-A16F68E29B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08_Beethoven_Violin_Concerto_in_D_Op_61_II_Larghetto.mp3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76360" y="5229000"/>
            <a:ext cx="640080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БОУ СОШ №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брамов Яков Саркис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2784240" cy="4176720"/>
          </a:xfrm>
          <a:prstGeom prst="rect">
            <a:avLst/>
          </a:prstGeom>
          <a:ln w="0">
            <a:noFill/>
          </a:ln>
        </p:spPr>
      </p:pic>
      <p:pic>
        <p:nvPicPr>
          <p:cNvPr id="214" name="Целое.wma" descr=""/>
          <p:cNvPicPr/>
          <p:nvPr/>
        </p:nvPicPr>
        <p:blipFill>
          <a:blip r:embed="rId3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слайд_фон"/>
          <p:cNvPicPr/>
          <p:nvPr/>
        </p:nvPicPr>
        <p:blipFill>
          <a:blip r:embed="rId1"/>
          <a:stretch/>
        </p:blipFill>
        <p:spPr>
          <a:xfrm>
            <a:off x="-3636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Безимени-4"/>
          <p:cNvPicPr/>
          <p:nvPr/>
        </p:nvPicPr>
        <p:blipFill>
          <a:blip r:embed="rId2"/>
          <a:stretch/>
        </p:blipFill>
        <p:spPr>
          <a:xfrm>
            <a:off x="755640" y="692280"/>
            <a:ext cx="7848720" cy="5676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1"/>
          <p:cNvSpPr/>
          <p:nvPr/>
        </p:nvSpPr>
        <p:spPr>
          <a:xfrm>
            <a:off x="1332000" y="2276640"/>
            <a:ext cx="67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рифмов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ироко отражены различные грамматические явления, с которыми учитель заранее знакомит учащихся и отрабатывает их в специальных упражн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важной частью работы с английской рифмовкой. С его помощью дети лучше запоминают лексические единицы и грамматический матери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– лишь элемент уро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 она должна служить достижению его дидактических ц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й Деви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и, друг мо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о тот, кто творит, живёт дваж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8"/>
          <p:cNvSpPr/>
          <p:nvPr/>
        </p:nvSpPr>
        <p:spPr>
          <a:xfrm>
            <a:off x="1763640" y="1484280"/>
            <a:ext cx="54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Elephant"/>
              </a:rPr>
              <a:t>Игровые методы как средство стимулирования познавательной активности учащихся на уроках иностранного язы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1332000" y="836640"/>
            <a:ext cx="285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8360" y="1888920"/>
            <a:ext cx="835164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нной технологи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азвитие устойчивого познавательного интереса у учащихся через разнообразные игровые формы 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Безимени-4"/>
          <p:cNvPicPr/>
          <p:nvPr/>
        </p:nvPicPr>
        <p:blipFill>
          <a:blip r:embed="rId1"/>
          <a:stretch/>
        </p:blipFill>
        <p:spPr>
          <a:xfrm>
            <a:off x="468360" y="189000"/>
            <a:ext cx="8353440" cy="6256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428840" y="880920"/>
            <a:ext cx="703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особствовать прочному усвоению учащимися учебного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сширить кругозор учащих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вать у учащихся творческое мышл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особствовать практическому применению умений и навыков, полученных на уро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спитать саморазвивающуюся и самореализующуюся ли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Безимени-4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719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403280" y="1197000"/>
            <a:ext cx="63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зучении новой лексики по теме применяю следующие метод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ссвор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истории по картинк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ина кроссвор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«Общение»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епочка», «Правда - ложь»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едини две части»)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оэз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минутка в игровой форме (игра «Повторяй за мной»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говорк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«Поймай звук» (для совершенствования навыков аудирования) 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Безимени-4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6768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203640" y="747000"/>
            <a:ext cx="26636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«Общ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2" descr="Карта Лондона с достопримечательностями"/>
          <p:cNvPicPr/>
          <p:nvPr/>
        </p:nvPicPr>
        <p:blipFill>
          <a:blip r:embed="rId2"/>
          <a:stretch/>
        </p:blipFill>
        <p:spPr>
          <a:xfrm>
            <a:off x="179280" y="1557360"/>
            <a:ext cx="4969080" cy="4680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5292720" y="1915560"/>
            <a:ext cx="2664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 get to 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the ban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lef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past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down (up) the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or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3276720" y="260280"/>
            <a:ext cx="266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говорка» по теме «Животны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627280" y="1128240"/>
            <a:ext cx="41036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увидеть, отгадай-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е тигрёнк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i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горную коз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в зоопарке.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в далёких странах не бы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найдёт верблюд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am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нечно, Крош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нгурёнк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angar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сушки и бара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ый ослик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хожая на т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в полоску зебр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 банан я обезьян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а обезьянк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on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юлень, обжор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же рыбы попрос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ь, чем угостить не зн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кодила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rocod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л ему конфету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биделся за э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22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слайд_фон"/>
          <p:cNvPicPr/>
          <p:nvPr/>
        </p:nvPicPr>
        <p:blipFill>
          <a:blip r:embed="rId1"/>
          <a:stretch/>
        </p:blipFill>
        <p:spPr>
          <a:xfrm>
            <a:off x="-3636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Безимени-4"/>
          <p:cNvPicPr/>
          <p:nvPr/>
        </p:nvPicPr>
        <p:blipFill>
          <a:blip r:embed="rId2"/>
          <a:stretch/>
        </p:blipFill>
        <p:spPr>
          <a:xfrm>
            <a:off x="826920" y="692280"/>
            <a:ext cx="7705800" cy="56768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547640" y="1413000"/>
            <a:ext cx="640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ассматривая возрастные особенности учащихся 5 – 7  классов, нельзя не заметить их увлечённость играми, рифмовками и рисованием… Поэтому я пользуюсь методическими разработками коллеги из Краснодара Олега Витальевича Налитова, посвящёнными как раз этому виду учебной деятельности. Это такие разработки, как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Работа с английским стихотворением на уроке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 дополнительных занятиях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»,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Популярные детские стихи и песни на английском языке», «Рифмовка и рисунок на уроках английского языка»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и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слайд_фон"/>
          <p:cNvPicPr/>
          <p:nvPr/>
        </p:nvPicPr>
        <p:blipFill>
          <a:blip r:embed="rId1"/>
          <a:stretch/>
        </p:blipFill>
        <p:spPr>
          <a:xfrm>
            <a:off x="-3636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Безимени-4"/>
          <p:cNvPicPr/>
          <p:nvPr/>
        </p:nvPicPr>
        <p:blipFill>
          <a:blip r:embed="rId2"/>
          <a:stretch/>
        </p:blipFill>
        <p:spPr>
          <a:xfrm>
            <a:off x="684360" y="69228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1547640" y="134136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547640" y="112536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ифмовки и рисунки на уроке англий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1187280" y="1481760"/>
            <a:ext cx="309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9900cc"/>
                </a:solidFill>
                <a:latin typeface="Arial"/>
              </a:rPr>
              <a:t>2. Прослушайте рифмовку и нарисуйте мальчи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A circle, dots, a mouth, a no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wo big ears, a neck, a ro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Arms, two legs, a body, fee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What's his name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His name is Pe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13" descr=""/>
          <p:cNvPicPr/>
          <p:nvPr/>
        </p:nvPicPr>
        <p:blipFill>
          <a:blip r:embed="rId3"/>
          <a:srcRect l="7189" t="0" r="20739" b="0"/>
          <a:stretch/>
        </p:blipFill>
        <p:spPr>
          <a:xfrm>
            <a:off x="1403280" y="3500280"/>
            <a:ext cx="2448000" cy="2244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4"/>
          <p:cNvSpPr/>
          <p:nvPr/>
        </p:nvSpPr>
        <p:spPr>
          <a:xfrm>
            <a:off x="5003640" y="1555560"/>
            <a:ext cx="273528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9900cc"/>
                </a:solidFill>
                <a:latin typeface="Arial"/>
              </a:rPr>
              <a:t>1. Прослушайте рифмовку и изобразите то, о чем в ней говор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Draw the sun, a car, a hou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Draw a sea, a boat, a mous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Draw a tree, a girl, a boy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their hands they’ve got a to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4"/>
          <a:srcRect l="2113" t="0" r="14603" b="0"/>
          <a:stretch/>
        </p:blipFill>
        <p:spPr>
          <a:xfrm>
            <a:off x="5003640" y="3500280"/>
            <a:ext cx="2808360" cy="214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6:57:28Z</dcterms:created>
  <dc:creator>Garyk</dc:creator>
  <dc:description/>
  <dc:language>en-US</dc:language>
  <cp:lastModifiedBy>1</cp:lastModifiedBy>
  <dcterms:modified xsi:type="dcterms:W3CDTF">2015-05-07T23:53:08Z</dcterms:modified>
  <cp:revision>61</cp:revision>
  <dc:subject/>
  <dc:title>Слайд 1</dc:title>
</cp:coreProperties>
</file>