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5CB-E1DA-4008-A69D-3D7AE8E4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746-8C95-4BC9-ACA5-B72F3DE2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924-8276-4B93-90CA-7D15E850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D6D-E37A-40B3-A61F-B6FFCF65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090-1331-4C6E-BD84-0297A9F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219-D97A-4E02-B06B-D92BA7D2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7562-2CA3-4EA9-AA17-D31F3A5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5AE-7384-437B-A226-F47FFD8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AAFA-B4A0-4024-B38E-ABB66440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8264-5A36-4063-A6B8-7B59A70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974B-E162-4739-B488-EACBE5C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CC9-2FA6-4E80-ABCA-3D200DB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63F4-39EC-422B-B4E3-02B2611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F785-05B3-45D0-9AAD-DC4AD12F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1C30-3582-4AE8-9652-C126774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4DF-5ABD-47B4-AC9C-76D1E3CD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D38-DDD2-47FF-B3EA-8B36DC75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A5C-147B-4802-83FC-4658DF6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073-50C1-4656-BED9-D8CF8E3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899-6144-444E-A6CD-0E71598C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6DE-4B74-445A-AC75-6B76A1B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D8D-30DE-480B-90DF-3FF83C0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DCB-4ED5-4DE6-A9F3-2096980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49F-3DEC-492A-A47D-8CE4735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86A-625F-44E0-8A64-8474FD9584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C76-7B38-442B-9522-3826CED0D2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08_Beethoven_Violin_Concerto_in_D_Op_61_II_Larghetto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76360" y="5229000"/>
            <a:ext cx="64008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БОУ СОШ №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брамов Яков Саркис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784240" cy="4176720"/>
          </a:xfrm>
          <a:prstGeom prst="rect">
            <a:avLst/>
          </a:prstGeom>
          <a:ln w="0">
            <a:noFill/>
          </a:ln>
        </p:spPr>
      </p:pic>
      <p:pic>
        <p:nvPicPr>
          <p:cNvPr id="214" name="Целое.wma" descr=""/>
          <p:cNvPicPr/>
          <p:nvPr/>
        </p:nvPicPr>
        <p:blipFill>
          <a:blip r:embed="rId3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Безимени-4"/>
          <p:cNvPicPr/>
          <p:nvPr/>
        </p:nvPicPr>
        <p:blipFill>
          <a:blip r:embed="rId2"/>
          <a:stretch/>
        </p:blipFill>
        <p:spPr>
          <a:xfrm>
            <a:off x="755640" y="692280"/>
            <a:ext cx="7848720" cy="5676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1"/>
          <p:cNvSpPr/>
          <p:nvPr/>
        </p:nvSpPr>
        <p:spPr>
          <a:xfrm>
            <a:off x="1332000" y="2276640"/>
            <a:ext cx="67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рифмов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ироко отражены различные грамматические явления, с которыми учитель заранее знакомит учащихся и отрабатывает их в специальных упражн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важной частью работы с английской рифмовкой. С его помощью дети лучше запоминают лексические единицы и грамматический матери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– лишь элемент уро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 она должна служить достижению его дидактических ц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й 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и, друг м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о тот, кто творит, живёт дваж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8"/>
          <p:cNvSpPr/>
          <p:nvPr/>
        </p:nvSpPr>
        <p:spPr>
          <a:xfrm>
            <a:off x="1763640" y="1484280"/>
            <a:ext cx="54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Elephant"/>
              </a:rPr>
              <a:t>Игровые методы как средство стимулирования познавательной активности учащихся на уроках иностранного язы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1332000" y="836640"/>
            <a:ext cx="285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8360" y="1888920"/>
            <a:ext cx="835164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й технологи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звитие устойчивого познавательного интереса у учащихся через разнообразные игровые формы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Безимени-4"/>
          <p:cNvPicPr/>
          <p:nvPr/>
        </p:nvPicPr>
        <p:blipFill>
          <a:blip r:embed="rId1"/>
          <a:stretch/>
        </p:blipFill>
        <p:spPr>
          <a:xfrm>
            <a:off x="468360" y="189000"/>
            <a:ext cx="8353440" cy="6256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28840" y="880920"/>
            <a:ext cx="703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особствовать прочному усвоению учащимися учебного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ширить кругозор учащих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 учащихся творческое мышл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особствовать практическому применению умений и навыков, полученных на уро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спитать саморазвивающуюся и самореализующуюся л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Безимени-4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719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403280" y="1197000"/>
            <a:ext cx="63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зучении новой лексики по теме применяю следующие мето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ссвор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истории по картин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ина кроссвор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«Общение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епочка», «Правда - ложь»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едини две части»)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оэз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минутка в игровой форме (игра «Повторяй за мной»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говорк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Поймай звук» (для совершенствования навыков аудирования) 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Безимени-4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6768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203640" y="747000"/>
            <a:ext cx="2663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Общ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2" descr="Карта Лондона с достопримечательностями"/>
          <p:cNvPicPr/>
          <p:nvPr/>
        </p:nvPicPr>
        <p:blipFill>
          <a:blip r:embed="rId2"/>
          <a:stretch/>
        </p:blipFill>
        <p:spPr>
          <a:xfrm>
            <a:off x="179280" y="1557360"/>
            <a:ext cx="4969080" cy="4680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5292720" y="1915560"/>
            <a:ext cx="2664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 get to 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ban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lef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past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own (up) the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or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3276720" y="260280"/>
            <a:ext cx="266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говорка» по теме «Животны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627280" y="1128240"/>
            <a:ext cx="41036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увидеть, отгадай-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тигрё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i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горную коз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в зоопарке.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в далёких странах не бы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найдёт верблюд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am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нечно, Крош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нгурё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angar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сушки и бар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ый ослик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хожая на т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в полоску зебр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 банан я обезьян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а обезья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on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юлень, обжор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же рыбы попрос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ь, чем угостить не зн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кодил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ocod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л ему конфет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биделся за э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Безимени-4"/>
          <p:cNvPicPr/>
          <p:nvPr/>
        </p:nvPicPr>
        <p:blipFill>
          <a:blip r:embed="rId2"/>
          <a:stretch/>
        </p:blipFill>
        <p:spPr>
          <a:xfrm>
            <a:off x="826920" y="692280"/>
            <a:ext cx="7705800" cy="5676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547640" y="1413000"/>
            <a:ext cx="640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ссматривая возрастные особенности учащихся 5 – 7  классов, нельзя не заметить их увлечённость играми, рифмовками и рисованием… Поэтому я пользуюсь методическими разработками коллеги из Краснодара Олега Витальевича Налитова, посвящёнными как раз этому виду учебной деятельности. Это такие разработки, как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Работа с английским стихотворением на уроке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 дополнительных занятиях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»,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Популярные детские стихи и песни на английском языке», «Рифмовка и рисунок на уроках английского языка»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и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Безимени-4"/>
          <p:cNvPicPr/>
          <p:nvPr/>
        </p:nvPicPr>
        <p:blipFill>
          <a:blip r:embed="rId2"/>
          <a:stretch/>
        </p:blipFill>
        <p:spPr>
          <a:xfrm>
            <a:off x="684360" y="69228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547640" y="1341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547640" y="112536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ифмовки и рисунки на уроке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1187280" y="1481760"/>
            <a:ext cx="309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9900cc"/>
                </a:solidFill>
                <a:latin typeface="Arial"/>
              </a:rPr>
              <a:t>2. Прослушайте рифмовку и нарисуйте мальч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A circle, dots, a mouth, a no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wo big ears, a neck, a ro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Arms, two legs, a body, fee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What's his name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His name is Pe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3"/>
          <a:srcRect l="7189" t="0" r="20739" b="0"/>
          <a:stretch/>
        </p:blipFill>
        <p:spPr>
          <a:xfrm>
            <a:off x="1403280" y="3500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4"/>
          <p:cNvSpPr/>
          <p:nvPr/>
        </p:nvSpPr>
        <p:spPr>
          <a:xfrm>
            <a:off x="5003640" y="1555560"/>
            <a:ext cx="273528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9900cc"/>
                </a:solidFill>
                <a:latin typeface="Arial"/>
              </a:rPr>
              <a:t>1. Прослушайте рифмовку и изобразите то, о чем в ней говор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the sun, a car, a hou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a sea, a boat, a mou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a tree, a girl, a boy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their hands they’ve got a to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4"/>
          <a:srcRect l="2113" t="0" r="14603" b="0"/>
          <a:stretch/>
        </p:blipFill>
        <p:spPr>
          <a:xfrm>
            <a:off x="5003640" y="3500280"/>
            <a:ext cx="2808360" cy="214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6:57:28Z</dcterms:created>
  <dc:creator>Garyk</dc:creator>
  <dc:description/>
  <dc:language>en-US</dc:language>
  <cp:lastModifiedBy>1</cp:lastModifiedBy>
  <dcterms:modified xsi:type="dcterms:W3CDTF">2015-05-07T23:53:08Z</dcterms:modified>
  <cp:revision>61</cp:revision>
  <dc:subject/>
  <dc:title>Слайд 1</dc:title>
</cp:coreProperties>
</file>