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75F-EB1A-4221-AADA-BC920E04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810-ECA6-4BF0-B0DF-3EBA0593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227-4484-4FD2-9E15-7A3E0F45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3EE-AE06-41C9-AF0A-D4C2B853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6D0-4F1F-4086-B4A3-B67931CA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BD8-76A4-47D9-B634-F0F0A8E7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419-41BB-4D7C-A76D-FA68CF7F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9EF-6700-44EE-A842-94A5E81B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2F1-5FB7-4686-BC96-BE987840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C5B-A689-4E4D-B71B-AB0CC8CB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7CC-C00C-4D1E-8550-1D300766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E50-8685-4723-AEC6-6C73DDF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CDF5-1ED0-4550-96EA-085842683A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«ШАГИ ПОБЕДЫ»</a:t>
            </a:r>
            <a:br>
              <a:rPr sz="4400"/>
            </a:b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БИТВА ЗА КАВК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03640" y="3214440"/>
            <a:ext cx="5689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выполни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ик 9 А класса МБОУ ЛМ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исов Евг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Е БО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20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е воздушное сражение произошло 17-24 апреля в ходе боев на Малой земле. В нем участвовало около 650 самолетов противника и 500 советских самолетов. Последующие сражения происходили в районах станиц Крымская (29 апреля – 10 мая), Киевская и Молдаванская (26 мая и 7 июня) и длились непрерывно многие часы. В отдельные дни на сравнительно небольшом пространстве (20-30 км) происходило до 40 групповых воздушных боев с участием 50-80 самолетов с обеих сторон. Одновременно наносились удары по аэродромам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3" descr="memorial-zashitnikam-anapa01.jpg"/>
          <p:cNvPicPr/>
          <p:nvPr/>
        </p:nvPicPr>
        <p:blipFill>
          <a:blip r:embed="rId1"/>
          <a:stretch/>
        </p:blipFill>
        <p:spPr>
          <a:xfrm>
            <a:off x="0" y="1357200"/>
            <a:ext cx="340056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Содержимое 3" descr="caption.jpg"/>
          <p:cNvPicPr/>
          <p:nvPr/>
        </p:nvPicPr>
        <p:blipFill>
          <a:blip r:embed="rId1"/>
          <a:stretch/>
        </p:blipFill>
        <p:spPr>
          <a:xfrm>
            <a:off x="4952880" y="3143160"/>
            <a:ext cx="4191120" cy="31402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monument108.jpg"/>
          <p:cNvPicPr/>
          <p:nvPr/>
        </p:nvPicPr>
        <p:blipFill>
          <a:blip r:embed="rId2"/>
          <a:stretch/>
        </p:blipFill>
        <p:spPr>
          <a:xfrm>
            <a:off x="2214720" y="0"/>
            <a:ext cx="3109680" cy="2900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анапа.jpg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туапсе 2.jpg"/>
          <p:cNvPicPr/>
          <p:nvPr/>
        </p:nvPicPr>
        <p:blipFill>
          <a:blip r:embed="rId4"/>
          <a:stretch/>
        </p:blipFill>
        <p:spPr>
          <a:xfrm>
            <a:off x="1143000" y="2643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76360" y="0"/>
            <a:ext cx="4810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Book Antiqua"/>
                <a:ea typeface="Microsoft YaHei"/>
              </a:rPr>
              <a:t>Битва за Кавказ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  <a:ea typeface="Microsoft YaHei"/>
              </a:rPr>
              <a:t>(25 июля 1942 — 9 октября 1943) — сражение вооружённых сил нацистской Германии, Румынии и Словакии против СССР во время Великой Отечественной войны за контроль над Кавказом. Сражение делится на два этапа: наступление немецких войск (25 июля — 31 декабря 1942) и контрнаступление советских войск (1 января — 9 октября 194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C:\Users\1\Pictures\3QMPK0CAFP81GICAZ12TGHCA19FJM3CA2RWWVCCASDJG39CAT6CGXGCAC3JROGCAIFCMFKCAN0LIAWCACV2MZECAKWXH2UCAY2HP9WCAVYNL8UCAWWNOS6CACFI60HCASYU7TPCARQ3VCSCA1EK8NDCAOOEXN4.jpg"/>
          <p:cNvPicPr/>
          <p:nvPr/>
        </p:nvPicPr>
        <p:blipFill>
          <a:blip r:embed="rId1"/>
          <a:stretch/>
        </p:blipFill>
        <p:spPr>
          <a:xfrm>
            <a:off x="6353280" y="214200"/>
            <a:ext cx="257652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1\Pictures\BD8Z2XCAV86PAOCAXKO2CMCAPBMOVLCA6Y4SYKCAFYHQMYCARBMPU4CAA0IFMRCAOGCFI0CA5CNDYQCAXSHM2BCAHEUCIICAJT3QR8CAT133C3CA5DETWGCAM2FHPYCA1ATU0ECAEPC23MCA6UW8G8CAH144O8.jpg"/>
          <p:cNvPicPr/>
          <p:nvPr/>
        </p:nvPicPr>
        <p:blipFill>
          <a:blip r:embed="rId2"/>
          <a:stretch/>
        </p:blipFill>
        <p:spPr>
          <a:xfrm>
            <a:off x="6383160" y="2286000"/>
            <a:ext cx="25466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1\Pictures\I1BJ0FCAXVS1VDCAFSX9S8CAAE2RAUCA85TKT6CA1TCRGVCA4ONM87CALV5LKJCAHM17XOCANL8KX7CAJ1OSD2CAT0X7ZQCAGLG0UECAN0FS42CADV4WKLCAOYOKOQCA4FA2LJCAHF1Y4ICAW829MSCADY9YLU.jpg"/>
          <p:cNvPicPr/>
          <p:nvPr/>
        </p:nvPicPr>
        <p:blipFill>
          <a:blip r:embed="rId3"/>
          <a:stretch/>
        </p:blipFill>
        <p:spPr>
          <a:xfrm>
            <a:off x="6429240" y="4286160"/>
            <a:ext cx="250056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42924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задачу группы «A» входило: окружить и уничтожить южнее и юго-восточнее Ростова-на-Дону войска Южного фронта, отошедшие за реку Дон, и овладеть Северным Кавказом; затем предполагалось обойти Большой Кавказ одной группой с запада, захватив Новороссийск и Туапсе, а другой группой — с востока, овладев нефтеносными районами Грозного и Бак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1\Pictures\220PX-~1.JPG"/>
          <p:cNvPicPr/>
          <p:nvPr/>
        </p:nvPicPr>
        <p:blipFill>
          <a:blip r:embed="rId1"/>
          <a:stretch/>
        </p:blipFill>
        <p:spPr>
          <a:xfrm>
            <a:off x="6465960" y="214200"/>
            <a:ext cx="248580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1\Pictures\I1BJ0FCAXVS1VDCAFSX9S8CAAE2RAUCA85TKT6CA1TCRGVCA4ONM87CALV5LKJCAHM17XOCANL8KX7CAJ1OSD2CAT0X7ZQCAGLG0UECAN0FS42CADV4WKLCAOYOKOQCA4FA2LJCAHF1Y4ICAW829MSCADY9YLU.jpg"/>
          <p:cNvPicPr/>
          <p:nvPr/>
        </p:nvPicPr>
        <p:blipFill>
          <a:blip r:embed="rId2"/>
          <a:stretch/>
        </p:blipFill>
        <p:spPr>
          <a:xfrm>
            <a:off x="5435640" y="2276640"/>
            <a:ext cx="246528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1\Pictures\ZISH5ACA83B7VXCAACI9S0CAXQDI6BCAALAOTGCALTK1JECAW182SVCA0QOJO0CA0EK6RUCAJ7YN53CALAFJQGCA5EBDEXCAHLC767CAH6XO4JCA6MHSL6CA42N6URCARDFGQNCA9V45D8CAOR9YE8CAW9ROJP.jpg"/>
          <p:cNvPicPr/>
          <p:nvPr/>
        </p:nvPicPr>
        <p:blipFill>
          <a:blip r:embed="rId3"/>
          <a:stretch/>
        </p:blipFill>
        <p:spPr>
          <a:xfrm>
            <a:off x="2916360" y="4229280"/>
            <a:ext cx="3671640" cy="2373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kalinin-anapa01.jpg"/>
          <p:cNvPicPr/>
          <p:nvPr/>
        </p:nvPicPr>
        <p:blipFill>
          <a:blip r:embed="rId4"/>
          <a:stretch/>
        </p:blipFill>
        <p:spPr>
          <a:xfrm>
            <a:off x="1643040" y="2071800"/>
            <a:ext cx="3000240" cy="22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619280" y="0"/>
            <a:ext cx="488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мецкое наступ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3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 Ставроп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7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 Армав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0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 Майк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2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и Краснодар и Э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1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на Эльбрусе водружён немецкий фл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25 авгу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пал Моз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11 сентябр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захвачена большая часть Новороссийска, за исключением восточной окраины города. конец сентября 194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немецкое наступление остановлено в районе Малгоб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C:\Users\1\Pictures\220px-Lawotschkin_La-5_FN.jpg"/>
          <p:cNvPicPr/>
          <p:nvPr/>
        </p:nvPicPr>
        <p:blipFill>
          <a:blip r:embed="rId1"/>
          <a:stretch/>
        </p:blipFill>
        <p:spPr>
          <a:xfrm>
            <a:off x="6478560" y="214200"/>
            <a:ext cx="247824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1\Pictures\74O7MQCAHBRBDTCABQ79P8CAUN1O3GCAOVVRRVCAFH4HFFCA2ESQMOCAAWMWXWCAA0AO09CASO7IPWCAKMXHZICA3AUYSACAYG9DKOCA1ETB9ICA0R381DCA8OLJNKCA3VS4RKCAUKXG7UCABPU2R6CAZU473N.jpg"/>
          <p:cNvPicPr/>
          <p:nvPr/>
        </p:nvPicPr>
        <p:blipFill>
          <a:blip r:embed="rId2"/>
          <a:stretch/>
        </p:blipFill>
        <p:spPr>
          <a:xfrm>
            <a:off x="6500880" y="2286000"/>
            <a:ext cx="2428920" cy="12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1\Pictures\7JZRI9CAKA89JOCAW858DDCAN2BWCVCA7FPQXTCA46XGV0CAQPKZ83CA6L5LCDCAFV3I6ICALSZF0QCARJRJ0QCAOEKL9BCA8NNQWSCAGW1WJJCA06BN0XCAMZURYZCA330QJ4CAEUORZ4CAHQ6B3PCAGFA1CP.jpg"/>
          <p:cNvPicPr/>
          <p:nvPr/>
        </p:nvPicPr>
        <p:blipFill>
          <a:blip r:embed="rId3"/>
          <a:stretch/>
        </p:blipFill>
        <p:spPr>
          <a:xfrm>
            <a:off x="6513480" y="3857760"/>
            <a:ext cx="241632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692000" y="0"/>
            <a:ext cx="4808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Оборона Туап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Огонь немецкой зенитной артиллерии, сентябрь 1942 года25 сентября 1942 года, после двухдневной мощной авиационной бомбардировки силами 4-го авиационного корпуса, в направлении Туапсе против войск советской Черноморской группы (18-я армия, 47-я армия и 56-я армия) перешла в наступление 17-я немецкая армия, предварительно усиленная двумя немецкими и двумя румынскими пехотными дивизиями, а также горнострелковыми част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23 октября немецко-румынские войска были остановлены, а 31 октября перешли к обор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1\Pictures\i.jpg"/>
          <p:cNvPicPr/>
          <p:nvPr/>
        </p:nvPicPr>
        <p:blipFill>
          <a:blip r:embed="rId1"/>
          <a:stretch/>
        </p:blipFill>
        <p:spPr>
          <a:xfrm>
            <a:off x="6435720" y="214200"/>
            <a:ext cx="2498760" cy="29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1\Pictures\ттрт.jpg"/>
          <p:cNvPicPr/>
          <p:nvPr/>
        </p:nvPicPr>
        <p:blipFill>
          <a:blip r:embed="rId2"/>
          <a:stretch/>
        </p:blipFill>
        <p:spPr>
          <a:xfrm>
            <a:off x="6429240" y="3286080"/>
            <a:ext cx="25052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79640" y="0"/>
            <a:ext cx="444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ang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емецкий план «Эдельвейс» провалился. Всего за 1-й этап сражения группа армий «A» потеряла убитыми почти 100 тыс. человек; немцам не удалось прорваться в Закавказье и на Ближний Вост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В сентябре 1942 года, с задачей защиты флангов группы армий «B» под Сталинградом, с кавказского направления была переброшена 3-я румынская армия. В декабре 1942 года, в связи с неудачами под Сталинградом, с кавказского фронта также были сняты и некоторые немецкие соединения, в результате чего немецкая группировка на Кавказе ещё больше ослабла, и к началу 1943 года стала уступать советским войскам в численности — как в личном составе, так и в технике и вооруже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Users\1\Pictures\итатр.jpg"/>
          <p:cNvPicPr/>
          <p:nvPr/>
        </p:nvPicPr>
        <p:blipFill>
          <a:blip r:embed="rId1"/>
          <a:stretch/>
        </p:blipFill>
        <p:spPr>
          <a:xfrm>
            <a:off x="6499080" y="214200"/>
            <a:ext cx="2430720" cy="157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\Pictures\тар.jpg"/>
          <p:cNvPicPr/>
          <p:nvPr/>
        </p:nvPicPr>
        <p:blipFill>
          <a:blip r:embed="rId2"/>
          <a:stretch/>
        </p:blipFill>
        <p:spPr>
          <a:xfrm>
            <a:off x="3429000" y="4946760"/>
            <a:ext cx="2428920" cy="1911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туапсе.jpg"/>
          <p:cNvPicPr/>
          <p:nvPr/>
        </p:nvPicPr>
        <p:blipFill>
          <a:blip r:embed="rId3"/>
          <a:srcRect l="0" t="0" r="0" b="4030"/>
          <a:stretch/>
        </p:blipFill>
        <p:spPr>
          <a:xfrm>
            <a:off x="6429240" y="2714760"/>
            <a:ext cx="250056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664380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Решающие бои на Таманском полуостр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Новороссийско-Таманская опер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Бои на «голубой линии» продолжались с февраля по сентябрь 1943 года. Успешное наступление советских войск на Украине весной 1943 поставило таманскую группировку вермахта в тяжёлое положение. 3 сентября 1943 Гитлер дал приказ на вывод войск с Куба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оветское наступление началось в ночь на 10 сентября высадкой морского десанта в Новороссийском порту. Части 18-й армии перешли в наступление восточнее и южнее города. К 9 октября 56-я армия овладела всей северной частью полуострова и вышла к Керченскому проливу. На этом полностью завершились бои на Кавказ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Users\1\Pictures\пппа.jpg"/>
          <p:cNvPicPr/>
          <p:nvPr/>
        </p:nvPicPr>
        <p:blipFill>
          <a:blip r:embed="rId1"/>
          <a:stretch/>
        </p:blipFill>
        <p:spPr>
          <a:xfrm>
            <a:off x="6588000" y="1197000"/>
            <a:ext cx="2316240" cy="171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1\Pictures\ртр.jpg"/>
          <p:cNvPicPr/>
          <p:nvPr/>
        </p:nvPicPr>
        <p:blipFill>
          <a:blip r:embed="rId2"/>
          <a:stretch/>
        </p:blipFill>
        <p:spPr>
          <a:xfrm>
            <a:off x="5508720" y="4184640"/>
            <a:ext cx="363528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«Эдельвейс» потерпел крах. Самоотверженные действия советских войск остановили вражеские полчища в предгорьях Главного Кавказского хребта. Активное участие в защите родной земли принимали кавказские народы. Буквально накануне битвы за Кавказ в Закавказье закончилось формирование 11 стрелковых дивизий (4 грузинские, 3 азербайджанские и 4 армянские). Кроме того, из представителей других национальностей сформированы 4 стрелковые, 1 горно-стрелковая, 1 танковая бригады и 2 кавалерийские дивиз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3" descr="galereja-1.jpg"/>
          <p:cNvPicPr/>
          <p:nvPr/>
        </p:nvPicPr>
        <p:blipFill>
          <a:blip r:embed="rId1"/>
          <a:stretch/>
        </p:blipFill>
        <p:spPr>
          <a:xfrm>
            <a:off x="0" y="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7:26:22Z</dcterms:created>
  <dc:creator>Acer</dc:creator>
  <dc:description/>
  <dc:language>en-US</dc:language>
  <cp:lastModifiedBy>user</cp:lastModifiedBy>
  <dcterms:modified xsi:type="dcterms:W3CDTF">2015-04-28T06:14:08Z</dcterms:modified>
  <cp:revision>5</cp:revision>
  <dc:subject/>
  <dc:title>«ШАГИ ПОБЕДЫ» БИТВА ЗА КАВКАЗ</dc:title>
</cp:coreProperties>
</file>