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9CF-F03F-4E12-A6CB-68CCBBC8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6F4-5D09-4418-BD6C-F56BE84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97-E4B9-4FAF-BBB8-3B027CCF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C7E-132D-4619-BAD7-A2BCD7AA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FF8-3784-422D-AC6C-C7934913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538-4405-4B3E-8942-76F305D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96A-8B84-4392-B418-47A305A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DBF-300F-4240-8B0D-927AE8C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D75-E9EC-4ABC-92B1-95F9402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18A-F9BD-4E8A-9A71-0C9D0D8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9E5-C72B-4B68-AFD7-61ADF90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F0E-D896-4798-88DA-CF4C60C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6246-B0FA-4C1D-8E51-AEF058210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ОЗДАТЕЛИ ПОБЕДЫ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КОНСТРУКТО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.А. ЛАВОЧ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 ученик 8 А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ЛМП Матвеев Ник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404280"/>
            <a:ext cx="5607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вочкин родился в 1900 г. В 1917 году он окончил гимназию в Курске с золотой медалью и мечтал продолжать учебу в институте. В 1920 году все студенты и лица, имевшие право поступить в высшие учебные заведения, были демобилизованы. Закончил МВТУ имени Баумана, оказался и Лавочкин.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5981760" y="33336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rcRect l="0" t="30950" r="0" b="0"/>
          <a:stretch/>
        </p:blipFill>
        <p:spPr>
          <a:xfrm>
            <a:off x="5767560" y="2133720"/>
            <a:ext cx="208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320" y="272880"/>
            <a:ext cx="7143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коре Лавочкин был переведен в ЦКБ под начало А. А. Чижевского, а через год оказался в КБ Григоровича, где вплотную столкнулся с конструированием истребителя. В самом начале тридцатых годов Лавочкину была предоставлена возможность самостоятельно спроектировать истребитель — «добро» на это дал сам Орджоникидзе. В начале 1940 года начались испытания ЛаГГ-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6475320" y="3925800"/>
            <a:ext cx="267516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7078680" y="1784520"/>
            <a:ext cx="2071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404280"/>
            <a:ext cx="6321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ю поколения самолетов Второй мировой способствовала прежде всего гражданская война в Испании. Эта страна, расположенная на Пиренейском полуострове, стала своего рода полигоном, где проверялась и отрабатывалась боевая техника многих государств, в том числе Германии и Советского Сою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6083280" y="4365720"/>
            <a:ext cx="324648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925960" y="0"/>
            <a:ext cx="2997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404280"/>
            <a:ext cx="6035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всегда находился в поиске, модернизируя и создавая новую авиатехнику. В итоге самолеты ЛаГГ-3, Ла-5 и Ла-7 наряду с машинами других конструкторов внесли большой вклад в победу над гитлеровской Германией. В одной из своих публикаций Лавочкин писал:«В свое время арбалет пришел на смену луку, но не он кардинально изменил боеспособность армии. Для этого потребовался порох.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979640" y="5902200"/>
            <a:ext cx="322416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5562720" y="2565360"/>
            <a:ext cx="3581280" cy="1276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5816520" y="1197000"/>
            <a:ext cx="3419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404280"/>
            <a:ext cx="62499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ойны с появлением турбореактивных двигателей. К сожалению, на этом этапе развития авиатехники ОКБ-301 занималось созданием лишь опытных образцов самолетов. Один из них, Ла-160, впервые в отечественной практике оснащенный стреловидным крылом, проложил дорогу знаменитому истребителю МиГ-15, появление которого во время войны в Корее способствовало быстрейшему завершению вооруженного конфли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521400" y="194796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083280" y="26028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user</cp:lastModifiedBy>
  <dcterms:modified xsi:type="dcterms:W3CDTF">2015-04-28T06:23:58Z</dcterms:modified>
  <cp:revision>9</cp:revision>
  <dc:subject/>
  <dc:title>Слайд 1</dc:title>
</cp:coreProperties>
</file>