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CB2-5B32-4414-B9D9-0713FD1A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0D7-E99B-4C01-B42E-BED3BA98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893-A3A4-4AFA-A3EE-1997D3CB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B50-8EA6-4B76-843E-3BD64CFF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9DD-23D2-489D-B38A-B605627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F25-828B-40D9-B403-71F6C4F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E00-2A17-43EB-AD67-CD3EA25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4B2-F155-4640-B618-23CFBB31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BCF-E84A-4C47-BCD8-7DC85A6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0B5-E4E4-4D8D-91E8-B2B2F07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03F-5A25-485D-9577-FF9DAA4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4AA-C5E8-4C7A-930D-9BE020D8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EFF-3D33-4EF1-A213-7C40893D5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ОЗДАТЕЛИ ПОБЕДЫ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КОНСТРУКТО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.А. ЛАВОЧ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 ученик 8 А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ЛМП Матвеев Ник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404280"/>
            <a:ext cx="5607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вочкин родился в 1900 г. В 1917 году он окончил гимназию в Курске с золотой медалью и мечтал продолжать учебу в институте. В 1920 году все студенты и лица, имевшие право поступить в высшие учебные заведения, были демобилизованы. Закончил МВТУ имени Баумана, оказался и Лавочкин.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5981760" y="33336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rcRect l="0" t="30950" r="0" b="0"/>
          <a:stretch/>
        </p:blipFill>
        <p:spPr>
          <a:xfrm>
            <a:off x="5767560" y="2133720"/>
            <a:ext cx="208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320" y="272880"/>
            <a:ext cx="7143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коре Лавочкин был переведен в ЦКБ под начало А. А. Чижевского, а через год оказался в КБ Григоровича, где вплотную столкнулся с конструированием истребителя. В самом начале тридцатых годов Лавочкину была предоставлена возможность самостоятельно спроектировать истребитель — «добро» на это дал сам Орджоникидзе. В начале 1940 года начались испытания ЛаГГ-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6475320" y="3925800"/>
            <a:ext cx="267516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7078680" y="1784520"/>
            <a:ext cx="2071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404280"/>
            <a:ext cx="6321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ю поколения самолетов Второй мировой способствовала прежде всего гражданская война в Испании. Эта страна, расположенная на Пиренейском полуострове, стала своего рода полигоном, где проверялась и отрабатывалась боевая техника многих государств, в том числе Германии и Советского Сою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6083280" y="4365720"/>
            <a:ext cx="324648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925960" y="0"/>
            <a:ext cx="2997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404280"/>
            <a:ext cx="6035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всегда находился в поиске, модернизируя и создавая новую авиатехнику. В итоге самолеты ЛаГГ-3, Ла-5 и Ла-7 наряду с машинами других конструкторов внесли большой вклад в победу над гитлеровской Германией. В одной из своих публикаций Лавочкин писал:«В свое время арбалет пришел на смену луку, но не он кардинально изменил боеспособность армии. Для этого потребовался порох.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979640" y="5902200"/>
            <a:ext cx="322416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5562720" y="2565360"/>
            <a:ext cx="3581280" cy="1276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5816520" y="1197000"/>
            <a:ext cx="3419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51640" y="4698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404280"/>
            <a:ext cx="62499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войны с появлением турбореактивных двигателей. К сожалению, на этом этапе развития авиатехники ОКБ-301 занималось созданием лишь опытных образцов самолетов. Один из них, Ла-160, впервые в отечественной практике оснащенный стреловидным крылом, проложил дорогу знаменитому истребителю МиГ-15, появление которого во время войны в Корее способствовало быстрейшему завершению вооруженного конфли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5164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521400" y="194796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083280" y="26028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user</cp:lastModifiedBy>
  <dcterms:modified xsi:type="dcterms:W3CDTF">2015-04-28T06:23:58Z</dcterms:modified>
  <cp:revision>9</cp:revision>
  <dc:subject/>
  <dc:title>Слайд 1</dc:title>
</cp:coreProperties>
</file>