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A78-9B65-43E9-AF89-5651D32F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58C-13D0-4D36-BDD7-AD97C83C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BA2-2D32-4AF4-92B2-2C735BF3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679-D827-460A-9C53-A54E8D66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5B9-3920-43D8-8D2F-CC97951D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C862-574F-44A0-A15B-02037BBD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6F3-C335-4FA5-8B74-F1943138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D81-B97D-41D1-85FC-DFADAFB7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725-129B-4D60-9EFC-F730500A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53BF-45B6-40F9-99E6-C7013B70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BF5-829E-4925-8024-8D16BE29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415-6A19-4BD2-AE0C-436AD5FF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8DD9-485E-4809-B3BB-ED7172783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оветская школа в годы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Работу выполнила уче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8 класса «В» МБОУ ЛМ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Опекунова Ма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6" descr="1.png"/>
          <p:cNvPicPr/>
          <p:nvPr/>
        </p:nvPicPr>
        <p:blipFill>
          <a:blip r:embed="rId2"/>
          <a:stretch/>
        </p:blipFill>
        <p:spPr>
          <a:xfrm>
            <a:off x="0" y="428760"/>
            <a:ext cx="2786040" cy="185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140000" y="188640"/>
            <a:ext cx="5003640" cy="666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гласно указаниям Наркомпроса, из учебного плана исключали такие предметы, как рисование и пение во всех классах, черчение в 6 и 7-м классах, «Основы дарвинизма» в 9-м классе. Вместе с тем увеличивалось число недельных учебных часов на русский язык, литературу, историю и математику. В школьных программах были осуществлены редакция отдельных материалов, некоторое перераспределение часов по темам и разделам. В них по каждому школьному предмету вводился дополнительный материал познавательного и воспитательного характера с учетом требований времени. На уроках химии изучались средства противохимической защиты. В программу по географии был включен ряд новых тем, имеющих практическую направленность. К примеру, тема  «План и карта» (5 класс) предусматривала развитие у учащихся навыков ориентирования на местности и работы с компасом, чтения топографической карты и т д. На занятиях по физике и математике ученикам предлагалось решать задачи, включающие элементы военной терминологии и тактических расчетов. Педагоги краснодарских средних школ №№ 8 и 43 составили специальный сборник таких задач по физике, а учителя Ильской средней школы Северского района края подготовили подобный материал для уроков математики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7" descr="2.png"/>
          <p:cNvPicPr/>
          <p:nvPr/>
        </p:nvPicPr>
        <p:blipFill>
          <a:blip r:embed="rId3"/>
          <a:stretch/>
        </p:blipFill>
        <p:spPr>
          <a:xfrm>
            <a:off x="0" y="4516560"/>
            <a:ext cx="1643040" cy="23414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3.png"/>
          <p:cNvPicPr/>
          <p:nvPr/>
        </p:nvPicPr>
        <p:blipFill>
          <a:blip r:embed="rId4"/>
          <a:stretch/>
        </p:blipFill>
        <p:spPr>
          <a:xfrm>
            <a:off x="1214280" y="2428920"/>
            <a:ext cx="3214800" cy="24080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252360" y="188640"/>
            <a:ext cx="4968720" cy="666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собенно тщательно пересматривались учебные планы и программы по истории СССР. Идеологически стала востребована национальная история с культом героических личностей прошлого, прежде всего военачальников. Темы «Татаро-монгольское нашествие на Русь», «Отечественная война 1812 г.» и другие подавались школьными историками с позиций актуализации ретроспективы. При этом учителя стремились подчеркнуть, что воины Красной армии, сражающиеся с немецко-фашистскими захватчиками, впитали в себя лучшие черты наших великих предков - защитников Родины: Александра Невского, Дмитрия Донского, Дмитрия Пожарского, Александра Суворова, Михаила Кутузова, снискавших вечную память потомков. В 8-м классе в тему «Борьба с немецкими захватчиками и шведскими феодалами» были включены такие формулировки: «жестокое порабощение и истребление немецкими феодалами завоеванных народов», «отпор немецкой агрессии», «разгром немецких «псов-рыцарей» на Чудском озере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9" descr="7.png"/>
          <p:cNvPicPr/>
          <p:nvPr/>
        </p:nvPicPr>
        <p:blipFill>
          <a:blip r:embed="rId2"/>
          <a:stretch/>
        </p:blipFill>
        <p:spPr>
          <a:xfrm>
            <a:off x="7162920" y="5380200"/>
            <a:ext cx="1981080" cy="1477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8.png"/>
          <p:cNvPicPr/>
          <p:nvPr/>
        </p:nvPicPr>
        <p:blipFill>
          <a:blip r:embed="rId3"/>
          <a:stretch/>
        </p:blipFill>
        <p:spPr>
          <a:xfrm>
            <a:off x="4500720" y="335772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1" descr="9.png"/>
          <p:cNvPicPr/>
          <p:nvPr/>
        </p:nvPicPr>
        <p:blipFill>
          <a:blip r:embed="rId4"/>
          <a:stretch/>
        </p:blipFill>
        <p:spPr>
          <a:xfrm>
            <a:off x="7315200" y="33577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2" descr="10.png"/>
          <p:cNvPicPr/>
          <p:nvPr/>
        </p:nvPicPr>
        <p:blipFill>
          <a:blip r:embed="rId5"/>
          <a:stretch/>
        </p:blipFill>
        <p:spPr>
          <a:xfrm>
            <a:off x="4214880" y="5524560"/>
            <a:ext cx="2193840" cy="13334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3" descr="11.png"/>
          <p:cNvPicPr/>
          <p:nvPr/>
        </p:nvPicPr>
        <p:blipFill>
          <a:blip r:embed="rId6"/>
          <a:stretch/>
        </p:blipFill>
        <p:spPr>
          <a:xfrm>
            <a:off x="5786280" y="1785960"/>
            <a:ext cx="2103480" cy="1393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4" descr="12.png"/>
          <p:cNvPicPr/>
          <p:nvPr/>
        </p:nvPicPr>
        <p:blipFill>
          <a:blip r:embed="rId7"/>
          <a:stretch/>
        </p:blipFill>
        <p:spPr>
          <a:xfrm>
            <a:off x="4429080" y="0"/>
            <a:ext cx="1501920" cy="19512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5" descr="15.png"/>
          <p:cNvPicPr/>
          <p:nvPr/>
        </p:nvPicPr>
        <p:blipFill>
          <a:blip r:embed="rId8"/>
          <a:stretch/>
        </p:blipFill>
        <p:spPr>
          <a:xfrm>
            <a:off x="7566120" y="0"/>
            <a:ext cx="1577880" cy="1851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6" descr="16.png"/>
          <p:cNvPicPr/>
          <p:nvPr/>
        </p:nvPicPr>
        <p:blipFill>
          <a:blip r:embed="rId2"/>
          <a:stretch/>
        </p:blipFill>
        <p:spPr>
          <a:xfrm>
            <a:off x="0" y="0"/>
            <a:ext cx="3875040" cy="2143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648320" y="-360"/>
            <a:ext cx="4495680" cy="612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том 1941 г. свыше 152 тыс. учащихся и более 8 тыс. учителей Ростовской области и Краснодарского края выехали в колхозы и совхозы региона на уборку урожая.  Подростки перевыполняли взрослые нормы выработки. Старшеклассники и преподавательский состав, одновременно с участием в различных полевых работах, стремились освоить технику и заменить ушедших на фронт комбайнеров и трактористов. Опыт первого военного лета показал, что школьные бригады оказали колхозникам ощутимую помощь в сборе урожая. У старшеклассников занятия начинались не с сентября, а с октября. При этом надо отметить, что в случае необходимости по решению местных властей подростки оказывали помощь колхозникам во время учебного процесса. В октябре 1941 г. учащиеся и учителя Сальского района Ростовской области в соответствии с распоряжением обкома ВКП(б) были привлечены к уборке урожая в порядке трудовой повин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7" descr="17.png"/>
          <p:cNvPicPr/>
          <p:nvPr/>
        </p:nvPicPr>
        <p:blipFill>
          <a:blip r:embed="rId3"/>
          <a:stretch/>
        </p:blipFill>
        <p:spPr>
          <a:xfrm>
            <a:off x="2786040" y="4068720"/>
            <a:ext cx="2254320" cy="27892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8" descr="18.png"/>
          <p:cNvPicPr/>
          <p:nvPr/>
        </p:nvPicPr>
        <p:blipFill>
          <a:blip r:embed="rId4"/>
          <a:stretch/>
        </p:blipFill>
        <p:spPr>
          <a:xfrm>
            <a:off x="785880" y="2143080"/>
            <a:ext cx="297792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 организационном процессе огромную поддержку учительскому коллективу оказали родители. Они активно подключились к работе ученических кружков по пошиву и вязке теплой одежды для защитников отечества. Газета «Молот» от 18 сентября 1941 г. писала: «…Кончились уроки. Тишина. Но классы не опустели. Склонившись над вязанием, сидят мальчики и девочки. Это ученики 4-го класса 34-ой Ростовской школы. Они готовят теплые вещи отцам и братьям на фронт…» За первый военный год только школьными коллективами Краснодарского края было отослано в действующую армию 14 тыс. посылок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6" descr="19.png"/>
          <p:cNvPicPr/>
          <p:nvPr/>
        </p:nvPicPr>
        <p:blipFill>
          <a:blip r:embed="rId2"/>
          <a:stretch/>
        </p:blipFill>
        <p:spPr>
          <a:xfrm>
            <a:off x="5072040" y="3656160"/>
            <a:ext cx="3643200" cy="24685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20.png"/>
          <p:cNvPicPr/>
          <p:nvPr/>
        </p:nvPicPr>
        <p:blipFill>
          <a:blip r:embed="rId3"/>
          <a:stretch/>
        </p:blipFill>
        <p:spPr>
          <a:xfrm>
            <a:off x="4910040" y="0"/>
            <a:ext cx="423396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5.png"/>
          <p:cNvPicPr/>
          <p:nvPr/>
        </p:nvPicPr>
        <p:blipFill>
          <a:blip r:embed="rId2"/>
          <a:stretch/>
        </p:blipFill>
        <p:spPr>
          <a:xfrm>
            <a:off x="0" y="2284560"/>
            <a:ext cx="3071880" cy="4573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 женских школах больше уделялось внимания изучению радиотелеграфии, санитарного дела, прививались навыки рукоделия и домоводства. В мужских учебных заведениях большое распространение получила организация занятий по огневой, строевой и  физической подготовке, кружков электротехнических и радиолюбителей.  В условиях военного времени раздельное обучения мальчиков и девочек имело ряд преимуществ, в частности, его введение позволило повысить качество трудового воспитания и военной подготовки подростк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7" descr="6.png"/>
          <p:cNvPicPr/>
          <p:nvPr/>
        </p:nvPicPr>
        <p:blipFill>
          <a:blip r:embed="rId3"/>
          <a:stretch/>
        </p:blipFill>
        <p:spPr>
          <a:xfrm>
            <a:off x="2286000" y="0"/>
            <a:ext cx="2465280" cy="3705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3T04:35:09Z</dcterms:created>
  <dc:creator>Гость</dc:creator>
  <dc:description/>
  <dc:language>en-US</dc:language>
  <cp:lastModifiedBy>Acer</cp:lastModifiedBy>
  <dcterms:modified xsi:type="dcterms:W3CDTF">2014-10-24T14:36:23Z</dcterms:modified>
  <cp:revision>9</cp:revision>
  <dc:subject/>
  <dc:title>Презентация PowerPoint</dc:title>
</cp:coreProperties>
</file>