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CAFE-E822-4473-8196-21FC9DAB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0F0D-1365-41A0-9708-55E738BC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9C03-B6AB-4FB6-97A3-F17465609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E020-3CC0-40FA-80F4-91D6B49E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4B63-F8FA-4B2C-A93A-28D22D91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E95B-E878-4609-869C-D19B2629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CCAA-0D3E-4D89-8C99-8629DBCE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F372-D1D2-4E1D-888F-D9A9DD6C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FF5A-4EF9-409A-B856-1C1E4B7E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E4CE-0E80-400A-91A9-6E07D1AA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4763-9F9A-494C-83DB-0B9D64B9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EB84-E5D5-4001-B6D4-C2C47864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B72E-7BCD-4D1A-9B23-27B64675E3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крышкин А. И. – легендарный советский летчик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Создатели Побед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51280" y="3886200"/>
            <a:ext cx="4681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пекунова М.  8 класс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            МБОУ ЛМ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468360" y="4869000"/>
            <a:ext cx="7920000" cy="1618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1941 года Покрышкиным были одержаны ещё 15 официальных побед, не вошедших в его общий счет. Причиной этому было уничтожение документов штаба истребительного авиаполка при отступлении. Сам Александр Иванович по этому поводу говорил, что эти не посчитанные самолеты все равно пойдут в общий счет Поб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8" descr="http://young.rzd.ru/dbmm/images/41/4080/4581319"/>
          <p:cNvPicPr/>
          <p:nvPr/>
        </p:nvPicPr>
        <p:blipFill>
          <a:blip r:embed="rId1"/>
          <a:stretch/>
        </p:blipFill>
        <p:spPr>
          <a:xfrm>
            <a:off x="1258920" y="189000"/>
            <a:ext cx="6265800" cy="455292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0" descr="http://s011.radikal.ru/i317/1011/02/6cf0f03c4239.jpg"/>
          <p:cNvPicPr/>
          <p:nvPr/>
        </p:nvPicPr>
        <p:blipFill>
          <a:blip r:embed="rId1"/>
          <a:stretch/>
        </p:blipFill>
        <p:spPr>
          <a:xfrm>
            <a:off x="3851280" y="0"/>
            <a:ext cx="4416480" cy="663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Прямоугольник 6"/>
          <p:cNvSpPr/>
          <p:nvPr/>
        </p:nvSpPr>
        <p:spPr>
          <a:xfrm>
            <a:off x="484560" y="5516640"/>
            <a:ext cx="312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амятник Покрышкину 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г. Новосиби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324000" y="549360"/>
            <a:ext cx="3095640" cy="1618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того, неофициальный список его побед (как и всех пилотов РККА) может быть значительно боль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5867280" y="1002600"/>
            <a:ext cx="3132360" cy="4757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(6 марта 1913 года, Новониколаевск —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13 ноября 1985 года, Москва) —советский лётчик-ас, второй по результативности (после Ивана Кожедуба) пилот-истребитель среди лётчиков стран антигитлеровской коалиции во Второй мировой войне. Первый Трижды Герой Советского Союза. Маршал авиации(197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1223640" y="0"/>
            <a:ext cx="61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Алекса́ндр Ива́нович Покры́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24000" y="5807520"/>
            <a:ext cx="8496000" cy="703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Выпустился с высшими оценками в 1939 году, и в звании лейтенанта был распределён в 55-й истребительный авиационный пол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6" descr="http://topwar.ru/uploads/posts/2011-10/1317541377_1371258.jpg"/>
          <p:cNvPicPr/>
          <p:nvPr/>
        </p:nvPicPr>
        <p:blipFill>
          <a:blip r:embed="rId1"/>
          <a:stretch/>
        </p:blipFill>
        <p:spPr>
          <a:xfrm>
            <a:off x="0" y="1052640"/>
            <a:ext cx="5591160" cy="43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179280" y="357480"/>
            <a:ext cx="4500720" cy="5306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астие в Великой Отечественной войне   1941—19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н был в Молдавии в июне 1941 года, близко к границе, и его аэродром подвергся бомбардировке 22 июня, в первый день войны. Его первая воздушная схватка закончилась катастрофой: он подбил советский самолёт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лёгкий бомбардировщик Су-2 211-го бомбардировочного полка. Его пилот выжил, но штурман Семёнов был уб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следующий день он одержал свою первую победу, сбив во время разведки истребитель Мессершмитт Bf-109. 3 июля, одержав ещё несколько побед, он был подбит немецким зенитным орудием за линией фронта и четыре дня пробирался в свою ча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12" descr="http://www.rkka.ru/uniform/images/vvs_30_bw.jpg"/>
          <p:cNvPicPr/>
          <p:nvPr/>
        </p:nvPicPr>
        <p:blipFill>
          <a:blip r:embed="rId1"/>
          <a:stretch/>
        </p:blipFill>
        <p:spPr>
          <a:xfrm>
            <a:off x="4835520" y="115920"/>
            <a:ext cx="4076640" cy="604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50920" y="569880"/>
            <a:ext cx="3097080" cy="4483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о время первых недель войны Покрышкин ясно увидел, как устарела тактика советских ВВС, и начал понемногу заносить свои идеи в записную книжку. Он аккуратно записывал все детали воздушных боёв, в которых участвовал он и его друзья, и делал детальный анализ. Ему приходилось сражаться в крайне тяжёлых условиях постоянного отступления. Позже он говори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1403280" y="5300640"/>
            <a:ext cx="74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«Тот, кто не воевал в 1941—1942, не знает настоящей войн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4" descr="http://scilib-avia.narod.ru/Aviation/images/092.gif"/>
          <p:cNvPicPr/>
          <p:nvPr/>
        </p:nvPicPr>
        <p:blipFill>
          <a:blip r:embed="rId1"/>
          <a:stretch/>
        </p:blipFill>
        <p:spPr>
          <a:xfrm>
            <a:off x="3662280" y="333360"/>
            <a:ext cx="5019840" cy="417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468360" y="5162040"/>
            <a:ext cx="8207280" cy="1191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окрышкин несколько раз был близок к гибели. Пулемётная пуля прошла через его сиденье с правой стороны, повредила плечевой ремень, отрикошетила от левой стороны и поцарапала подбородок, покрыв приборную доску кро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75" descr="http://m2.vgorode.ru/1512062/6908363/6.jpeg"/>
          <p:cNvPicPr/>
          <p:nvPr/>
        </p:nvPicPr>
        <p:blipFill>
          <a:blip r:embed="rId1"/>
          <a:stretch/>
        </p:blipFill>
        <p:spPr>
          <a:xfrm>
            <a:off x="1258920" y="189000"/>
            <a:ext cx="6337440" cy="47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250920" y="5021280"/>
            <a:ext cx="8713800" cy="1554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Зимой 1941 Покрышкин, управляя МиГ-3, взлетел, несмотря на грязь и дождь после того, как двое других пилотов разбились, пытаясь взлететь. Его задание состояло в том, чтобы определить местонахождение танков фон Клейста, который был остановлен перед городом Шахты и затем был потерян советской разведкой. После того как он, несмотря на кончавшееся топливо и тяжёлые погодные условия, смог вернуться и доложить эту важную информацию, он был награждён Орденом Лен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6" descr="http://mashtab-ekb.ru/images/ARK48015.jpg"/>
          <p:cNvPicPr/>
          <p:nvPr/>
        </p:nvPicPr>
        <p:blipFill>
          <a:blip r:embed="rId1"/>
          <a:stretch/>
        </p:blipFill>
        <p:spPr>
          <a:xfrm>
            <a:off x="1116000" y="189000"/>
            <a:ext cx="6624720" cy="470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324000" y="60480"/>
            <a:ext cx="8640720" cy="2288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В январе 1943 16-й гвардейский авиаполк был послан за границу, в Иран, чтобы получить новую технику. Полк вернулся на фронт 8 апреля 1943. Во время первого же своего вылета на новом самолёте «Аэрокобра» Покрышкин сбил Bf-109. На следующий день 9 апреля он смог подтвердить ещё 2 из 7 сбитых им самолётов. Всего в этот период Покрышкин записал на свой счёт десять сбитых Bf-109. Покрышкин получил своё первое звание Героя Советского Союза 24 апреля 1943, звание майора ему было присвоено в ию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27" descr="http://www.mccme.ru/60let/464/Letchiki/pokrish8.gif"/>
          <p:cNvPicPr/>
          <p:nvPr/>
        </p:nvPicPr>
        <p:blipFill>
          <a:blip r:embed="rId1"/>
          <a:stretch/>
        </p:blipFill>
        <p:spPr>
          <a:xfrm>
            <a:off x="395280" y="3429000"/>
            <a:ext cx="821232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250920" y="4869000"/>
            <a:ext cx="8642160" cy="1618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ольшинстве вылетов Покрышкин брал на себя самую трудную задачу — сбить лидеа. Как он понял из опыта 1941—1942, подбить лидера значило деморализовать противника и часто этим заставить его вернуться на свой аэродром. Вторую звезду Героя Советского Союза Покрышкин получил 24 августа 194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33" descr="http://img11.nnm.ru/0/a/e/d/1/6d56c5f435231b7a7d3e2d59395.jpg"/>
          <p:cNvPicPr/>
          <p:nvPr/>
        </p:nvPicPr>
        <p:blipFill>
          <a:blip r:embed="rId1"/>
          <a:srcRect l="36610" t="61021" r="2710" b="2710"/>
          <a:stretch/>
        </p:blipFill>
        <p:spPr>
          <a:xfrm>
            <a:off x="755640" y="260280"/>
            <a:ext cx="7467480" cy="44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250920" y="4653000"/>
            <a:ext cx="8713800" cy="2228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 августа 1944, после 550 боевых вылетов и 53 официальных побед, Покрышкин был награждён Золотой Звездой Героя Советского Союза в третий раз. Он стал первым трижды Героем Советского Союза в стране. Всего за годы войны Покрышкин совершил 650 вылетов, провел 156 воздушных боев, сбил 59 вражеских самолетов лично и 6 — в группе. Из 65 его официальных побед только 6 были одержаны в последние два года вой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60" descr="рисунок Ил-2"/>
          <p:cNvPicPr/>
          <p:nvPr/>
        </p:nvPicPr>
        <p:blipFill>
          <a:blip r:embed="rId1"/>
          <a:stretch/>
        </p:blipFill>
        <p:spPr>
          <a:xfrm>
            <a:off x="900000" y="189000"/>
            <a:ext cx="691200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4-28T06:03:53Z</dcterms:modified>
  <cp:revision>10</cp:revision>
  <dc:subject/>
  <dc:title>Слайд 1</dc:title>
</cp:coreProperties>
</file>