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171-9523-4D17-88A6-4B89C6BB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4D5-9F72-43EA-A1BC-7A2C3FD4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468-3471-4404-B420-1E9D3D63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868-67EA-48E2-8690-A8E46E86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0DB-729C-4CDF-93F0-F3F3DC18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1C8-B1BD-4CFA-81CA-24A95CC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EA8-E224-41FF-A8D3-54A9655B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B56-4075-458C-8C09-66D2DA03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C8D-2C76-4597-AE3C-ED0B2D37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37B-8E5E-4B9C-851E-F513EA0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E8D-8F1C-4A90-967E-EDBA82D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441-FE41-4998-A2CD-084FE33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310523-B10E-4E7A-A2A8-391E8653755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%7B025DC3EF-5E88-49DB-9D68-187B3DE47FD1%7D.avi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720360"/>
            <a:ext cx="88200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а безопасности и поведения при пож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50920" y="2700360"/>
            <a:ext cx="49532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9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акуация из горящего и задымленного 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идать задымлённое помещение следует ползком, защитив глаза и органы дыхания, в сторону с наименьшим задымлением. Ни в коем случае не пользоваться лиф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89308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1240" bIns="46800" anchor="t">
            <a:noAutofit/>
          </a:bodyPr>
          <a:p>
            <a:pPr algn="ctr"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пожа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Действ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ных при тушении очагов возгорания выполняются в соответствии со специальным планом, разработанным штабом пожароту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8200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ы пожароту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особы, основанные на ликвидации одной из составляющих "треугольника огня" с помощью средств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9789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35000" bIns="46800" anchor="t">
            <a:noAutofit/>
          </a:bodyPr>
          <a:p>
            <a:pPr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правило тушения ог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ледующее: накройте горящий предмет плотной тканью или одеялом и немедленно выходите из помещения, плотно закрыв за собой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1905120"/>
            <a:ext cx="4191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 возгорании телевиз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- обесточить его, если после этого он продолжает гореть, накрыть его одеялом. Если он взорвался и пожар усилился, покинуть помещение, закрыв дверь и окна и сообщить пожа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820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пожароту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испособления для тушения пожара различн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692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675640" cy="37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ожаре запре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ушить огонь до вызова пожар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ыходить через задымленную лестн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ьзовать лифт, водосточные трубы, вере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крывать двери, окна и выпрыгивать из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ушить водой включенные электропри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5760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в случае невозможности эвакуации из горящего з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возможности покинуть помещение следует закрыться в дальней комнате, загерметизировав её, или выбраться на балкон, плотно прикрыв за собой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при пожаре на при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73204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12000" y="1379520"/>
            <a:ext cx="2808000" cy="22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4000" y="1413000"/>
            <a:ext cx="273204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03640" y="4005360"/>
            <a:ext cx="2636640" cy="210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50920" y="4005360"/>
            <a:ext cx="2843280" cy="2274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132000" y="1413000"/>
            <a:ext cx="2732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 пож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пожара у пострадавших возможны ожоги, отравления продуктами горения, травмы от обрушения сооружений и мебели, падения тяжёлых предметов. В ряде случаев возникает па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1571760"/>
            <a:ext cx="7050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820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9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равила пожар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ет строго соблюдать правила хранения и обращения с электрическими, газовыми приборами и оборудованием, легко воспламеняющимися и горючими веществами, печным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7151760" cy="53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58480"/>
            <a:ext cx="53276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гонь - друг и враг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1844280"/>
            <a:ext cx="52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онь был и остается одним из первых помощников человека. Но если дать огню волю, не соблюдать правила пожарной безопасности, то добро превращается в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778120" cy="22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11120" y="53928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У школа № 4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-360"/>
            <a:ext cx="47527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6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онь – друг и враг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2707920"/>
            <a:ext cx="29876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сторожное обращение с огнем и может стать причиной опас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024000" cy="242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16360" y="1916280"/>
            <a:ext cx="3213000" cy="257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665680" y="4065480"/>
            <a:ext cx="347832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 ог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оцесса горения необходимы: горючее вещество, окислитель, источник воспламенения. "Треугольник огня" - источник тепла + горючее +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172120" cy="416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33940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040" bIns="46800" anchor="t">
            <a:noAutofit/>
          </a:bodyPr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ми факторами пож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: открытый огонь, высокая температура среды, токсичные продукты горения, потеря видимости вследствие задымления, понижение концентрации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9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ричины пожаров в жилых и общественных зд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причиной пожара становятся: неосторожное обращение с огнем; нарушение правил эксплуатации и неисправность электрооборудования и печного отопления; детская шалость с огнем; курени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1467000"/>
            <a:ext cx="7188480" cy="53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24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ичные поражающие факторы пож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ыми спутниками огня являются: ядовитый дым, высокая температура, плохая видимость, паника и растерянность, обрыв электропроводов и возможность поражения электротоком, обрушение констру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71640" y="1803240"/>
            <a:ext cx="734544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ожаре в кварти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ужно её покинуть, предварительно проверив не остался ли кто-либо из людей, а затем вызвать пожарную охрану с помощью взрослых или, если их нет,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5040" bIns="46800" anchor="t">
            <a:noAutofit/>
          </a:bodyPr>
          <a:p>
            <a:pPr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идать задымлённое поме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едует ползком, защитив глаза и органы дыхания, в наименее задымленную сторону. Ни в коем случае не пользоваться лиф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860640"/>
            <a:ext cx="3384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58:44Z</dcterms:created>
  <dc:creator>Алексей</dc:creator>
  <dc:description/>
  <dc:language>en-US</dc:language>
  <cp:lastModifiedBy>Boss</cp:lastModifiedBy>
  <dcterms:modified xsi:type="dcterms:W3CDTF">2011-10-17T13:07:57Z</dcterms:modified>
  <cp:revision>46</cp:revision>
  <dc:subject/>
  <dc:title>Слайд 1</dc:title>
</cp:coreProperties>
</file>