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5D50-233C-494A-B219-E3AF3208C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50C4-AC48-4241-8CC2-0819EFE77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6673-F9BD-4FC0-87CA-E7AB6EDE8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6ECC-1497-4E09-AA5A-E13BD8AB9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D324-CA2B-4245-B2B1-95E7776DE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ADB1-1DFB-410D-B3E6-25F1EAF26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6B49-DFEF-4A4F-80C0-CB444318B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0349-1D1E-4E55-B7C3-5E77ABC96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6976-9849-4907-88B9-CCE720A86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9EF6-3F85-4632-918E-BEEF4C0C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7B9C-58D9-4169-B06C-131E920B8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B462-4849-4EFF-A33D-810675418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66784DB-A705-4B61-99F3-29EB22F33598}" type="slidenum">
              <a:rPr b="0" lang="ru-RU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%7B025DC3EF-5E88-49DB-9D68-187B3DE47FD1%7D.avi" TargetMode="External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24000" y="720360"/>
            <a:ext cx="882000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9280" bIns="468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равила безопасности и поведения при пожар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050920" y="2700360"/>
            <a:ext cx="495324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0" y="259920"/>
            <a:ext cx="88200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09800" bIns="46800" anchor="t">
            <a:noAutofit/>
          </a:bodyPr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вакуация из горящего и задымленного помещ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кидать задымлённое помещение следует ползком, защитив глаза и органы дыхания, в сторону с наименьшим задымлением. Ни в коем случае не пользоваться лиф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042920" y="1484280"/>
            <a:ext cx="6769080" cy="50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250560" y="1699920"/>
            <a:ext cx="8893080" cy="28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11240" bIns="46800" anchor="t">
            <a:noAutofit/>
          </a:bodyPr>
          <a:p>
            <a:pPr algn="ctr">
              <a:lnSpc>
                <a:spcPct val="84000"/>
              </a:lnSpc>
              <a:spcBef>
                <a:spcPts val="799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бота пожар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4000"/>
              </a:lnSpc>
              <a:spcBef>
                <a:spcPts val="799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Действия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жарных при тушении очагов возгорания выполняются в соответствии со специальным планом, разработанным штабом пожаротуш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4000"/>
              </a:lnSpc>
              <a:spcBef>
                <a:spcPts val="799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8820000" cy="15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8040" bIns="46800" anchor="t">
            <a:noAutofit/>
          </a:bodyPr>
          <a:p>
            <a:pPr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особы пожаротуш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способы, основанные на ликвидации одной из составляющих "треугольника огня" с помощью средств пожароту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187280" y="1268280"/>
            <a:ext cx="6978960" cy="523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0" y="259920"/>
            <a:ext cx="882000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35000" bIns="46800" anchor="t">
            <a:noAutofit/>
          </a:bodyPr>
          <a:p>
            <a:pPr>
              <a:lnSpc>
                <a:spcPct val="75000"/>
              </a:lnSpc>
              <a:spcBef>
                <a:spcPts val="700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ное правило тушения огн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ледующее: накройте горящий предмет плотной тканью или одеялом и немедленно выходите из помещения, плотно закрыв за собой двер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2133720"/>
            <a:ext cx="4267080" cy="36576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724280" y="1905120"/>
            <a:ext cx="41911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920" bIns="46800" anchor="t">
            <a:noAutofit/>
          </a:bodyPr>
          <a:p>
            <a:pPr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ри возгорании телевизор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- обесточить его, если после этого он продолжает гореть, накрыть его одеялом. Если он взорвался и пожар усилился, покинуть помещение, закрыв дверь и окна и сообщить пожар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8820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8040" bIns="46800" anchor="t">
            <a:noAutofit/>
          </a:bodyPr>
          <a:p>
            <a:pPr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едства пожаротуш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приспособления для тушения пожара различными способ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826920" y="114300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8675640" cy="37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1640" bIns="46800" anchor="t">
            <a:noAutofit/>
          </a:bodyPr>
          <a:p>
            <a:pPr algn="ctr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 пожаре запреща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тушить огонь до вызова пожарных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выходить через задымленную лестниц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использовать лифт, водосточные трубы, верев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открывать двери, окна и выпрыгивать из ни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тушить водой включенные электроприбо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657600" y="3483000"/>
            <a:ext cx="4500720" cy="337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799308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08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авила поведения в случае невозможности эвакуации из горящего зд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0" y="2421000"/>
            <a:ext cx="88200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невозможности покинуть помещение следует закрыться в дальней комнате, загерметизировав её, или выбраться на балкон, плотно прикрыв за собой дв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08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ействия при пожаре на природ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012000" y="4005360"/>
            <a:ext cx="2732040" cy="2185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6012000" y="1379520"/>
            <a:ext cx="2808000" cy="22478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324000" y="1413000"/>
            <a:ext cx="2732040" cy="2187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3203640" y="4005360"/>
            <a:ext cx="2636640" cy="2109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>
            <a:off x="250920" y="4005360"/>
            <a:ext cx="2843280" cy="22748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7"/>
          <a:stretch/>
        </p:blipFill>
        <p:spPr>
          <a:xfrm>
            <a:off x="3132000" y="1413000"/>
            <a:ext cx="2732400" cy="21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2400" bIns="46800" anchor="t">
            <a:noAutofit/>
          </a:bodyPr>
          <a:p>
            <a:pPr algn="ctr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ледствия пожа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езультате пожара у пострадавших возможны ожоги, отравления продуктами горения, травмы от обрушения сооружений и мебели, падения тяжёлых предметов. В ряде случаев возникает па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547640" y="1571760"/>
            <a:ext cx="7050240" cy="528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324000" y="-360"/>
            <a:ext cx="88200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09800" bIns="46800" anchor="t">
            <a:noAutofit/>
          </a:bodyPr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ные правила пожарной безопас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едует строго соблюдать правила хранения и обращения с электрическими, газовыми приборами и оборудованием, легко воспламеняющимися и горючими веществами, печным оборудова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295280" y="1295280"/>
            <a:ext cx="7151760" cy="53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258480"/>
            <a:ext cx="5327640" cy="12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08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гонь - друг и враг челове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-360" y="1844280"/>
            <a:ext cx="5256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гонь был и остается одним из первых помощников человека. Но если дать огню волю, не соблюдать правила пожарной безопасности, то добро превращается в з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651640" y="2421000"/>
            <a:ext cx="2778120" cy="222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1644120"/>
            <a:ext cx="82296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11120" y="539280"/>
            <a:ext cx="82296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У школа № 47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067280" y="-360"/>
            <a:ext cx="475272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568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гонь – друг и враг челове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-360" y="2707920"/>
            <a:ext cx="298764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осторожное обращение с огнем и может стать причиной опасной ситу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3024000" cy="2427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2916360" y="1916280"/>
            <a:ext cx="3213000" cy="2579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5665680" y="4065480"/>
            <a:ext cx="3478320" cy="279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0" y="259920"/>
            <a:ext cx="8820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2400" bIns="46800" anchor="t">
            <a:noAutofit/>
          </a:bodyPr>
          <a:p>
            <a:pPr algn="ctr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еугольник ог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процесса горения необходимы: горючее вещество, окислитель, источник воспламенения. "Треугольник огня" - источник тепла + горючее + кислор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635280" y="1916280"/>
            <a:ext cx="5172120" cy="4168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250920" y="2349360"/>
            <a:ext cx="3394080" cy="357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88200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8040" bIns="46800" anchor="t">
            <a:noAutofit/>
          </a:bodyPr>
          <a:p>
            <a:pPr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асными факторами пожар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являются: открытый огонь, высокая температура среды, токсичные продукты горения, потеря видимости вследствие задымления, понижение концентрации кислор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258920" y="1557360"/>
            <a:ext cx="6762600" cy="507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09800" bIns="46800" anchor="t">
            <a:noAutofit/>
          </a:bodyPr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ные причины пожаров в жилых и общественных здан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асто причиной пожара становятся: неосторожное обращение с огнем; нарушение правил эксплуатации и неисправность электрооборудования и печного отопления; детская шалость с огнем; курение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187280" y="1467000"/>
            <a:ext cx="7188480" cy="539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24000" y="0"/>
            <a:ext cx="882000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2400" bIns="46800" anchor="t">
            <a:noAutofit/>
          </a:bodyPr>
          <a:p>
            <a:pPr algn="ctr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торичные поражающие факторы пожа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асными спутниками огня являются: ядовитый дым, высокая температура, плохая видимость, паника и растерянность, обрыв электропроводов и возможность поражения электротоком, обрушение конструк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971640" y="1803240"/>
            <a:ext cx="7345440" cy="505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440" bIns="46800" anchor="t">
            <a:noAutofit/>
          </a:bodyPr>
          <a:p>
            <a:pPr>
              <a:lnSpc>
                <a:spcPct val="93000"/>
              </a:lnSpc>
              <a:spcBef>
                <a:spcPts val="499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 пожаре в квартир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ужно её покинуть, предварительно проверив не остался ли кто-либо из людей, а затем вызвать пожарную охрану с помощью взрослых или, если их нет, самостоятель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55640" y="114300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5040" bIns="46800" anchor="t">
            <a:noAutofit/>
          </a:bodyPr>
          <a:p>
            <a:pPr>
              <a:lnSpc>
                <a:spcPct val="84000"/>
              </a:lnSpc>
              <a:spcBef>
                <a:spcPts val="601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кидать задымлённое помещ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ледует ползком, защитив глаза и органы дыхания, в наименее задымленную сторону. Ни в коем случае не пользоваться лиф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48000" y="3860640"/>
            <a:ext cx="338472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920" bIns="46800" anchor="t">
            <a:spAutoFit/>
          </a:bodyPr>
          <a:p>
            <a:pPr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Аним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0T15:58:44Z</dcterms:created>
  <dc:creator>Алексей</dc:creator>
  <dc:description/>
  <dc:language>en-US</dc:language>
  <cp:lastModifiedBy>Boss</cp:lastModifiedBy>
  <dcterms:modified xsi:type="dcterms:W3CDTF">2011-10-17T13:07:57Z</dcterms:modified>
  <cp:revision>46</cp:revision>
  <dc:subject/>
  <dc:title>Слайд 1</dc:title>
</cp:coreProperties>
</file>