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9.png" ContentType="image/png"/>
  <Override PartName="/ppt/media/image13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EFB83-27D4-46E3-8F3C-BC9F284A5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DE987-D7C5-431A-9082-976F68C22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AF01B-81B3-49FA-B0A4-B16AC03DB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15855-F651-4A4F-B8EF-765EFD615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3C25E-F731-4006-A699-CB4C16943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F9D2B-D860-4C53-AC65-31730D803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C6B-58A5-498D-B83D-0FC56EBA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1AB-1B3A-4164-A5EF-DA31A80E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E71-C1E6-4255-9133-ECD8E554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6C6-6E41-4B17-85F6-F47ECDF5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E4D-B0D7-427C-8C63-4578F6F1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AA8-9FED-4D9F-ACA7-948CF21B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839-DDE3-43EE-BF61-7CBB59EE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12C-20B6-43C7-ACF1-51131FDA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7FF-B933-4A1D-9E6E-95069513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1D2-29C9-4D4A-B23C-443BB115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D2C-970E-4C02-A5F8-FF8E238F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0AC-22A4-4D70-B128-E93F92C7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66878-0E46-41DA-8699-26D7DBAA3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236600" y="3638520"/>
            <a:ext cx="772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:\Users\User\Documents\к уроку\фр Прос\Мой фильм.w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"/>
          <p:cNvGrpSpPr/>
          <p:nvPr/>
        </p:nvGrpSpPr>
        <p:grpSpPr>
          <a:xfrm>
            <a:off x="900000" y="1440000"/>
            <a:ext cx="8203680" cy="4069800"/>
            <a:chOff x="900000" y="1440000"/>
            <a:chExt cx="8203680" cy="4069800"/>
          </a:xfrm>
        </p:grpSpPr>
        <p:pic>
          <p:nvPicPr>
            <p:cNvPr id="50" name="Picture 3" descr=""/>
            <p:cNvPicPr/>
            <p:nvPr/>
          </p:nvPicPr>
          <p:blipFill>
            <a:blip r:embed="rId1"/>
            <a:stretch/>
          </p:blipFill>
          <p:spPr>
            <a:xfrm>
              <a:off x="3021840" y="1783440"/>
              <a:ext cx="3808080" cy="37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900000" y="2154600"/>
              <a:ext cx="1419840" cy="18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5" descr=""/>
            <p:cNvPicPr/>
            <p:nvPr/>
          </p:nvPicPr>
          <p:blipFill>
            <a:blip r:embed="rId3"/>
            <a:stretch/>
          </p:blipFill>
          <p:spPr>
            <a:xfrm>
              <a:off x="6930720" y="1440000"/>
              <a:ext cx="2172960" cy="27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000080"/>
                </a:solidFill>
                <a:latin typeface="Arial"/>
              </a:rPr>
              <a:t>ДИФФЕРЕНЦИАЦИЯ ЗВУКОВ [С-Ш] В ПРЕДЛОЖ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866960" y="30240"/>
            <a:ext cx="6460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054080" y="-46080"/>
            <a:ext cx="7405560" cy="7426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6899400" y="179280"/>
            <a:ext cx="138096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1062000" y="3625920"/>
            <a:ext cx="7999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:\Users\User\Documents\к уроку\фр Прос\Дядя Федор 2.w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179280"/>
            <a:ext cx="723888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Дядя Федор 2" descr=""/>
          <p:cNvPicPr/>
          <p:nvPr/>
        </p:nvPicPr>
        <p:blipFill>
          <a:blip r:embed="rId1"/>
          <a:stretch/>
        </p:blipFill>
        <p:spPr>
          <a:xfrm>
            <a:off x="503280" y="1116000"/>
            <a:ext cx="88678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"/>
          <p:cNvPicPr/>
          <p:nvPr/>
        </p:nvPicPr>
        <p:blipFill>
          <a:blip r:embed="rId2"/>
          <a:stretch/>
        </p:blipFill>
        <p:spPr>
          <a:xfrm>
            <a:off x="284040" y="264960"/>
            <a:ext cx="9512280" cy="702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2"/>
          <a:stretch/>
        </p:blipFill>
        <p:spPr>
          <a:xfrm>
            <a:off x="-431640" y="2411280"/>
            <a:ext cx="116935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"/>
          <p:cNvPicPr/>
          <p:nvPr/>
        </p:nvPicPr>
        <p:blipFill>
          <a:blip r:embed="rId2"/>
          <a:stretch/>
        </p:blipFill>
        <p:spPr>
          <a:xfrm>
            <a:off x="534960" y="611280"/>
            <a:ext cx="90108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3:32:32Z</dcterms:created>
  <dc:creator/>
  <dc:description/>
  <dc:language>en-US</dc:language>
  <cp:lastModifiedBy>User</cp:lastModifiedBy>
  <dcterms:modified xsi:type="dcterms:W3CDTF">2015-03-17T02:44:49Z</dcterms:modified>
  <cp:revision>19</cp:revision>
  <dc:subject/>
  <dc:title>ДИФФЕРЕНЦИАЦИЯ ЗВУКОВ [С-Ш] В ПРЕДЛОЖЕНИИ</dc:title>
</cp:coreProperties>
</file>