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6E470-F634-4B2D-817B-D0FD05DAA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EB78D-A121-4EE2-BE6C-0EFBCC0B4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7BF26-07FD-43D3-9DB7-1AAF61123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795D0-05A2-4DD0-898D-CD13CF619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C8DED-885C-4784-AB13-477B24255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BE467-64E0-4102-ADC3-6837392E7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192-C91A-49DF-8561-40FE986A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BFD-5AC4-4DDA-BDE9-F9D60E75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5CD-06BF-4A75-8B52-65F71EBB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295-6432-4146-BB83-2A6E3FF3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9A9-A8A0-4735-BAA0-123F94A7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206-DC1A-4BCA-BCFF-272F5684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0F6-E481-4DCE-BD7A-247565D3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AE3-7E7A-4B27-BB24-E04FCC72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84D-044F-41A3-BF00-38975D25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8C6-7BB7-45EB-A015-1AE7F71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55B-F135-4EF3-81F9-493FC4E8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10C-CC34-41DF-961C-A4063E39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45DF7-FDF3-4DE2-9895-167139434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236600" y="3638520"/>
            <a:ext cx="772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:\Users\User\Documents\к уроку\фр Прос\Мой фильм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900000" y="1440000"/>
            <a:ext cx="8203680" cy="4069800"/>
            <a:chOff x="900000" y="1440000"/>
            <a:chExt cx="8203680" cy="4069800"/>
          </a:xfrm>
        </p:grpSpPr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3021840" y="1783440"/>
              <a:ext cx="3808080" cy="37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900000" y="2154600"/>
              <a:ext cx="1419840" cy="18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" descr=""/>
            <p:cNvPicPr/>
            <p:nvPr/>
          </p:nvPicPr>
          <p:blipFill>
            <a:blip r:embed="rId3"/>
            <a:stretch/>
          </p:blipFill>
          <p:spPr>
            <a:xfrm>
              <a:off x="6930720" y="1440000"/>
              <a:ext cx="2172960" cy="27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Arial"/>
              </a:rPr>
              <a:t>ДИФФЕРЕНЦИАЦИЯ ЗВУКОВ [С-Ш] В ПРЕДЛО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866960" y="30240"/>
            <a:ext cx="6460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054080" y="-46080"/>
            <a:ext cx="7405560" cy="7426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6899400" y="179280"/>
            <a:ext cx="138096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1062000" y="3625920"/>
            <a:ext cx="799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:\Users\User\Documents\к уроку\фр Прос\Дядя Федор 2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79280"/>
            <a:ext cx="72388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Дядя Федор 2" descr=""/>
          <p:cNvPicPr/>
          <p:nvPr/>
        </p:nvPicPr>
        <p:blipFill>
          <a:blip r:embed="rId1"/>
          <a:stretch/>
        </p:blipFill>
        <p:spPr>
          <a:xfrm>
            <a:off x="503280" y="1116000"/>
            <a:ext cx="88678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284040" y="264960"/>
            <a:ext cx="9512280" cy="70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-431640" y="2411280"/>
            <a:ext cx="116935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2"/>
          <a:stretch/>
        </p:blipFill>
        <p:spPr>
          <a:xfrm>
            <a:off x="534960" y="611280"/>
            <a:ext cx="90108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3:32:32Z</dcterms:created>
  <dc:creator/>
  <dc:description/>
  <dc:language>en-US</dc:language>
  <cp:lastModifiedBy>User</cp:lastModifiedBy>
  <dcterms:modified xsi:type="dcterms:W3CDTF">2015-03-17T02:44:49Z</dcterms:modified>
  <cp:revision>19</cp:revision>
  <dc:subject/>
  <dc:title>ДИФФЕРЕНЦИАЦИЯ ЗВУКОВ [С-Ш] В ПРЕДЛОЖЕНИИ</dc:title>
</cp:coreProperties>
</file>