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5DB-1787-42A9-87A5-8D7F39D9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061-F21A-4C34-9B7E-43B08EA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8F9-575A-40FE-AB16-EA8B3ACC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1E4-836C-45F2-9C06-4484C68A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20D-AFA5-4236-977D-242553C5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6A1-3B28-48D1-9E01-56E29881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831-23E0-4504-90A0-A81DA0B1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A7D-4DAB-4153-9212-15608B3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96B-06F3-4FEA-8536-605CB80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1D4-AD8F-4B5D-875C-E40A54B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685-5244-412C-AC6A-16BE5A38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310-65A2-4154-942F-EF0C6CD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C1A-9EE7-4394-85E7-AA9211A12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кт: «Мои прадедушки и прабабушки участники Великой Отечественной Вой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ераны Великой Отечественной Войны в моей сем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 ученик 1 «Е» класса Рычков Арт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3959280" cy="51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 чего складывалась Великая Победа? Наверное, из побед больших и малых, побед над врагом  и над собой... Не все участники Великой Отечественной войны стали героями в прямом значении этого слова, но каждый из них стремился приблизить Победу. А потому в каждой семье России есть свой герой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орден победы.jpeg"/>
          <p:cNvPicPr/>
          <p:nvPr/>
        </p:nvPicPr>
        <p:blipFill>
          <a:blip r:embed="rId1"/>
          <a:stretch/>
        </p:blipFill>
        <p:spPr>
          <a:xfrm>
            <a:off x="4597560" y="1628640"/>
            <a:ext cx="4317840" cy="396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5445000"/>
            <a:ext cx="5051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оей семье тоже есть свои герои, мои прадедушки и прабабуш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4883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Мой прадедушка (папин дедушка)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Астанков Василий Петрови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7" descr="орден Отеч вой 1 степ.jpg"/>
          <p:cNvPicPr/>
          <p:nvPr/>
        </p:nvPicPr>
        <p:blipFill>
          <a:blip r:embed="rId2"/>
          <a:stretch/>
        </p:blipFill>
        <p:spPr>
          <a:xfrm>
            <a:off x="5202360" y="1197000"/>
            <a:ext cx="3744720" cy="374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897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дедушка родился в 1920 году, его призвали в армию в 18 лет. Отслужив год срочной службы, он участвовал в Советско-Финской войне 1939-1940 годов. Прадед был артиллеристом, командиром орудия.  В 1941 году, после начала войны, он попал на Ленинградский фронт, прошел блокаду Ленинграда и участвовал в её прорыве. Прадед закончил войну в 1945 году. Был два раза ранен. Награжден орденом «Отечественной войн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пени»,  медалями «За отвагу» и «За оборону Ленинграда» и другими наград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50403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адедушка (мамин дедушка) Ладухин Сергей Николаеви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DSC_1165.jpg"/>
          <p:cNvPicPr/>
          <p:nvPr/>
        </p:nvPicPr>
        <p:blipFill>
          <a:blip r:embed="rId2"/>
          <a:stretch/>
        </p:blipFill>
        <p:spPr>
          <a:xfrm>
            <a:off x="5651640" y="836640"/>
            <a:ext cx="3314520" cy="496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5400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дедушка родился в 1910 го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чалась война в 1941 году, он оказался на службе в органах Противовоздушной обороны Москвы (ПВО). Эта служба занималась защитой столицы от вражеской авиации: высвечивала прожекторами самолеты противника для работы артиллерии; обстреливали самолеты противника из пулемётов, установленных на крышах; гасили зажигательные бомбы и другие пожары; занимались маскировкой значимых объектов города и тому подобными вещами . Прадед оставался на службе до 60-х годов, имеет много нагр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32944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оя прабабушка (мамина бабушка)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духина Нина Парфён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DSC_1172.jpg"/>
          <p:cNvPicPr/>
          <p:nvPr/>
        </p:nvPicPr>
        <p:blipFill>
          <a:blip r:embed="rId2"/>
          <a:stretch/>
        </p:blipFill>
        <p:spPr>
          <a:xfrm>
            <a:off x="5513400" y="981000"/>
            <a:ext cx="347184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5329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бабушка родилась в 1922 году, закончив курсы связистов, она служила в Гвардейском артиллеристском  самоходном полку на Карельском фронте. Прабабушка тянула связь, наводила наши орудия на позиции противника, занималась секретным делопроизводством. Во время войны орудия часто перемещали лошади, и такая лошадь была у моей прабабушки, её звали Аргентина. Лошадь во время бомбёжки ложилась на землю и закрывала прабабушку от осколков снарядов. Прабабушка награждена орденом «Отечественной вой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», медалью «За боевые заслуги» и другими наград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ин дедушка, отец моей бабушки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ёлкин Александр Федорови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дился в 1914 году. Уже имея семью, в 1941 году был призван на фронт. Прадед был шофёром Автотранспортного батальона, принимал участие в боях Смоленского направления, а потом воевал на 2-ом Белорусском фронте. Дошёл до Берлина, расписался на Рейхстаге и сфотографировался около него. Был два раза ранен, имеет награды, в том числе медали «За боевые заслуги» и «За победу над Германи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IMG_0729-1.jpg"/>
          <p:cNvPicPr/>
          <p:nvPr/>
        </p:nvPicPr>
        <p:blipFill>
          <a:blip r:embed="rId1"/>
          <a:stretch/>
        </p:blipFill>
        <p:spPr>
          <a:xfrm>
            <a:off x="2124000" y="3284640"/>
            <a:ext cx="2098800" cy="3384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4" descr="image-700809d51a1ae58ef3c14361b739b74fb991412cb4fd7f397193fdb0e2b5251f-V.jpg"/>
          <p:cNvPicPr/>
          <p:nvPr/>
        </p:nvPicPr>
        <p:blipFill>
          <a:blip r:embed="rId2"/>
          <a:stretch/>
        </p:blipFill>
        <p:spPr>
          <a:xfrm>
            <a:off x="5003640" y="3284640"/>
            <a:ext cx="2530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дедушка разместил снимок, сделанный им на Рейхстаге в 1945 году, в журнале. Ему стало приходить огромное количество писем от людей, которым казалось, что они увидели на фотографии своих пропавших без вести родных. И прадедушка старался ответить каждому, найти слова утешения и поддержки для всех. Хотя, в большинстве случаев, на фотографии были совсем не те люди, о которых спрашивали в письм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фото 2 001.jpg"/>
          <p:cNvPicPr/>
          <p:nvPr/>
        </p:nvPicPr>
        <p:blipFill>
          <a:blip r:embed="rId1"/>
          <a:stretch/>
        </p:blipFill>
        <p:spPr>
          <a:xfrm>
            <a:off x="1908000" y="3046320"/>
            <a:ext cx="5185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оя прабабушка (бабушка мамы) Тёлкина Татьяна Васи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7" descr="CIMG4472.JPG"/>
          <p:cNvPicPr/>
          <p:nvPr/>
        </p:nvPicPr>
        <p:blipFill>
          <a:blip r:embed="rId1"/>
          <a:stretch/>
        </p:blipFill>
        <p:spPr>
          <a:xfrm>
            <a:off x="3059280" y="4697280"/>
            <a:ext cx="2881080" cy="216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своих прадедушек и прабабушек, я застал при жизни только свою прабабушку Таню. Она меня очень любила и радовалась, когда я приезжал к ней в гости. Она умерла 3 года назад. Прабабушка родилась в 1920 году. Когда началась война, у неё уже был годовалый сын. Прадедушка ушел на войну, а прабабушка осталась в Москве. Она является труженицей тыла.  Прабабушка работала на Центральном телеграфе и принимала участие в  дежурствах  при налетах вражеской авиации на Москву. Тушила и сбрасывала с крыши Центрального телеграфа зажигательные снаряды, фугасы. Прабабушка награждена медалью  «За доблестный труд в Великой Отечественной войне     1941—1945 гг.»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611280" y="62064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ремя летит быстр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таются далеко позади годы Великой Отечественной вой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 дальше тот незабываемый день – 9 мая 1945 год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 не забудем никогда ваш подвиг – дорогие наши ветераны и труженики ты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вам за Побед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5:01:43Z</dcterms:created>
  <dc:creator>toshiba</dc:creator>
  <dc:description/>
  <dc:language>en-US</dc:language>
  <cp:lastModifiedBy>школа</cp:lastModifiedBy>
  <dcterms:modified xsi:type="dcterms:W3CDTF">2015-05-08T13:51:24Z</dcterms:modified>
  <cp:revision>55</cp:revision>
  <dc:subject/>
  <dc:title>Слайд 1</dc:title>
</cp:coreProperties>
</file>