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1DC-2D5B-44A1-A4C3-98FFEF4C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45B-3949-40E4-A770-D67AD8BC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2C4-F431-4622-95F3-4A0E164E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C705-E502-4B75-91D0-1993EC87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DA9D-96DC-4336-9A8D-2CDD774B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F0F-BAC9-41A0-BF19-008F825F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13A-9C0E-4C04-B339-DAB79A2C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DC0-C2D8-4871-8E5E-6AB9A94D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C57-7225-411A-BEFF-F181707E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39F-EE9A-4AD3-9E26-3FA81A3F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DC07-E7E7-4186-BA36-376979B0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4A7-D54E-4BF7-BC6C-2B6A76C0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2164-ABB0-4AE3-BEC6-E3ED955AEF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ЕССОР Н.А. БОГОР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5105520"/>
            <a:ext cx="6400800" cy="1752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Работу выполни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ученица 9 класса «В» МБОУ ЛМ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Емельянова Еванге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401920" cy="384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48320" y="404280"/>
            <a:ext cx="4495680" cy="5721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огораз Николай Алексеевич родился 1 (13) февраля 1874 года в Таганроге в семье православного христианина Алексея Богораза. Ранние детские годы Н. А. Богораза проходили в его родном городе, а гимназию он окончил в Тифлисе с золотой медалью, где в те годы проживала семья Богоразов. Будучи гимназистом, Н. Богораз добывал себе средства для жизни и учебы уроками и репетиторством детей в богатых семьях. В 1892 г. Николай Алексеевич стал слушателем Военно-медицинской академии в Петербург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404280"/>
            <a:ext cx="5076720" cy="5721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н уехал на рядовую должность врача в Закавказье, служить на железнодорожной станции Гянджа. В Закавказье на Н.А. Богораза обратил внимание проф. Н.В. Парийский, который увидел в нем талантливого хирурга. В 1906 г. закавказский период деятельности сменился практической работой в городе Томске. И здесь Н.А. Богораз был сразу же замечен. Да и как было не заметить молодого хирурга, работавшего вдохновенно и дерзко, бравшегося за самые сложные операции и выполнявшего их виртуоз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1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1728720" cy="2425680"/>
          </a:xfrm>
          <a:prstGeom prst="rect">
            <a:avLst/>
          </a:prstGeom>
          <a:ln w="0">
            <a:noFill/>
          </a:ln>
        </p:spPr>
      </p:pic>
      <p:pic>
        <p:nvPicPr>
          <p:cNvPr id="49" name="Объект 1" descr=""/>
          <p:cNvPicPr/>
          <p:nvPr/>
        </p:nvPicPr>
        <p:blipFill>
          <a:blip r:embed="rId2"/>
          <a:stretch/>
        </p:blipFill>
        <p:spPr>
          <a:xfrm>
            <a:off x="4968720" y="4956120"/>
            <a:ext cx="1683000" cy="12067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"/>
          <p:cNvPicPr/>
          <p:nvPr/>
        </p:nvPicPr>
        <p:blipFill>
          <a:blip r:embed="rId3"/>
          <a:stretch/>
        </p:blipFill>
        <p:spPr>
          <a:xfrm>
            <a:off x="7093080" y="5373720"/>
            <a:ext cx="1765080" cy="11494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" descr=""/>
          <p:cNvPicPr/>
          <p:nvPr/>
        </p:nvPicPr>
        <p:blipFill>
          <a:blip r:embed="rId4"/>
          <a:stretch/>
        </p:blipFill>
        <p:spPr>
          <a:xfrm>
            <a:off x="4968720" y="3475080"/>
            <a:ext cx="1644840" cy="1231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9" descr=""/>
          <p:cNvPicPr/>
          <p:nvPr/>
        </p:nvPicPr>
        <p:blipFill>
          <a:blip r:embed="rId5"/>
          <a:stretch/>
        </p:blipFill>
        <p:spPr>
          <a:xfrm>
            <a:off x="7128000" y="3716280"/>
            <a:ext cx="1670040" cy="1219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4720" y="-360"/>
            <a:ext cx="4859280" cy="6126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.А. Богораз работал старшим врачом томской губернской больницы общественного призрения. Профессиональным, исходящим из внутренних убеждений и потребностей девизом Н.А. Богораза было его внимание к людям, к их страданиям; Николай Алексеевич всегда видел на операционном столе определенного человека с его волнениями, сомнениями, понимал его боль. Не ради известности и не ради поднятия на очередную официальную ученую ступеньку, а ради пользы медицинской науки он написал диссертацию. Диплом №9229 от 8 декабря 1909 г., выданный советом Томского университета, гласит, что лекарь Николай Алексеевич Богораз публично защитил написанную им диссертацию «О частичных ампутациях стопы в функциональном отношении» и был удостоен степени доктор медиц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9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657080" cy="2313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"/>
          <p:cNvPicPr/>
          <p:nvPr/>
        </p:nvPicPr>
        <p:blipFill>
          <a:blip r:embed="rId2"/>
          <a:stretch/>
        </p:blipFill>
        <p:spPr>
          <a:xfrm>
            <a:off x="2124000" y="0"/>
            <a:ext cx="2405160" cy="35035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1" descr=""/>
          <p:cNvPicPr/>
          <p:nvPr/>
        </p:nvPicPr>
        <p:blipFill>
          <a:blip r:embed="rId3"/>
          <a:stretch/>
        </p:blipFill>
        <p:spPr>
          <a:xfrm>
            <a:off x="250920" y="4437000"/>
            <a:ext cx="1741320" cy="223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18 мая 1913 г. доктор медицины, приват-доцент кафедры госпитальной хирургии Томского университета Н.А. Богораз подает прошение ректору Варшавского университета о принятии его на работу на медицинский факультет. Просьба удовлетворяется. Н.А. Богораз назначается на должность экстраординарного профессора госпитальной хирургической клиники Варшавского университе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1" descr=""/>
          <p:cNvPicPr/>
          <p:nvPr/>
        </p:nvPicPr>
        <p:blipFill>
          <a:blip r:embed="rId1"/>
          <a:stretch/>
        </p:blipFill>
        <p:spPr>
          <a:xfrm>
            <a:off x="6858000" y="264312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"/>
          <p:cNvPicPr/>
          <p:nvPr/>
        </p:nvPicPr>
        <p:blipFill>
          <a:blip r:embed="rId2"/>
          <a:stretch/>
        </p:blipFill>
        <p:spPr>
          <a:xfrm>
            <a:off x="4429080" y="1571760"/>
            <a:ext cx="2428920" cy="17938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9" descr=""/>
          <p:cNvPicPr/>
          <p:nvPr/>
        </p:nvPicPr>
        <p:blipFill>
          <a:blip r:embed="rId3"/>
          <a:stretch/>
        </p:blipFill>
        <p:spPr>
          <a:xfrm>
            <a:off x="4429080" y="4357800"/>
            <a:ext cx="2571840" cy="17110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0" descr=""/>
          <p:cNvPicPr/>
          <p:nvPr/>
        </p:nvPicPr>
        <p:blipFill>
          <a:blip r:embed="rId4"/>
          <a:stretch/>
        </p:blipFill>
        <p:spPr>
          <a:xfrm>
            <a:off x="6943680" y="5357880"/>
            <a:ext cx="2254320" cy="1500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десь, в Ростове, в жизни и деятельности Н.А. Богораза начался новый период, который обуславливался не столько новым местом работы, сколько революционными событиями и гражданской войной. В условиях отсутствия стабильности линии фронта, когда возможны были прорывы калединцев в Ростов и захват ими клиник с ранеными красногвардейцами, в клинике профессора Н.А. Богораза был установлен такой порядок, что на поступающих раненых красногвардейцев в регистрационном журнале делались записи с неизменной формулировкой: «ранен случайной пулей на улице». Это делалось во избежание возможных репресс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8" descr=""/>
          <p:cNvPicPr/>
          <p:nvPr/>
        </p:nvPicPr>
        <p:blipFill>
          <a:blip r:embed="rId1"/>
          <a:stretch/>
        </p:blipFill>
        <p:spPr>
          <a:xfrm>
            <a:off x="2792520" y="0"/>
            <a:ext cx="2198520" cy="3068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"/>
          <p:cNvPicPr/>
          <p:nvPr/>
        </p:nvPicPr>
        <p:blipFill>
          <a:blip r:embed="rId2"/>
          <a:stretch/>
        </p:blipFill>
        <p:spPr>
          <a:xfrm>
            <a:off x="324000" y="4633920"/>
            <a:ext cx="3240000" cy="2224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252720" y="-360"/>
            <a:ext cx="5545080" cy="6597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в 1926 г. сделал первые операции по пересадке желез внутренней секреции. Н.А. Богораз одним из первых осуществил операцию на суставах. Наиболее ценные работы его относятся к области хирургии костей и суставов, созданию функционально годных опорных культей. Много работ посвятил хирург военной травматологии, ранениям сосудов. Эти вопросы изложены им в монографии «Повреждение кровеносных сосудов при военно-полевых ранениях» (1935 г.). Н.А. Богоразу принадлежит идея пересадки сосудов, органов внутренней секреции. Он занимался восстановительными операциями при заболеваниях органов грудной полости (сердца, пищевода, легких), внес большой вклад в развитие хирургии черепа, лица, уха. Вершиной творчества Н.А. Богораза в довоенной деятельности в Ростове явился двухтомный труд «Восстановительная хирургия». Такой труд был первым в истории отечественной и мировой медицинской литературы. За эту работу Николай Алексеевич в 1950 году был удостоен Государственной премии первой степе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1" descr=""/>
          <p:cNvPicPr/>
          <p:nvPr/>
        </p:nvPicPr>
        <p:blipFill>
          <a:blip r:embed="rId1"/>
          <a:stretch/>
        </p:blipFill>
        <p:spPr>
          <a:xfrm>
            <a:off x="7812000" y="333360"/>
            <a:ext cx="1181160" cy="17208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"/>
          <p:cNvPicPr/>
          <p:nvPr/>
        </p:nvPicPr>
        <p:blipFill>
          <a:blip r:embed="rId2"/>
          <a:stretch/>
        </p:blipFill>
        <p:spPr>
          <a:xfrm>
            <a:off x="5435640" y="2637000"/>
            <a:ext cx="3311640" cy="22032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"/>
          <p:cNvPicPr/>
          <p:nvPr/>
        </p:nvPicPr>
        <p:blipFill>
          <a:blip r:embed="rId3"/>
          <a:stretch/>
        </p:blipFill>
        <p:spPr>
          <a:xfrm>
            <a:off x="7499520" y="5626080"/>
            <a:ext cx="1644480" cy="1231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3T04:35:09Z</dcterms:created>
  <dc:creator>Гость</dc:creator>
  <dc:description/>
  <dc:language>en-US</dc:language>
  <cp:lastModifiedBy>Acer</cp:lastModifiedBy>
  <dcterms:modified xsi:type="dcterms:W3CDTF">2014-10-24T13:49:03Z</dcterms:modified>
  <cp:revision>6</cp:revision>
  <dc:subject/>
  <dc:title>Презентация PowerPoint</dc:title>
</cp:coreProperties>
</file>