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525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EF3-5E96-432B-867F-BF48E14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367-0CDB-4562-BC5E-2442852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34B-D189-49AA-8EA1-E6F0D4A0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3C1-16E3-4922-A5FF-281B9C4B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BD-73AB-4BD0-88F5-D8EFD99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2D4-7625-4905-B19E-F1CF03DE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DB5-79BE-459A-962A-6470C569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9D9-D030-46FD-BB68-E9252310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D7E-2484-434A-9327-D856C3B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A60-70FB-4138-882B-1C75BEC6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586-FF3A-423A-9544-CD589FE1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17F-2C61-4391-8580-CB7D6A6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DAEE-69D8-4D46-B1D3-09949A175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420840" y="639720"/>
            <a:ext cx="8515080" cy="1158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857160" y="1859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ворческое название: «Семейка Чиппол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00040" y="5661000"/>
            <a:ext cx="7961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МБДОУ детский сад № 68 «Светлячок» Стрельцова Ольга Эдмун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C:\Documents and Settings\Админ\Рабочий стол\Новая папка\DSC00023.JPG"/>
          <p:cNvPicPr/>
          <p:nvPr/>
        </p:nvPicPr>
        <p:blipFill>
          <a:blip r:embed="rId2"/>
          <a:stretch/>
        </p:blipFill>
        <p:spPr>
          <a:xfrm>
            <a:off x="2286000" y="2428920"/>
            <a:ext cx="4500720" cy="307188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000240" y="975600"/>
            <a:ext cx="542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звать у детей познавательный интерес к конкретному объекту – луку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Чипполино и его семейству) через проектно – исследовательскую деятельность, организацию художественно – продуктивной деятельности и оздоровительно – профилактической работы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chipollino1.png"/>
          <p:cNvPicPr/>
          <p:nvPr/>
        </p:nvPicPr>
        <p:blipFill>
          <a:blip r:embed="rId1"/>
          <a:stretch/>
        </p:blipFill>
        <p:spPr>
          <a:xfrm>
            <a:off x="7286760" y="4500720"/>
            <a:ext cx="1571400" cy="21301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2487600" y="560520"/>
            <a:ext cx="4187880" cy="927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C:\Documents and Settings\Админ\Рабочий стол\Новая папка\DSC00459.JPG"/>
          <p:cNvPicPr/>
          <p:nvPr/>
        </p:nvPicPr>
        <p:blipFill>
          <a:blip r:embed="rId3"/>
          <a:stretch/>
        </p:blipFill>
        <p:spPr>
          <a:xfrm>
            <a:off x="642960" y="1500120"/>
            <a:ext cx="2500200" cy="278604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Рисунок 5" descr="C:\Documents and Settings\Админ\Рабочий стол\Новая папка\DSC00023.JPG"/>
          <p:cNvPicPr/>
          <p:nvPr/>
        </p:nvPicPr>
        <p:blipFill>
          <a:blip r:embed="rId4"/>
          <a:stretch/>
        </p:blipFill>
        <p:spPr>
          <a:xfrm>
            <a:off x="642960" y="4572000"/>
            <a:ext cx="2792520" cy="188748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5" descr="D:\Л.Г\АТТЕСТАЦИЯ\Анурьева Т.Е\АНУРЬЕВА Т.Е. АТТЕСТАЦИЯ\Анурьева фото\DSC00456.JPG"/>
          <p:cNvPicPr/>
          <p:nvPr/>
        </p:nvPicPr>
        <p:blipFill>
          <a:blip r:embed="rId5"/>
          <a:stretch/>
        </p:blipFill>
        <p:spPr>
          <a:xfrm>
            <a:off x="3857760" y="4556160"/>
            <a:ext cx="3071520" cy="18874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357200" y="1451880"/>
            <a:ext cx="69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1. Учить детей ухаживать за растениями в комнатных услов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2. Обобщить представление детей о необходимости света, тепла, влаги почвы для роста раст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3. Сформировать представление о жизни овоща как живого существа ( он растёт и развивается, может быть здоровым, больным) и его полезных свойств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4. Воспитывать самостоятельность, наблюдательность, внимательность, бережное отношение ко всему живому в груп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5. Показать значимость лука для развития, роста и здоровья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6. Организация оздоровительной и профилактической работы с детьми с помощью л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620800" y="426960"/>
            <a:ext cx="4286520" cy="8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7:52:10Z</dcterms:created>
  <dc:creator>Admin</dc:creator>
  <dc:description/>
  <dc:language>en-US</dc:language>
  <cp:lastModifiedBy>Вера Дмитриевна</cp:lastModifiedBy>
  <dcterms:modified xsi:type="dcterms:W3CDTF">2015-04-28T04:48:58Z</dcterms:modified>
  <cp:revision>44</cp:revision>
  <dc:subject/>
  <dc:title>Экология.</dc:title>
</cp:coreProperties>
</file>