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525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6C2-62A5-4311-89F6-B76B037B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5E9-0247-4DEB-A777-3B7F2D41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548-C65E-415D-983C-74D10DF1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F9B-6065-4853-B626-165EB8CD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171-2F02-485A-B093-F4699BD1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373-A268-49A4-84CB-A7F12AAE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941-8168-4ACD-AAA8-253D18E2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488-61EF-4E57-B55D-23E326F3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2AE-CCB7-4688-B9AB-70D76BE9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359-90E3-4B49-A2F1-43D3FCDD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F1B-58AC-4CF5-9805-8E96E36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EF6-794A-4BD7-AB9C-6A045BE2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1A5A-BDE8-4F91-AF5F-5C672D5CB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420840" y="639720"/>
            <a:ext cx="8515080" cy="1158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857160" y="1859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ворческое название: «Семейка Чипполи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500040" y="5661000"/>
            <a:ext cx="7961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МБДОУ детский сад № 68 «Светлячок» Стрельцова Ольга Эдмун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C:\Documents and Settings\Админ\Рабочий стол\Новая папка\DSC00023.JPG"/>
          <p:cNvPicPr/>
          <p:nvPr/>
        </p:nvPicPr>
        <p:blipFill>
          <a:blip r:embed="rId2"/>
          <a:stretch/>
        </p:blipFill>
        <p:spPr>
          <a:xfrm>
            <a:off x="2286000" y="2428920"/>
            <a:ext cx="4500720" cy="3071880"/>
          </a:xfrm>
          <a:prstGeom prst="rect">
            <a:avLst/>
          </a:prstGeom>
          <a:ln cap="sq"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3000240" y="975600"/>
            <a:ext cx="542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звать у детей познавательный интерес к конкретному объекту – луку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Чипполино и его семейству) через проектно – исследовательскую деятельность, организацию художественно – продуктивной деятельности и оздоровительно – профилактической работы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chipollino1.png"/>
          <p:cNvPicPr/>
          <p:nvPr/>
        </p:nvPicPr>
        <p:blipFill>
          <a:blip r:embed="rId1"/>
          <a:stretch/>
        </p:blipFill>
        <p:spPr>
          <a:xfrm>
            <a:off x="7286760" y="4500720"/>
            <a:ext cx="1571400" cy="21301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2"/>
          <a:stretch/>
        </p:blipFill>
        <p:spPr>
          <a:xfrm>
            <a:off x="2487600" y="560520"/>
            <a:ext cx="4187880" cy="927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C:\Documents and Settings\Админ\Рабочий стол\Новая папка\DSC00459.JPG"/>
          <p:cNvPicPr/>
          <p:nvPr/>
        </p:nvPicPr>
        <p:blipFill>
          <a:blip r:embed="rId3"/>
          <a:stretch/>
        </p:blipFill>
        <p:spPr>
          <a:xfrm>
            <a:off x="642960" y="1500120"/>
            <a:ext cx="2500200" cy="2786040"/>
          </a:xfrm>
          <a:prstGeom prst="rect">
            <a:avLst/>
          </a:prstGeom>
          <a:ln cap="sq"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Рисунок 5" descr="C:\Documents and Settings\Админ\Рабочий стол\Новая папка\DSC00023.JPG"/>
          <p:cNvPicPr/>
          <p:nvPr/>
        </p:nvPicPr>
        <p:blipFill>
          <a:blip r:embed="rId4"/>
          <a:stretch/>
        </p:blipFill>
        <p:spPr>
          <a:xfrm>
            <a:off x="642960" y="4572000"/>
            <a:ext cx="2792520" cy="1887480"/>
          </a:xfrm>
          <a:prstGeom prst="rect">
            <a:avLst/>
          </a:prstGeom>
          <a:ln cap="sq" w="38160">
            <a:solidFill>
              <a:srgbClr val="00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Picture 5" descr="D:\Л.Г\АТТЕСТАЦИЯ\Анурьева Т.Е\АНУРЬЕВА Т.Е. АТТЕСТАЦИЯ\Анурьева фото\DSC00456.JPG"/>
          <p:cNvPicPr/>
          <p:nvPr/>
        </p:nvPicPr>
        <p:blipFill>
          <a:blip r:embed="rId5"/>
          <a:stretch/>
        </p:blipFill>
        <p:spPr>
          <a:xfrm>
            <a:off x="3857760" y="4556160"/>
            <a:ext cx="3071520" cy="18874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357200" y="1451880"/>
            <a:ext cx="691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1. Учить детей ухаживать за растениями в комнатных услов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2. Обобщить представление детей о необходимости света, тепла, влаги почвы для роста раст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3. Сформировать представление о жизни овоща как живого существа ( он растёт и развивается, может быть здоровым, больным) и его полезных свойств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4. Воспитывать самостоятельность, наблюдательность, внимательность, бережное отношение ко всему живому в груп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5. Показать значимость лука для развития, роста и здоровья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6. Организация оздоровительной и профилактической работы с детьми с помощью л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2620800" y="426960"/>
            <a:ext cx="4286520" cy="85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7:52:10Z</dcterms:created>
  <dc:creator>Admin</dc:creator>
  <dc:description/>
  <dc:language>en-US</dc:language>
  <cp:lastModifiedBy>Вера Дмитриевна</cp:lastModifiedBy>
  <dcterms:modified xsi:type="dcterms:W3CDTF">2015-04-28T04:48:58Z</dcterms:modified>
  <cp:revision>44</cp:revision>
  <dc:subject/>
  <dc:title>Экология.</dc:title>
</cp:coreProperties>
</file>