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38B-9A33-49CD-BD4E-A2D717E0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401-41E3-42D0-BE21-696E6D0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33-FE12-473C-94EC-D5836791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39E-285F-44B8-B3C0-C8DA8B40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588-76F3-4671-9165-C8352B0A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654-0972-4E83-94C3-4822149E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B342-16BA-4605-A28B-897F1366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F75-14F7-4C64-8D01-1E663E2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7E61-88FA-465E-AD73-074B645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CBFA-97DD-417C-8866-171C449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6C48-FC13-40AB-952C-CB82D02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50D-2039-47BB-BC81-3257788D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8431-E3B4-4A7F-934A-7FAAC60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42A0-B0CB-46DD-8D7A-9ECE9BB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C2FC-6A19-481E-A187-B7CDFE81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74A-9055-4861-8FFC-C71ADDE2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31DA-0693-4C7D-B442-84582EE2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D4B-0D2C-45F5-A59D-2C281B6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342-70A7-4232-A3E8-7FE62AE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6F2-5711-4887-A5A2-473927A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E57-C3A3-43F8-BED3-115A7C4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D7A-0258-4280-8A08-7F7C5B9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910-FACA-419E-9E6D-733A3C8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C9D-248D-4F8A-9063-DA2D24B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17FC1-3306-4F22-B988-E231F2D3E8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E8C789-E83A-4FCA-B4E0-5DA8E02796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440" y="14461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тические партии в начале XX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4500360"/>
            <a:ext cx="5940360" cy="23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тории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арова Л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, 201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7960" y="539640"/>
            <a:ext cx="9636120" cy="67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ота с источ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учащим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программу партии. Укажите, какое политическое направление представляет партия (социалистическое, либеральное, монархическ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анализа источников определите: Лидеров, год основания, Отношение к государственному устройству, отношение к аграрному вопросу, отношение к национальному вопросу, Отношение к рабочему вопросу, методы переустройств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работы систематизируйте в таб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литические партии и их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539640"/>
          <a:ext cx="10169640" cy="6480360"/>
        </p:xfrm>
        <a:graphic>
          <a:graphicData uri="http://schemas.openxmlformats.org/drawingml/2006/table">
            <a:tbl>
              <a:tblPr/>
              <a:tblGrid>
                <a:gridCol w="933480"/>
                <a:gridCol w="1370160"/>
                <a:gridCol w="1369800"/>
                <a:gridCol w="1370160"/>
                <a:gridCol w="1369800"/>
                <a:gridCol w="1368360"/>
                <a:gridCol w="2387880"/>
              </a:tblGrid>
              <a:tr h="2009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Политиче­с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т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Политические партии и их лид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 к государст­венному устройст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аграр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националь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рабоч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Методы переустрой­ства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401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Либер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8025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еволюционно-демокра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347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онсерватив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360" y="539640"/>
            <a:ext cx="98060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:1. Программа, какой партии вам кажется наиболее приемлемой для дальнейшего развития России? Меньше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ценности тогда в начале XX века, если вспомнить историю оказались актуальными и какие сегодня являются ценностями в нашем обществ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свобода, общинное самосознание, неприятие частной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- Права человека, незыблемости частной собственности- Партия кад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0" y="360360"/>
            <a:ext cx="101109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/З.1. Учащимся предлагается к следующему уроку заполнить таблицу в электронном варианте или письменном варианте в полном объеме, т. е собрать информацию друг у друг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писать эссе «Выбор пути развития России и роль в ней партий 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рабочая группа готовит более развернутую презентацию своей политической пар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20960" y="1260360"/>
            <a:ext cx="4467240" cy="5940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ис Грыз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892160"/>
            <a:ext cx="684036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1770120"/>
            <a:ext cx="3240000" cy="4170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340000" y="0"/>
            <a:ext cx="611964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Цырендоржиев Цыренжаб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95440" y="30240"/>
            <a:ext cx="5319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парт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01680" y="1554120"/>
            <a:ext cx="59058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9280" y="900000"/>
            <a:ext cx="6659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7920" y="235080"/>
            <a:ext cx="85899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деры политических пар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0960" y="4176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М. Чер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03200" y="2223720"/>
            <a:ext cx="8568000" cy="453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0480" y="0"/>
            <a:ext cx="3028680" cy="396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3348000" cy="4741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770280" y="2033640"/>
            <a:ext cx="3541680" cy="428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57120" y="3780000"/>
            <a:ext cx="3168720" cy="37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87440" y="33829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И. Л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1400" y="4095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М. Чер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00960" y="3224160"/>
            <a:ext cx="222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30520" y="592308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Н. Милю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7120" y="7155000"/>
            <a:ext cx="17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И. Гу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937200" y="3621240"/>
            <a:ext cx="3143520" cy="393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24680" y="711360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 Пуриш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10080720" cy="7599240"/>
        </p:xfrm>
        <a:graphic>
          <a:graphicData uri="http://schemas.openxmlformats.org/drawingml/2006/table">
            <a:tbl>
              <a:tblPr/>
              <a:tblGrid>
                <a:gridCol w="2260440"/>
                <a:gridCol w="1508400"/>
                <a:gridCol w="1587240"/>
                <a:gridCol w="1508400"/>
                <a:gridCol w="1668240"/>
                <a:gridCol w="1548000"/>
              </a:tblGrid>
              <a:tr h="21265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рт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артия (каде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17 октября” (октябрис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я социалистов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еров (эсе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СДРП(б) (социал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русского народа (черносотенц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гда основ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-1902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8-1903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литический лаге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арх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ид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Н. Милю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И. Гу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М. Чер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И. Ле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 Пуришке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исленность (в ты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–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Чьи интересы выраж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етоды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Цели и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/>
  <dcterms:modified xsi:type="dcterms:W3CDTF">2010-10-23T12:25:06Z</dcterms:modified>
  <cp:revision>2</cp:revision>
  <dc:subject/>
  <dc:title/>
</cp:coreProperties>
</file>