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9C9-3746-4900-9B4A-6FDCEEB0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026-1F4E-4A96-A9B3-F68F58C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B5B-B334-41AE-AA7E-92FCA3DB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35C-76BD-484B-9795-263C191C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E8AC-D110-4850-B022-B535239F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BDD-D112-4DCA-A381-D700293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185D-86F3-4CE5-8F41-1DCA7B9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E41C-F5EE-4200-94CC-A441E7E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45B-3E50-4780-B5E7-1832B37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FE3F-FC93-4EAB-A94A-CF6817FB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180-E708-493A-8F3D-113532F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B4B-FE25-4048-A915-8B718C6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18F-EBB1-40CA-A083-10F95C5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63ED-6323-417E-9547-9E3E116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08B-3867-430A-BC47-44567C50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8A4-0E96-4666-9275-7B71956E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743-7523-4258-8252-A3DE1617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EC8-2C4C-4219-890E-538E361D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57E-161A-4556-B7F2-E6F807C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D62-CCAB-4559-92CA-6068C0D2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37C-60A5-4F03-BCC7-D5FB290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74C-0E23-4D7A-ABA0-3DEC82E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338-B2C5-4C47-A0CF-3599E2D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C55-D391-41E6-A2BF-B62A3D9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C2160-DA29-4B53-BD63-9ECC8C9EC2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A5E0F7-DE59-49A3-902F-09718F4946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440" y="14461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тические партии в начале XX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4500360"/>
            <a:ext cx="5940360" cy="23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тории в 1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арова Л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, 201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7960" y="539640"/>
            <a:ext cx="9636120" cy="67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ота с источ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учащим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программу партии. Укажите, какое политическое направление представляет партия (социалистическое, либеральное, монархическ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анализа источников определите: Лидеров, год основания, Отношение к государственному устройству, отношение к аграрному вопросу, отношение к национальному вопросу, Отношение к рабочему вопросу, методы переустройств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работы систематизируйте в таб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литические партии и их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539640"/>
          <a:ext cx="10169640" cy="6480360"/>
        </p:xfrm>
        <a:graphic>
          <a:graphicData uri="http://schemas.openxmlformats.org/drawingml/2006/table">
            <a:tbl>
              <a:tblPr/>
              <a:tblGrid>
                <a:gridCol w="933480"/>
                <a:gridCol w="1370160"/>
                <a:gridCol w="1369800"/>
                <a:gridCol w="1370160"/>
                <a:gridCol w="1369800"/>
                <a:gridCol w="1368360"/>
                <a:gridCol w="2387880"/>
              </a:tblGrid>
              <a:tr h="2009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Политиче­с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т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Политические партии и их лид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 к государст­венному устройст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аграр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националь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 рабоч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Методы переустрой­ства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401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Либер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80252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еволюционно-демокра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78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347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Консерватив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0360" y="539640"/>
            <a:ext cx="98060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:1. Программа, какой партии вам кажется наиболее приемлемой для дальнейшего развития России? Меньше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ценности тогда в начале XX века, если вспомнить историю оказались актуальными и какие сегодня являются ценностями в нашем обществ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свобода, общинное самосознание, неприятие частной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- Права человека, незыблемости частной собственности- Партия кад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0" y="360360"/>
            <a:ext cx="101109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/З.1. Учащимся предлагается к следующему уроку заполнить таблицу в электронном варианте или письменном варианте в полном объеме, т. е собрать информацию друг у друг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аписать эссе «Выбор пути развития России и роль в ней партий 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рабочая группа готовит более развернутую презентацию своей политической пар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20960" y="1260360"/>
            <a:ext cx="4467240" cy="5940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ис Грыз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892160"/>
            <a:ext cx="684036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1770120"/>
            <a:ext cx="3240000" cy="4170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340000" y="0"/>
            <a:ext cx="611964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</a:rPr>
              <a:t>Цырендоржиев Цыренжаб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95440" y="30240"/>
            <a:ext cx="5319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деры парт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01680" y="1554120"/>
            <a:ext cx="59058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185868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9280" y="900000"/>
            <a:ext cx="6659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7920" y="235080"/>
            <a:ext cx="85899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деры политических пар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00960" y="4176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М. Чер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03200" y="2223720"/>
            <a:ext cx="8568000" cy="453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0480" y="0"/>
            <a:ext cx="3028680" cy="396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3348000" cy="4741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770280" y="2033640"/>
            <a:ext cx="3541680" cy="428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57120" y="3780000"/>
            <a:ext cx="3168720" cy="37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87440" y="33829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И. Л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1400" y="4095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М. Чер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00960" y="3224160"/>
            <a:ext cx="222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30520" y="592308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.Н. Милю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7120" y="7155000"/>
            <a:ext cx="17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И. Гу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937200" y="3621240"/>
            <a:ext cx="3143520" cy="393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24680" y="711360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 Пуриш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10080720" cy="7599240"/>
        </p:xfrm>
        <a:graphic>
          <a:graphicData uri="http://schemas.openxmlformats.org/drawingml/2006/table">
            <a:tbl>
              <a:tblPr/>
              <a:tblGrid>
                <a:gridCol w="2260440"/>
                <a:gridCol w="1508400"/>
                <a:gridCol w="1587240"/>
                <a:gridCol w="1508400"/>
                <a:gridCol w="1668240"/>
                <a:gridCol w="1548000"/>
              </a:tblGrid>
              <a:tr h="21265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рт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артия (каде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17 октября” (октябрис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ия социалистов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еров (эсе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СДРП(б) (социал-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русского народа (черносотенц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гда основ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0-1902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8-1903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литический лаге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волю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арх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ид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Н. Милю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И. Гу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М. Чер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И. Ле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 Пуришке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исленность (в ты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–6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–3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Чьи интересы выраж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етоды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Цели и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/>
  <dcterms:modified xsi:type="dcterms:W3CDTF">2010-10-23T12:25:06Z</dcterms:modified>
  <cp:revision>2</cp:revision>
  <dc:subject/>
  <dc:title/>
</cp:coreProperties>
</file>