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602-AE4A-402E-89E5-C099C965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91C-45B3-4B0F-89DD-D0D76718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D5E08-BA31-4BA4-8F65-AC8B6827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F932-72BA-4200-935B-6BD1E64B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0B8A9-C6B7-4523-B730-024C98E5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3E577-3FDC-4C67-BC3D-9DAD0E8D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E9F8A-EF6F-4F47-8F00-85574211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FC48B-B12E-4E9E-80F6-B644EFB1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D2318-67B3-4D2B-B076-43715606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2AECD-988A-4DF4-BA6A-21728F65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BE61A-495F-4D7C-8329-0EA59ECA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507FC8-048A-4A44-87BF-8EBD2A51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C61-5603-4EFA-904B-F03EF09E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CAE2A9-A7CA-4B43-9D87-5F59FA59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D6D5E9-B703-41E4-A2D1-DEA1C060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2146E0-0BFB-4537-A234-BB326704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EC88ED-C5BA-4EA8-9392-964D57F5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68DD12-6CE2-4C1A-8C4E-D5F0DC43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E02D81-B748-43E9-9ABE-0E3B12BD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C1C296-DAEB-4A58-8AC5-AF846058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587773-2914-4394-BA5F-E0EB2DC6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AC598D-4CE9-406E-85E7-5594F3E1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7F0BBD-42ED-46EC-96DF-45E9A580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33A-1A92-40FE-873D-B841EE17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8621F0-1CF7-4BE0-9C4F-8B9022B3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B933-9C5E-4B14-8AF6-08D4337E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769D-0B68-4D1E-AD93-A95A9B04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B465-934B-434C-92E8-008B0C94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F30C-00BF-4EA4-8991-8882250E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3B6B-3DFA-4EE8-A8F1-531425DC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F167-BA4B-4B57-82FB-720F6880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7034-882A-4E9B-87E2-049C8B58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29B-F053-4809-AF0B-963CD92C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DC22-B096-4524-909F-331E81E6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4313-36F3-4D42-9922-6DE6942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B7BC-7838-41EC-AFC4-05AA9499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BA6D-801A-417C-9FE6-8A8703F3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188F-E7AE-4F6E-8AB7-D8F706B8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38AF-1A75-43CC-A464-6FEB5165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88988-2F8C-4189-ACDE-E36DF12A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88F2-70C9-469C-9EEC-209F46C1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0B44-CF17-4605-8CD0-2232C9D9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D6E33-7234-4FC2-8117-D58CF4A8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9B5-6989-4942-B841-F7C357C8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C39AF-7DE7-46C9-9E98-0F327CB9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FC79-D425-4659-9CC9-AE3191BD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6DAA-A2D2-4BBB-820E-A47C6641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FD19-A378-4B9B-A963-47E2894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39DE-7F90-4B3A-898E-A214763A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AC0B-C671-4D29-8CE7-1AD626FB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F3B9-368A-4CC2-9B63-29032406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DF61-294B-4E25-A1F0-F16F2F73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5F53-94CB-41C8-87D0-10505301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FA48-1F9E-4502-A88D-4479A91E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C61-377C-4641-97B2-9C8CEB1B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D70F-856B-4DA7-9952-27D4A21B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621E-F0BC-4F33-A5B5-856A303C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4C29-E9FA-4451-BA70-EFFA8483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A47A3-F891-4FF6-BC93-DA422A4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C2DE8-E993-470B-AD27-2260B68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83FCA-F91C-4C01-843F-C57628CC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E7F5-3F05-4593-97A1-36EEA311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65A1-0083-48DE-80F3-BDD9A409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AF08D-89B7-4265-A969-6FA57F36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6BBD5-6E4B-4B90-A54C-F7D6876E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A26-8653-4A19-BAC5-9FDE878E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0035F-2D16-4900-8495-C5958611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A164A-3E02-4D7C-A53A-1D19AB0C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2F42F-6FDD-4167-A372-5B19C756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BA05-16A0-4637-87CC-B037BE02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2D703-CEAC-474C-9314-8336FC2B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A65D-63E0-4FC8-8E53-DCCC33EE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63D7-BE8D-4631-AF70-3D5CEA4C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E2F3-7790-4726-B437-12167304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3F63F-75F7-4A9F-BEF5-52B2DEEB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F6669-1F5F-4E13-AA94-D5ED2495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B50-3C5A-467C-A445-84FA8BA1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448FD-35F6-492A-8724-18C64E10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8809D-6F1F-464A-833D-6469909C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BA85D-9493-471C-9E70-4A9D31B4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443E1-F0B3-4B33-B4F2-A4977C5D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B8E43-23A9-4CF0-A44A-44780E92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95C4B-D21C-4885-B1A3-7C873EC0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864B8-2663-44E1-B9BC-AD4560BB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77F0-F1EE-46E1-B14A-0431413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4F0B8-7AAB-483E-A689-7A59D3C1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F7438-F5E5-4477-B936-DD6DB60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0D5-A77B-4504-876F-C805F768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96C94-1EF9-4AC3-A27B-A63754F1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C5608-5E73-4281-BC66-32AA06C8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36D06-5F3B-48D6-85F5-EEA5B2E9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5ACA-8913-448B-B752-2FFC2B17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6FD5E-E6B5-4A88-901D-5B6E26C7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09918-B6B0-4393-8DEF-018052D5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FDB36-80F6-4E58-86A5-51B3C562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AAC2A-E304-4EC2-8005-99031DCA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30D03-A949-4BD2-A1D0-1940B120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CC9B-5AD4-4A68-A6AF-2DCBA606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707-7F6B-4AAB-93E6-368AF5E5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E9E14-D568-4A64-A169-C17A204A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A4808-74B9-48CF-BE72-D427EE4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807E-6517-4EC3-B38D-06317A9B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1C384-B0E4-4A65-90EA-B99A6786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26D68-669B-4F37-9B75-F8912B73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D11D2-A2D4-4BA7-8749-F7B4FD0E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5F137-0CD9-40F6-A721-31F03591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0A822-605F-45FC-804B-8C874200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2264C-8093-4046-967F-59645DF6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5DF74-A1FB-410F-8F3D-0EC8982B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CF4-1660-4CA8-8848-C50BB703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CEA0C-EE67-4BB2-BF0F-EB5329CF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7F2A5-E780-427C-8C38-22E25948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DA340-CBEA-4264-9ECF-F2548B13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71085-DC64-4609-B422-47614D5C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09846-058B-4AB8-8879-39EB6273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453F1-6208-43E6-80D1-3F531CD6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BB4B4-1C68-467C-A0EB-48D46318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81343-8E0C-4E91-A7DD-A008952E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085E0-2BC1-4B56-B5A8-3EF76144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B12DB-C01F-4BC9-899E-2CBDCFE0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B897-8313-43ED-8124-FB0727F717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23F6-464B-453D-A7E7-C4FB57E55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6F8F-7002-44BA-A2A2-1342144AB5F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1AC5-3992-48F5-B452-DDF2C5A7C0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4937-E993-4FB4-A013-AC6FA362B0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3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D49B-F29C-4D0A-BDE6-4F9C6C5B47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54FE-0D58-4CF3-8D82-2F96D53F82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8E13-C844-4A94-9283-43AF06F2F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9AB3-522A-4A8B-BA34-9F66B1BB0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96FA-99B6-42F0-AD7A-3C4AEBF38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71280" y="436572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 La Russ"/>
              </a:rPr>
              <a:t>« Урок по теме:</a:t>
            </a:r>
            <a:br>
              <a:rPr sz="3200"/>
            </a:br>
            <a:r>
              <a:rPr b="1" lang="en-US" sz="3200" spc="-1" strike="noStrike">
                <a:solidFill>
                  <a:srgbClr val="996633"/>
                </a:solidFill>
                <a:latin typeface="A La Russ"/>
              </a:rPr>
              <a:t>«Былины и богатырские сказки».</a:t>
            </a:r>
            <a:br>
              <a:rPr sz="3200"/>
            </a:br>
            <a:r>
              <a:rPr b="1" lang="en-US" sz="3200" spc="-1" strike="noStrike">
                <a:solidFill>
                  <a:srgbClr val="996633"/>
                </a:solidFill>
                <a:latin typeface="A La Russ"/>
              </a:rPr>
              <a:t>Стихотворение Н.Матвеевой</a:t>
            </a:r>
            <a:br>
              <a:rPr sz="3200"/>
            </a:br>
            <a:r>
              <a:rPr b="1" lang="en-US" sz="3200" spc="-1" strike="noStrike">
                <a:solidFill>
                  <a:srgbClr val="996633"/>
                </a:solidFill>
                <a:latin typeface="A La Russ"/>
              </a:rPr>
              <a:t>«Пираты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3024360" cy="23698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524" name="" descr=""/>
          <p:cNvPicPr/>
          <p:nvPr/>
        </p:nvPicPr>
        <p:blipFill>
          <a:blip r:embed="rId2"/>
          <a:srcRect l="5915" t="0" r="19993" b="13690"/>
          <a:stretch/>
        </p:blipFill>
        <p:spPr>
          <a:xfrm>
            <a:off x="5219640" y="404640"/>
            <a:ext cx="3600360" cy="2762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381200" y="549000"/>
            <a:ext cx="4762440" cy="58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600" spc="-1" strike="noStrike">
                <a:solidFill>
                  <a:srgbClr val="663300"/>
                </a:solidFill>
                <a:latin typeface="Garamond"/>
              </a:rPr>
              <a:t>За свои подвиги он был причислен к лику святых и удостоился захоронения в Киево-Печерской лавре. </a:t>
            </a:r>
            <a:br>
              <a:rPr sz="2600"/>
            </a:br>
            <a:r>
              <a:rPr b="0" lang="ru-RU" sz="2600" spc="-1" strike="noStrike">
                <a:solidFill>
                  <a:srgbClr val="663300"/>
                </a:solidFill>
                <a:latin typeface="Garamond"/>
              </a:rPr>
              <a:t>У изголовья перед его гробницей гласит надпись – «Илья из города Мурома». </a:t>
            </a:r>
            <a:br>
              <a:rPr sz="2600"/>
            </a:br>
            <a:r>
              <a:rPr b="0" lang="ru-RU" sz="2600" spc="-1" strike="noStrike">
                <a:solidFill>
                  <a:srgbClr val="663300"/>
                </a:solidFill>
                <a:latin typeface="Garamond"/>
              </a:rPr>
              <a:t>К иконе великого былинного святого богатыря в местной карачаровской церкви идут и идут верующие..</a:t>
            </a:r>
            <a:r>
              <a:rPr b="0" lang="ru-RU" sz="4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552840" cy="48196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Н.Матвеева «Пираты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АЧ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вертикальная конструкция на палубе (на парусных судах для установки парус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АТРОС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матросская блуза с большим прямым отложным воротни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ТЁ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высокая ск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КЛАЖ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уложенные для перевозки вещи, груз, бага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68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68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68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b800"/>
                </a:solidFill>
                <a:latin typeface="Comic Sans MS"/>
              </a:rPr>
              <a:t>«Вопрос-ответ»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b800"/>
                </a:solidFill>
                <a:latin typeface="Comic Sans MS"/>
              </a:rPr>
              <a:t>«Узнай произведение»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b800"/>
                </a:solidFill>
                <a:latin typeface="Comic Sans MS"/>
              </a:rPr>
              <a:t>«Кто это?»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b800"/>
                </a:solidFill>
                <a:latin typeface="Comic Sans MS"/>
              </a:rPr>
              <a:t>«Создай комиксы»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b800"/>
                </a:solidFill>
                <a:latin typeface="Comic Sans MS"/>
              </a:rPr>
              <a:t>Н.Матвеева «Пираты»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11280" y="260280"/>
            <a:ext cx="79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ан путешеств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18716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763640" y="1828440"/>
            <a:ext cx="712944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ется прочитанный разд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роизведения в него вош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герои был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герои богатырских сказ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качества богатырей ценились у разных наро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826920" y="260280"/>
            <a:ext cx="756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"Вопрос-ответ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476360" cy="198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58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авный защитник Руси-матушки, 33 года неподвижно просидевший в изб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гатырь, поповский сын. Одолел Тугарина Змеевич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гучий богатырь, которого еле носила Земля-матуш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братим Ильи Муромца, освободивший Забаву Путятичну, племянницу князя Владими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24000" y="0"/>
            <a:ext cx="8424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eec94"/>
                </a:solidFill>
                <a:latin typeface="Impact"/>
              </a:rPr>
              <a:t>"Кто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eec94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Илья Муроме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Алёша Попови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вятогор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Добрыня Никити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8360" y="260280"/>
            <a:ext cx="813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2050560" y="5668560"/>
            <a:ext cx="5761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«Богатыри»  В.Васнец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(1881-1898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553080" cy="453564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884840" y="404640"/>
            <a:ext cx="37908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3300"/>
                </a:solidFill>
                <a:latin typeface="Garamond"/>
              </a:rPr>
              <a:t>В селе Карачарово, что под Муромом, если верить былинам, родился знаменитый богатырь Илья Муромец.  Звали его Илья Иванович Гущин. Жил богатырь, как и все карачаровцы, в гуще дремучих лесов— отсюда и фамилия. Илья Муромец — реальная историческая личность, воин, служивший киевскому князю.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105440" cy="37195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4176720" cy="45306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9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51280" y="475920"/>
            <a:ext cx="4844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33"/>
                </a:solidFill>
                <a:latin typeface="Garamond"/>
              </a:rPr>
              <a:t>…</a:t>
            </a:r>
            <a:r>
              <a:rPr b="0" lang="en-US" sz="2600" spc="-1" strike="noStrike">
                <a:solidFill>
                  <a:srgbClr val="996633"/>
                </a:solidFill>
                <a:latin typeface="Garamond"/>
              </a:rPr>
              <a:t>Как одно-то на небе красно солнышко. А один — то на Руси Илья Муромец…</a:t>
            </a:r>
            <a:br>
              <a:rPr sz="2600"/>
            </a:br>
            <a:r>
              <a:rPr b="0" lang="en-US" sz="2600" spc="-1" strike="noStrike">
                <a:solidFill>
                  <a:srgbClr val="996633"/>
                </a:solidFill>
                <a:latin typeface="Garamond"/>
              </a:rPr>
              <a:t>Неспроста древний Муром на высоком берегу Оки в парке установил  памятник своему легендарному богатырю. Как символ не только физической, но и, что более важно, высокой нравственной силы</a:t>
            </a:r>
            <a:br>
              <a:rPr sz="2600"/>
            </a:br>
            <a:r>
              <a:rPr b="0" lang="en-US" sz="2600" spc="-1" strike="noStrike">
                <a:solidFill>
                  <a:srgbClr val="996633"/>
                </a:solidFill>
                <a:latin typeface="Garamond"/>
              </a:rPr>
              <a:t>«</a:t>
            </a:r>
            <a:r>
              <a:rPr b="1" lang="en-US" sz="2600" spc="-1" strike="noStrike">
                <a:solidFill>
                  <a:srgbClr val="996633"/>
                </a:solidFill>
                <a:latin typeface="Garamond"/>
              </a:rPr>
              <a:t>…Я иду служить за землю Русскую. За вдов, за сирот, за бедных людей…»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2994120" cy="4123080"/>
          </a:xfrm>
          <a:prstGeom prst="rect">
            <a:avLst/>
          </a:prstGeom>
          <a:ln w="7632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140360" y="1484280"/>
            <a:ext cx="4681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681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Из богатырей Илья Муромец ушел в монах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4462560" cy="48243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4506840" cy="49690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549" name=""/>
          <p:cNvSpPr/>
          <p:nvPr/>
        </p:nvSpPr>
        <p:spPr>
          <a:xfrm>
            <a:off x="5580000" y="3573360"/>
            <a:ext cx="31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А погиб защищая Киев от набега половц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4:07:37Z</dcterms:created>
  <dc:creator>User</dc:creator>
  <dc:description/>
  <dc:language>en-US</dc:language>
  <cp:lastModifiedBy>Учитель</cp:lastModifiedBy>
  <dcterms:modified xsi:type="dcterms:W3CDTF">2013-07-31T18:31:25Z</dcterms:modified>
  <cp:revision>66</cp:revision>
  <dc:subject/>
  <dc:title>Слайд 1</dc:title>
</cp:coreProperties>
</file>