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937-5DB4-4855-AA34-B927313B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D8C-5A37-448D-A949-AA1BEF97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60666-F430-4318-B716-CA11CD46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CC7DB-D6E0-479D-AF72-EA69DC6E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59C5F-BEA7-4D27-B3A8-C3AC9542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B0AAE-E6E4-4655-BF57-FC4EDFA4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86EE9-E7F5-419B-B104-5B53E82B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EEB25-AA03-4EAC-9B2D-56DD887F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2D6F9-AD4E-43C8-A988-728EDAC3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DD5F6-7A90-4B8A-8026-7B620836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7FE09-55F3-4D46-A2D7-F496C7DF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605D97-B075-4724-8C1E-F48859D1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7F2-72D8-4B6A-9275-8FA72F20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14F3FF-9C7D-4A20-BAF1-BCAD0A36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58F448-E437-4417-A0B8-2E9C38D9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FDD191-0A16-4ED5-863A-61D58244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C10F7E-6B89-4EE2-9570-5E8FA4E0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600C03-866D-42CF-86CC-519542FF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1EF562-5194-4554-BBC1-D9D74CEA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9C82F5-795F-45E1-8243-04548494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2160FF-9DD6-4D7D-8D48-1021E11B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48C729-C1BB-4738-A7FD-6CBD2DA7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316A32-D976-4CC5-A5FF-B7181D1B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883-B248-46EB-BBF4-92B40923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C7118D-174C-48EC-9AFC-AA4B7693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0D43-D070-4B40-964A-E7B98382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EA0A-E036-4C51-ACBF-84687710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5636-8F56-4D82-8EB4-5DAC13F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A5D3-4C53-458F-AE10-5839290C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2DD3-7EC6-4712-B5FE-9D85692A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929E-0B39-4684-A5FD-B0CA1C8D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EE36-C452-4D28-8CB6-DD3C4748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0D5-2C5B-4C83-8296-9C63981C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558D-10AB-4A6B-80F5-B7EED579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4489-7F36-4A26-804C-DAC4AC1C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D370-DD4E-4C66-AF6F-9F4B51B5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6119-6938-417F-A30A-4775D4FE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0678-1406-4102-A298-926273F1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92CE-22E3-40B0-8FA0-4645C314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BB22-DB1E-4C4E-8EC9-78517474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BADC-3FE3-48F1-85C6-17C0EFF4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32EF-72D8-43A5-8E5D-B2F5485B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E09E-EEDE-4FBF-AEAB-ED621A34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B08-26FE-4A03-8C75-C7E18536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6AF7-080B-481C-BC0B-625B3D79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E8CF-6416-4894-A5F3-C06826A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B631-D94B-4866-822A-11B97950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AF4A-E6F4-4136-A39B-496E6A5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4EB73-94A5-4F0D-AB13-297D72A3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63E8F-731F-46AC-AD88-7F4E335A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B6DB-5E85-4022-9536-D9D68812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9E20-40D3-4410-8CC2-54D658B0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93369-FABF-44F6-B691-4E24A62A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7F53-7392-4826-88C4-C5E5D2AF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B82-6076-40BC-BBB0-95D99953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9069-B50B-485F-9C7A-F18054B1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C494-E8E1-4068-9855-F97B158D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3A87-FEF9-45E3-95FB-7DAFB002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4B5E-BA83-42F8-B76D-096612B7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BAA99-EF55-49D4-99B7-8E8436A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8AB29-924B-4B9C-ACB3-0F11683D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5271-CA9D-4CFA-A5E5-94F33CCF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D6FF7-7108-47CE-90CC-65085FA3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07191-285E-4EC0-92CB-85CD76CA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D0E46-6EB1-4676-8E33-15C12359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B4E-C32D-4EF5-88E5-961957E3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2AC3F-48FC-4E9D-8C81-71EA145A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F4997-E407-4EE8-94A3-285DB5E0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2D326-81E6-4060-A59A-2FDC40B4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FDCCF-B3E9-4FC1-B0F9-E87607A7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C372A-C77D-4963-B8CD-EEE16739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292D0-E9E1-4E20-B231-5D5C611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132BD-472F-4F1C-859D-9D03A1D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49EF0-8CC8-4B4C-A342-403E6057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71114-BB1F-4550-9398-73478723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120F3-05A1-4768-8C48-D82820DE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510-6376-4221-A111-42676D28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EFC89-162D-4A89-9A0F-6E8DE532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40B8C-115D-4AC5-B9ED-C8B4F666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B15F8-C946-4EF8-9DD2-2DB8CFBB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7E553-5BE2-4164-BC13-41284EFE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E773F-4EC7-48DB-A2F9-63099EA4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7C72F-CA2D-4286-A500-42FC2AC2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BB6C4-1D77-4F2B-8D79-1F35FA1D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B0703-D5C2-47C7-AF76-9806D1CB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32FE8-981D-4DE4-B80C-0280B33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EFFBB-0D6B-489C-AA23-4BDF447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AB6-BC8F-44E0-A318-793C2CDF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9AE4C-8CF3-41ED-9A31-1F42570E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19474-E349-4EBB-83C5-8FFC68ED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AFE9-E19D-4D9F-A2C2-B24811D3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5B081-DE02-409E-9347-98196BE0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7223B-9654-4D5D-B9FF-104F80A6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C2FE7-5A87-4160-80DA-3901D0EB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1832-5E90-4E44-981B-5C74F253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6AE11-4C58-4B4D-9708-4B2CF7EC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DDC52-9BA9-4C85-AB41-05F0F196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48F2C-FB1F-4B79-9B70-BF5A19BE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035-8498-4FDD-A5D2-6541C4FE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79481-886F-4797-AADB-531D7F7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D1A75-AA64-45BA-8E07-EEAE7E20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0E0E1-1272-4EF4-ADBE-FBA669AC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ECE9C-5F12-4E14-B64D-4D4AA01C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1259C-FC8E-45DA-B729-52ECE2D0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0785B-1058-457E-85EF-E5411A35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ED482-B214-47BA-BB99-BCA3DACC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61113-B574-471D-B81B-4B9ECEFD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26230-83B1-4297-813D-AE9B8101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20498-F716-48BF-A4AF-F592E294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B40-0C3F-46FA-A305-96F849DC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8F1B2-227A-4D94-B747-9CF852DB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9DBE1-CA50-4C35-9B7F-FF0582F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64735-F3B8-44E6-8C47-CE689D9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530DB-45D4-4800-BAA5-640E577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9B2BD-07B4-4CAB-937B-EF26950A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24EE4-E862-4107-B48F-7F665B1B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FCB4B-C392-48FF-AA4E-CC9BAD92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8B41B-C3F8-4756-85E4-2EAA8060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C1AA4-0CC5-4E5D-BD57-B77996F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B7547-177B-4C5E-9163-BB9BB083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F4FE-AB51-4C13-98AE-F1D641E9621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C574-21DE-4668-88BD-7AC39FC3F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BD3F-B7A8-4916-B5E8-BA97349E49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B292-732C-47B5-91F2-59F9ED01688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1F0F-151F-4D21-8012-5FBAF79D846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3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F003-D363-4C23-8474-2287128431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8D6E-06EE-453B-B40B-78730CD9E0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1993-EC4B-4F6F-B82A-22D622CCB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77D4-1BD8-462F-8096-47F90C021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C26C-3C8C-4B3C-8AD2-EDB4381B0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71280" y="436572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 La Russ"/>
              </a:rPr>
              <a:t>« Урок по теме:</a:t>
            </a:r>
            <a:br>
              <a:rPr sz="3200"/>
            </a:br>
            <a:r>
              <a:rPr b="1" lang="en-US" sz="3200" spc="-1" strike="noStrike">
                <a:solidFill>
                  <a:srgbClr val="996633"/>
                </a:solidFill>
                <a:latin typeface="A La Russ"/>
              </a:rPr>
              <a:t>«Былины и богатырские сказки».</a:t>
            </a:r>
            <a:br>
              <a:rPr sz="3200"/>
            </a:br>
            <a:r>
              <a:rPr b="1" lang="en-US" sz="3200" spc="-1" strike="noStrike">
                <a:solidFill>
                  <a:srgbClr val="996633"/>
                </a:solidFill>
                <a:latin typeface="A La Russ"/>
              </a:rPr>
              <a:t>Стихотворение Н.Матвеевой</a:t>
            </a:r>
            <a:br>
              <a:rPr sz="3200"/>
            </a:br>
            <a:r>
              <a:rPr b="1" lang="en-US" sz="3200" spc="-1" strike="noStrike">
                <a:solidFill>
                  <a:srgbClr val="996633"/>
                </a:solidFill>
                <a:latin typeface="A La Russ"/>
              </a:rPr>
              <a:t>«Пираты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3024360" cy="23698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524" name="" descr=""/>
          <p:cNvPicPr/>
          <p:nvPr/>
        </p:nvPicPr>
        <p:blipFill>
          <a:blip r:embed="rId2"/>
          <a:srcRect l="5915" t="0" r="19993" b="13690"/>
          <a:stretch/>
        </p:blipFill>
        <p:spPr>
          <a:xfrm>
            <a:off x="5219640" y="404640"/>
            <a:ext cx="3600360" cy="2762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381200" y="549000"/>
            <a:ext cx="4762440" cy="58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600" spc="-1" strike="noStrike">
                <a:solidFill>
                  <a:srgbClr val="663300"/>
                </a:solidFill>
                <a:latin typeface="Garamond"/>
              </a:rPr>
              <a:t>За свои подвиги он был причислен к лику святых и удостоился захоронения в Киево-Печерской лавре. </a:t>
            </a:r>
            <a:br>
              <a:rPr sz="2600"/>
            </a:br>
            <a:r>
              <a:rPr b="0" lang="ru-RU" sz="2600" spc="-1" strike="noStrike">
                <a:solidFill>
                  <a:srgbClr val="663300"/>
                </a:solidFill>
                <a:latin typeface="Garamond"/>
              </a:rPr>
              <a:t>У изголовья перед его гробницей гласит надпись – «Илья из города Мурома». </a:t>
            </a:r>
            <a:br>
              <a:rPr sz="2600"/>
            </a:br>
            <a:r>
              <a:rPr b="0" lang="ru-RU" sz="2600" spc="-1" strike="noStrike">
                <a:solidFill>
                  <a:srgbClr val="663300"/>
                </a:solidFill>
                <a:latin typeface="Garamond"/>
              </a:rPr>
              <a:t>К иконе великого былинного святого богатыря в местной карачаровской церкви идут и идут верующие..</a:t>
            </a:r>
            <a:r>
              <a:rPr b="0" lang="ru-RU" sz="4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552840" cy="48196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Н.Матвеева «Пираты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АЧ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вертикальная конструкция на палубе (на парусных судах для установки парус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АТРОС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матросская блуза с большим прямым отложным воротни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ТЁ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высокая ск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КЛАЖ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уложенные для перевозки вещи, груз, бага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68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68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68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b800"/>
                </a:solidFill>
                <a:latin typeface="Comic Sans MS"/>
              </a:rPr>
              <a:t>«Вопрос-ответ»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b800"/>
                </a:solidFill>
                <a:latin typeface="Comic Sans MS"/>
              </a:rPr>
              <a:t>«Узнай произведение»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b800"/>
                </a:solidFill>
                <a:latin typeface="Comic Sans MS"/>
              </a:rPr>
              <a:t>«Кто это?»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b800"/>
                </a:solidFill>
                <a:latin typeface="Comic Sans MS"/>
              </a:rPr>
              <a:t>«Создай комиксы»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b800"/>
                </a:solidFill>
                <a:latin typeface="Comic Sans MS"/>
              </a:rPr>
              <a:t>Н.Матвеева «Пираты»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11280" y="260280"/>
            <a:ext cx="79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ан путешеств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18716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763640" y="1828440"/>
            <a:ext cx="712944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ется прочитанный разд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роизведения в него вош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герои был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герои богатырских сказ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качества богатырей ценились у разных наро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826920" y="260280"/>
            <a:ext cx="756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"Вопрос-ответ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476360" cy="198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58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авный защитник Руси-матушки, 33 года неподвижно просидевший в изб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гатырь, поповский сын. Одолел Тугарина Змеевич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гучий богатырь, которого еле носила Земля-матуш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братим Ильи Муромца, освободивший Забаву Путятичну, племянницу князя Владими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24000" y="0"/>
            <a:ext cx="8424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eec94"/>
                </a:solidFill>
                <a:latin typeface="Impact"/>
              </a:rPr>
              <a:t>"Кто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eec94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Илья Муроме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Алёша Попови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вятогор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Добрыня Никити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8360" y="260280"/>
            <a:ext cx="813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2050560" y="5668560"/>
            <a:ext cx="5761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«Богатыри»  В.Васнец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(1881-1898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553080" cy="453564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884840" y="404640"/>
            <a:ext cx="37908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3300"/>
                </a:solidFill>
                <a:latin typeface="Garamond"/>
              </a:rPr>
              <a:t>В селе Карачарово, что под Муромом, если верить былинам, родился знаменитый богатырь Илья Муромец.  Звали его Илья Иванович Гущин. Жил богатырь, как и все карачаровцы, в гуще дремучих лесов— отсюда и фамилия. Илья Муромец — реальная историческая личность, воин, служивший киевскому князю.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105440" cy="37195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4176720" cy="45306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9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51280" y="475920"/>
            <a:ext cx="4844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33"/>
                </a:solidFill>
                <a:latin typeface="Garamond"/>
              </a:rPr>
              <a:t>…</a:t>
            </a:r>
            <a:r>
              <a:rPr b="0" lang="en-US" sz="2600" spc="-1" strike="noStrike">
                <a:solidFill>
                  <a:srgbClr val="996633"/>
                </a:solidFill>
                <a:latin typeface="Garamond"/>
              </a:rPr>
              <a:t>Как одно-то на небе красно солнышко. А один — то на Руси Илья Муромец…</a:t>
            </a:r>
            <a:br>
              <a:rPr sz="2600"/>
            </a:br>
            <a:r>
              <a:rPr b="0" lang="en-US" sz="2600" spc="-1" strike="noStrike">
                <a:solidFill>
                  <a:srgbClr val="996633"/>
                </a:solidFill>
                <a:latin typeface="Garamond"/>
              </a:rPr>
              <a:t>Неспроста древний Муром на высоком берегу Оки в парке установил  памятник своему легендарному богатырю. Как символ не только физической, но и, что более важно, высокой нравственной силы</a:t>
            </a:r>
            <a:br>
              <a:rPr sz="2600"/>
            </a:br>
            <a:r>
              <a:rPr b="0" lang="en-US" sz="2600" spc="-1" strike="noStrike">
                <a:solidFill>
                  <a:srgbClr val="996633"/>
                </a:solidFill>
                <a:latin typeface="Garamond"/>
              </a:rPr>
              <a:t>«</a:t>
            </a:r>
            <a:r>
              <a:rPr b="1" lang="en-US" sz="2600" spc="-1" strike="noStrike">
                <a:solidFill>
                  <a:srgbClr val="996633"/>
                </a:solidFill>
                <a:latin typeface="Garamond"/>
              </a:rPr>
              <a:t>…Я иду служить за землю Русскую. За вдов, за сирот, за бедных людей…»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2994120" cy="4123080"/>
          </a:xfrm>
          <a:prstGeom prst="rect">
            <a:avLst/>
          </a:prstGeom>
          <a:ln w="7632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140360" y="1484280"/>
            <a:ext cx="4681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681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Из богатырей Илья Муромец ушел в монах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4462560" cy="48243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4506840" cy="49690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549" name=""/>
          <p:cNvSpPr/>
          <p:nvPr/>
        </p:nvSpPr>
        <p:spPr>
          <a:xfrm>
            <a:off x="5580000" y="3573360"/>
            <a:ext cx="31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А погиб защищая Киев от набега половц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4:07:37Z</dcterms:created>
  <dc:creator>User</dc:creator>
  <dc:description/>
  <dc:language>en-US</dc:language>
  <cp:lastModifiedBy>Учитель</cp:lastModifiedBy>
  <dcterms:modified xsi:type="dcterms:W3CDTF">2013-07-31T18:31:25Z</dcterms:modified>
  <cp:revision>66</cp:revision>
  <dc:subject/>
  <dc:title>Слайд 1</dc:title>
</cp:coreProperties>
</file>