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7A3-69E3-45D2-8B6D-049B027D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072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2800"/>
            <a:ext cx="82072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A27-1727-4DAE-8460-371C9BEB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82F-6357-4C94-B2A7-3F051324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080" y="16002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960" y="16002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28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080" y="39528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960" y="39528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C98-A521-4BF1-922C-342DE3D3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072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851-C077-458C-BC4B-A480553B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0728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D23-6946-48A6-9FF3-DDEFA9EB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DB7-3426-4B79-A1FC-2EA5B8A1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D8D-E3BF-472A-9598-E18D06B0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96D-11CC-45B3-A753-73E7978E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31B-6212-482A-8AB7-B40BAAA8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167-30CD-4490-8E26-B0B0DC81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82072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4ED-0618-4A11-A3D5-80E03D5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0728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1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73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1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95C4C2-8C91-45C6-8760-C745F32D479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80880" y="54468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152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мый край, любимая земл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ица имени Петра Ши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600360" y="1979640"/>
            <a:ext cx="6500880" cy="84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у выполнили: ученики 2Б клас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У СОШ№4 «Центр образования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ководитель: М.А.Аванес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утаев 2015 г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497480" y="-119160"/>
            <a:ext cx="180720" cy="71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859280" y="539640"/>
            <a:ext cx="3600360" cy="341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4497480" y="-119160"/>
            <a:ext cx="180720" cy="71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720720" y="3240000"/>
            <a:ext cx="3959280" cy="3060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39640" y="909720"/>
            <a:ext cx="39243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йки прошлого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"/>
          <p:cNvSpPr/>
          <p:nvPr/>
        </p:nvSpPr>
        <p:spPr>
          <a:xfrm>
            <a:off x="4643280" y="333360"/>
            <a:ext cx="73080" cy="619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859280" y="72072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720720" y="3240000"/>
            <a:ext cx="3780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41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41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040360" y="720720"/>
            <a:ext cx="3600360" cy="306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720720" y="3060720"/>
            <a:ext cx="4140360" cy="3240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457200" y="1600200"/>
            <a:ext cx="40086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ые д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25520" y="292320"/>
            <a:ext cx="82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Знаете ли вы на какой улице находится наша шко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Диаграмма 2" descr=""/>
          <p:cNvPicPr/>
          <p:nvPr/>
        </p:nvPicPr>
        <p:blipFill>
          <a:blip r:embed="rId1"/>
          <a:stretch/>
        </p:blipFill>
        <p:spPr>
          <a:xfrm>
            <a:off x="2073240" y="785880"/>
            <a:ext cx="4013280" cy="1398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468360" y="2277720"/>
            <a:ext cx="59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2.   Кто такой Пётр Шит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Диаграмма 4" descr=""/>
          <p:cNvPicPr/>
          <p:nvPr/>
        </p:nvPicPr>
        <p:blipFill>
          <a:blip r:embed="rId2"/>
          <a:stretch/>
        </p:blipFill>
        <p:spPr>
          <a:xfrm>
            <a:off x="2000160" y="2657520"/>
            <a:ext cx="4807080" cy="1614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68360" y="4325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3.  Нужно ли знать историю своей Родины, своего горо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воей улиц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Диаграмма 6" descr=""/>
          <p:cNvPicPr/>
          <p:nvPr/>
        </p:nvPicPr>
        <p:blipFill>
          <a:blip r:embed="rId3"/>
          <a:stretch/>
        </p:blipFill>
        <p:spPr>
          <a:xfrm>
            <a:off x="2000160" y="5033880"/>
            <a:ext cx="4422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84600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Альманах тутаевской поэзии «Тебе, мой край»выпуск третий, 2007 го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2.Конюшев К.В. «Город красного бойц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3.Капитон Конюшев «По Волге и отчему краю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Использованы интернет ресурс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лево 2">
            <a:hlinkClick r:id="" action="ppaction://hlinkshowjump?jump=firstslide"/>
          </p:cNvPr>
          <p:cNvSpPr/>
          <p:nvPr/>
        </p:nvSpPr>
        <p:spPr>
          <a:xfrm>
            <a:off x="8028000" y="6093000"/>
            <a:ext cx="762120" cy="4125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больше об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истории свое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города, об улицах родного город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о героях в честь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которых назван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улицы родно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гор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89964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исследовательской работ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ыход в школьную библиоте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ыход в городскую библиоте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накомство с краеведческ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осещение школьного музе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исследование улицы имени Петра Шит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нкетирование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0400" y="3060720"/>
            <a:ext cx="84092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31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172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539640" y="39996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0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20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20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5715000" y="5943600"/>
            <a:ext cx="214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219640" y="1619280"/>
            <a:ext cx="341964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-61920"/>
            <a:ext cx="813924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ётр Иванович Шитов герой Великой Отечественной Войны. В 1942 году под городом Калугой повторил подвиг Гастел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9640" y="706320"/>
            <a:ext cx="414036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ть могут удары стихи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йны и жестоких невзг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 знаю: не сгинут Росс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доблестный русский наро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. Конюше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07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207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120" y="915840"/>
            <a:ext cx="82234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ётр Шитов родился в городе Тутаеве в большой семье токаря льнокомбината Ивана Петровича и Евдокии Ивановны Шитовых. В их семье было 5 сыновей и 3 дочери. Пётр после окончания семилетки поступил на «Тульму» в мебельный цех учеником столяра. В 1931 году он добровольно ушёл служить в Красную Армию. В Ярославле Пётр закончил полковую школу, затем учился в лётной школе. Через два года он стал военным лётчиком бомбардировочной ави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7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77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61640"/>
            <a:ext cx="810108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ица была названа именем героя в мае 1985 года в год 40-летия Великой Победы Советского народ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выглядит улица сегодня. Антикварный салон «Троица». В конце 19 века в этом  здании размещалось городское начальное училищ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619280" y="2340000"/>
            <a:ext cx="575928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219640" y="5805360"/>
            <a:ext cx="12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276720" y="465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332840" y="5753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16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СОШ №4 «Центр образова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ица Петра Шитова дом 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а ну-ка кадеты 2010 087"/>
          <p:cNvPicPr/>
          <p:nvPr/>
        </p:nvPicPr>
        <p:blipFill>
          <a:blip r:embed="rId1"/>
          <a:stretch/>
        </p:blipFill>
        <p:spPr>
          <a:xfrm>
            <a:off x="1332000" y="1341360"/>
            <a:ext cx="655308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0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0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9640" y="2160720"/>
            <a:ext cx="2805120" cy="2135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24120"/>
            <a:ext cx="8218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ание бывшей гостиницы и памятник Толбухина находятся на против улицы П.И.Ши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720720" y="3060720"/>
            <a:ext cx="48592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4360" y="981000"/>
          <a:ext cx="7777080" cy="12555720"/>
        </p:xfrm>
        <a:graphic>
          <a:graphicData uri="http://schemas.openxmlformats.org/drawingml/2006/table">
            <a:tbl>
              <a:tblPr/>
              <a:tblGrid>
                <a:gridCol w="3851280"/>
                <a:gridCol w="3925800"/>
              </a:tblGrid>
              <a:tr h="1726560"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188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1118880" bIns="46800" anchor="t">
                      <a:noAutofit/>
                    </a:bodyPr>
                    <a:p>
                      <a:pPr marL="533520" indent="-51120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234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234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6560"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19234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234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6560">
                <a:tc>
                  <a:txBody>
                    <a:bodyPr lIns="90000" rIns="90000" tIns="11188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6560"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6"/>
          <p:cNvSpPr/>
          <p:nvPr/>
        </p:nvSpPr>
        <p:spPr>
          <a:xfrm>
            <a:off x="1476360" y="692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605560" y="69228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8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559640" cy="4680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81000"/>
            <a:ext cx="822636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 советского период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н  1августа 2008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1:26:35Z</dcterms:created>
  <dc:creator>Наташа</dc:creator>
  <dc:description/>
  <dc:language>en-US</dc:language>
  <cp:lastModifiedBy>анна валова</cp:lastModifiedBy>
  <dcterms:modified xsi:type="dcterms:W3CDTF">2015-05-09T11:48:5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