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D8F-E28E-4488-A0FB-04400FFD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8B1-6CC8-4C0E-A2F3-A2296C9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B93-FB0D-4DFE-8829-01C973D9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08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960" y="16002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08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960" y="3952800"/>
            <a:ext cx="2642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B1F-E888-462B-BE2D-E0DE6027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BA1-50C6-4FD2-88F1-F826AE77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F0C-EBC6-476E-96E6-F564CF0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557-2879-45F4-9704-36A0334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7ED-DD37-42A9-85F9-978FE4F4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072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3E3-5584-44CB-B59D-43679D8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17F-6511-43CC-A9E0-3016EFD5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39528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D6A-0D14-45CF-BAE1-B6194B2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600200"/>
            <a:ext cx="40050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072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136-3AD0-48F5-8768-3D7E19C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72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072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1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3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1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E14B4E-EF23-410E-B271-8D911CEEA4E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80880" y="54468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152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мый край, любимая земл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ица имени Петра Ши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600360" y="1979640"/>
            <a:ext cx="6500880" cy="84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у выполнили: ученики 2Б клас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У СОШ№4 «Центр образования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ководитель: М.А.Аванес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таев 2015 г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497480" y="-119160"/>
            <a:ext cx="180720" cy="71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859280" y="539640"/>
            <a:ext cx="3600360" cy="341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497480" y="-119160"/>
            <a:ext cx="180720" cy="71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3959280" cy="3060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39640" y="909720"/>
            <a:ext cx="3924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йки прошлого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"/>
          <p:cNvSpPr/>
          <p:nvPr/>
        </p:nvSpPr>
        <p:spPr>
          <a:xfrm>
            <a:off x="4643280" y="333360"/>
            <a:ext cx="73080" cy="619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859280" y="72072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41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41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040360" y="720720"/>
            <a:ext cx="3600360" cy="306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20720" y="3060720"/>
            <a:ext cx="4140360" cy="3240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57200" y="1600200"/>
            <a:ext cx="4008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е 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5520" y="292320"/>
            <a:ext cx="82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Знаете ли вы на какой улице находится наша шко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Диаграмма 2" descr=""/>
          <p:cNvPicPr/>
          <p:nvPr/>
        </p:nvPicPr>
        <p:blipFill>
          <a:blip r:embed="rId1"/>
          <a:stretch/>
        </p:blipFill>
        <p:spPr>
          <a:xfrm>
            <a:off x="2073240" y="785880"/>
            <a:ext cx="4013280" cy="1398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68360" y="2277720"/>
            <a:ext cx="59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2.   Кто такой Пётр Шит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Диаграмма 4" descr=""/>
          <p:cNvPicPr/>
          <p:nvPr/>
        </p:nvPicPr>
        <p:blipFill>
          <a:blip r:embed="rId2"/>
          <a:stretch/>
        </p:blipFill>
        <p:spPr>
          <a:xfrm>
            <a:off x="2000160" y="2657520"/>
            <a:ext cx="4807080" cy="1614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68360" y="4325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3.  Нужно ли знать историю своей Родины, своего горо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воей улиц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Диаграмма 6" descr=""/>
          <p:cNvPicPr/>
          <p:nvPr/>
        </p:nvPicPr>
        <p:blipFill>
          <a:blip r:embed="rId3"/>
          <a:stretch/>
        </p:blipFill>
        <p:spPr>
          <a:xfrm>
            <a:off x="2000160" y="5033880"/>
            <a:ext cx="4422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84600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льманах тутаевской поэзии «Тебе, мой край»выпуск третий, 2007 г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2.Конюшев К.В. «Город красного бойц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3.Капитон Конюшев «По Волге и отчему краю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Использованы интернет ресурс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лево 2">
            <a:hlinkClick r:id="" action="ppaction://hlinkshowjump?jump=firstslide"/>
          </p:cNvPr>
          <p:cNvSpPr/>
          <p:nvPr/>
        </p:nvSpPr>
        <p:spPr>
          <a:xfrm>
            <a:off x="8028000" y="6093000"/>
            <a:ext cx="762120" cy="41256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больше об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истории сво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города, об улицах родного город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о героях в чест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которых назван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улицы род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гор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89964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исследовательской рабо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ыход в школьную библиоте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ыход в городскую библиоте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накомство с краеведчес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осещение школьного музе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исследование улицы имени Петра Шит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кетирование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0400" y="3060720"/>
            <a:ext cx="84092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31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172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39640" y="39996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0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5715000" y="5943600"/>
            <a:ext cx="214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219640" y="1619280"/>
            <a:ext cx="341964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-61920"/>
            <a:ext cx="813924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ётр Иванович Шитов герой Великой Отечественной Войны. В 1942 году под городом Калугой повторил подвиг Гастел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706320"/>
            <a:ext cx="414036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ть могут удары стихии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йны и жестоких невзг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 знаю: не сгинут Росс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облестный русский нар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 Конюше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07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120" y="915840"/>
            <a:ext cx="82234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ётр Шитов родился в городе Тутаеве в большой семье токаря льнокомбината Ивана Петровича и Евдокии Ивановны Шитовых. В их семье было 5 сыновей и 3 дочери. Пётр после окончания семилетки поступил на «Тульму» в мебельный цех учеником столяра. В 1931 году он добровольно ушёл служить в Красную Армию. В Ярославле Пётр закончил полковую школу, затем учился в лётной школе. Через два года он стал военным лётчиком бомбардировочной ав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77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77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61640"/>
            <a:ext cx="810108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ца была названа именем героя в мае 1985 года в год 40-летия Великой Победы Советского народ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выглядит улица сегодня. Антикварный салон «Троица». В конце 19 века в этом  здании размещалось городское начальное учил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619280" y="2340000"/>
            <a:ext cx="57592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219640" y="5805360"/>
            <a:ext cx="12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276720" y="465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332840" y="5753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1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СОШ №4 «Центр образова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ица Петра Шитова дом 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а ну-ка кадеты 2010 087"/>
          <p:cNvPicPr/>
          <p:nvPr/>
        </p:nvPicPr>
        <p:blipFill>
          <a:blip r:embed="rId1"/>
          <a:stretch/>
        </p:blipFill>
        <p:spPr>
          <a:xfrm>
            <a:off x="1332000" y="134136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0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0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9640" y="2160720"/>
            <a:ext cx="2805120" cy="2135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24120"/>
            <a:ext cx="8218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ание бывшей гостиницы и памятник Толбухина находятся на против улицы П.И.Ши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720720" y="3060720"/>
            <a:ext cx="48592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4360" y="981000"/>
          <a:ext cx="7777080" cy="12555720"/>
        </p:xfrm>
        <a:graphic>
          <a:graphicData uri="http://schemas.openxmlformats.org/drawingml/2006/table">
            <a:tbl>
              <a:tblPr/>
              <a:tblGrid>
                <a:gridCol w="3851280"/>
                <a:gridCol w="3925800"/>
              </a:tblGrid>
              <a:tr h="172656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1188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1118880" bIns="46800" anchor="t">
                      <a:noAutofit/>
                    </a:bodyPr>
                    <a:p>
                      <a:pPr marL="533520" indent="-511200">
                        <a:lnSpc>
                          <a:spcPct val="3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533520"/>
                          <a:tab algn="l" pos="981000"/>
                          <a:tab algn="l" pos="1430280"/>
                          <a:tab algn="l" pos="1879560"/>
                          <a:tab algn="l" pos="2328840"/>
                          <a:tab algn="l" pos="2778120"/>
                          <a:tab algn="l" pos="3227400"/>
                          <a:tab algn="l" pos="3676680"/>
                          <a:tab algn="l" pos="4125960"/>
                          <a:tab algn="l" pos="4575240"/>
                          <a:tab algn="l" pos="5024520"/>
                          <a:tab algn="l" pos="5473800"/>
                          <a:tab algn="l" pos="5923080"/>
                          <a:tab algn="l" pos="6372360"/>
                          <a:tab algn="l" pos="6821640"/>
                          <a:tab algn="l" pos="7270920"/>
                          <a:tab algn="l" pos="7719840"/>
                          <a:tab algn="l" pos="8169120"/>
                          <a:tab algn="l" pos="8618400"/>
                          <a:tab algn="l" pos="9067680"/>
                          <a:tab algn="l" pos="951696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240"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234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1118880" bIns="46800" anchor="t">
                      <a:noAutofit/>
                    </a:bodyPr>
                    <a:p>
                      <a:pPr>
                        <a:lnSpc>
                          <a:spcPct val="3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13640" bIns="46800" anchor="t">
                      <a:noAutofit/>
                    </a:bodyPr>
                    <a:p>
                      <a:pPr>
                        <a:lnSpc>
                          <a:spcPct val="4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6"/>
          <p:cNvSpPr/>
          <p:nvPr/>
        </p:nvSpPr>
        <p:spPr>
          <a:xfrm>
            <a:off x="1476360" y="6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605560" y="69228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8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680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63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 советского период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н  1августа 2008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1:26:35Z</dcterms:created>
  <dc:creator>Наташа</dc:creator>
  <dc:description/>
  <dc:language>en-US</dc:language>
  <cp:lastModifiedBy>анна валова</cp:lastModifiedBy>
  <dcterms:modified xsi:type="dcterms:W3CDTF">2015-05-09T11:48:5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