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8142-1D41-4D26-B70A-20BCAC2F8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FFEB-FF7D-44C7-B90A-5739831F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A982-7897-4DF3-B92E-1B55998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56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56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5026-B11E-43E2-8D69-8238871A2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3E5E-3A85-4B42-8FD0-BDC1FAD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156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168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156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8012880"/>
            <a:ext cx="2513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160D-8699-403C-84B2-0694604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5020-65A9-44CE-A861-01ADD20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A974-693B-48EC-B3B1-62D2D764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8406-7F42-458A-A123-3C3AF7CC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47FDD-10BE-4FE2-9185-A054DD98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801288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E3A8-BBE9-4F73-BADE-BCB738C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905120"/>
            <a:ext cx="380988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8012880"/>
            <a:ext cx="7807320" cy="557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8AA3-BB74-42D0-973D-5FBA9B1A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7E7EF-0442-4913-B62B-E16E3ACAA0E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7807320" cy="1169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45520" y="6510240"/>
            <a:ext cx="54432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07200" y="6510240"/>
            <a:ext cx="544680" cy="7632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9520"/>
            <a:ext cx="822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пофеоз войны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1787400"/>
            <a:ext cx="558324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н Бу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214800"/>
            <a:ext cx="64864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Изг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Темнеют, свищут сумерки в пусты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Поля и океан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Кто утолит в пустыне, на чужб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Боль крестных ра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Гляжу вперед, на черное Распят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Среди дорог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И простирает скорбные объя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Почивший Бог. Бретань. 19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9880" y="285840"/>
            <a:ext cx="15242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ладимир Набо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 России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твяжись, я тебя умоляю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ечер страшен, гул жизни зати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 беспомощен. Я умираю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т слепых наплываний твоих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т, кто вольно отчизну покину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лен выть на вершинах о ней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о теперь я спустился в долину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теперь приближаться не смей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всегда я готов затаитьс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без имени жить. Я готов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тоб с тобой и во снах не сходиться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тказаться от всяческих снов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бескровить себя, искалечить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касаться любимейших книг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менять на любое наречь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се, что есть у меня,- мой язык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о зато, о Россия, сквозь слезы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возь траву двух несмежных моги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возь дрожащие пятна березы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возь все то, чем я смолоду жил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рогими слепыми глазам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смотри на меня, пожалей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ищи в этой угольной яме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 нащупывай жизни моей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бо годы прошли и столетья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за горе, за муку, за стыд,-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дно, поздно!- никто не ответит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душа никому не прости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86080" y="1428840"/>
            <a:ext cx="2355840" cy="2705040"/>
            <a:chOff x="3286080" y="1428840"/>
            <a:chExt cx="2355840" cy="27050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3286080" y="1428840"/>
              <a:ext cx="2355840" cy="27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286080" y="1428840"/>
              <a:ext cx="2355840" cy="27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И ТА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. Бальм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гулкий Париж и повторны погуд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я и на новый, но ведомый л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там на черте бочагов - незабуд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 чаще - давнишний алкаемый кл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вихри и рокоты слова и сла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душами правит летучая мы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в пряном цветенье болотные тра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брежное поле, бездонная ти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в близком и в точном - расчисленный разу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уть глянут провалы, он шепчет: "Засып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стебли дурмана с их ядом и сглаз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стонет в болотах зловещая в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вежливо холодны к бесу и к бо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уть по земным направляют звезд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лю тебя, вышний, построй мне доро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б быть мне хоть мертвым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елаемом 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Вопросы классу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чем заключается влияние исторической обстановки 20-30 годов на творчество деятелей русского зарубежья?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74720" indent="-66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  <a:ea typeface="ＭＳ Ｐ明朝"/>
              </a:rPr>
              <a:t>«Думайте о России, знайте о ней…От вас зависит величайщее дело духовного возрождения нового поколения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4720" indent="-66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  <a:ea typeface="ＭＳ Ｐ明朝"/>
              </a:rPr>
              <a:t>                                    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  <a:ea typeface="ＭＳ Ｐ明朝"/>
              </a:rPr>
              <a:t>Иван шмел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Домашне задание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аписать эсс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равнительный анализ текста параграфа 20 УМК Н. В. Загладина «История России» с лекцией урока;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162000"/>
            <a:ext cx="822636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Шэнэхэнские буряты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8760" cy="11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60360" y="1440000"/>
            <a:ext cx="70200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800360"/>
            <a:ext cx="85662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й гражданин и лицо без гражданства должны владеть русским языком. Для чего лица, имеющие иное гражданство и не обучавшиеся на территории СССР до 91 года и на территории России после 91 года, должны получить сертификат о знании русского язы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0720" y="720720"/>
            <a:ext cx="835020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эмидэ, солистка театра песни и танца «Байкал»: «Прабабушка, прадедушка, все отсюда. Большинство шэнэхэнских бурят, которые живут в Китае, хотят приехать сюда. Говорят, Бурятия – это наша род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355920"/>
            <a:ext cx="921888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энэхэнские буряты надеялись услышать, что для них требования для получения гражданства будут упрощены. Но им дали понять, что закон для всех един. Не стала Бурятия участвовать и в программе по возвращению из-за рубежа соотечественников, которую приняли 14 субъекто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479600"/>
            <a:ext cx="7772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РУССКОЕ ЗАРУБЕЖЬЕ 20-30 ГОДОВ ХХ ВЕКА В КОНТЕКСТЕ МИРОВОЙ ИСТОР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1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Базарова Л.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манахом называется сборник литературно-художественных произведений различного содер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нтарий – объяснение, толкование к какому-нибудь тексту (сочинения Пушкина с комментариями), рассуждения, пояснительные и критические замечания о чём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Задание классу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ставить историческое эсс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ставить таблицу «Три волны эмиграции»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Записать кратко содержание лекци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мини- сочин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Исторические условия творчества (писателя, поэта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ичные впечатления от услышанного в ходе урока, обоснование выбора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тражение темы Родины в творч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Художественные особенности и своеобразие твор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Выводы (влияние исторической обстановки на творчеств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ff"/>
                </a:solidFill>
                <a:latin typeface="Times New Roman"/>
              </a:rPr>
              <a:t>Рахманинов Сергей Васильевич(1 апреля (20 марта) 1873(18730320)—28 марта 1943) 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33760" y="1800360"/>
            <a:ext cx="3666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8:49:42Z</dcterms:created>
  <dc:creator>metod</dc:creator>
  <dc:description/>
  <dc:language>en-US</dc:language>
  <cp:lastModifiedBy>User</cp:lastModifiedBy>
  <dcterms:modified xsi:type="dcterms:W3CDTF">2010-12-10T00:52:46Z</dcterms:modified>
  <cp:revision>7</cp:revision>
  <dc:subject/>
  <dc:title>Иван Бунин</dc:title>
</cp:coreProperties>
</file>