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4B6-D99B-46CD-97FB-3955FED3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BE2-897C-43F8-8409-D4203888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6CC-236C-4438-964E-E870BADB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540-C994-42A5-878F-07DE3AFF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D37-6982-4648-828A-CAFEA7A6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851-0701-4685-B9ED-2181613E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FDC-DAF9-406A-8E5E-9A1D79ED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C23-198E-4F35-AFB6-B2C9BC18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528-3208-4BB6-BF50-0515E4F2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9F3-AEFE-40A8-A98D-E3F41070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1A6-1AA5-4B6D-A46A-0C0954A9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3ED-82F7-4B28-B2D9-5285CB35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08A9-11DD-40B3-BEF6-0C62001D77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edsovet.su/load/397-1-0-35730" TargetMode="External"/><Relationship Id="rId2" Type="http://schemas.openxmlformats.org/officeDocument/2006/relationships/hyperlink" Target="http://mp3ostrov.com/?string=&#1084;&#1072;&#1088;&#1096;%20&#1089;&#1083;&#1072;&#1074;&#1103;&#1085;&#1082;&#1080;" TargetMode="External"/><Relationship Id="rId3" Type="http://schemas.openxmlformats.org/officeDocument/2006/relationships/hyperlink" Target="http://www.stalingrad-info.com/338.JPG" TargetMode="External"/><Relationship Id="rId4" Type="http://schemas.openxmlformats.org/officeDocument/2006/relationships/hyperlink" Target="http://cp12.nevsepic.com.ua/61/1353760575-0474309-www.nevsepic.com.ua.jpg" TargetMode="External"/><Relationship Id="rId5" Type="http://schemas.openxmlformats.org/officeDocument/2006/relationships/hyperlink" Target="http://www.stihi.ru/pics/2012/05/06/2264.jpg" TargetMode="External"/><Relationship Id="rId6" Type="http://schemas.openxmlformats.org/officeDocument/2006/relationships/hyperlink" Target="http://900igr.net/datas/istorija/Fashizm-v-Italii/0001-001-Ideologija-italjanskogo-i-germanskogo-fashizma.jpg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martnews.ru/storage/c/2013/06/21/1371822246_739816_27.jpeg" TargetMode="External"/><Relationship Id="rId2" Type="http://schemas.openxmlformats.org/officeDocument/2006/relationships/hyperlink" Target="http://f-picture.net/lfp/s49.radikal.ru/i125/1104/34/0c468f046b2d.png/htm" TargetMode="External"/><Relationship Id="rId3" Type="http://schemas.openxmlformats.org/officeDocument/2006/relationships/hyperlink" Target="http://festival.1september.ru/articles/584966/presentation/44.JPG" TargetMode="External"/><Relationship Id="rId4" Type="http://schemas.openxmlformats.org/officeDocument/2006/relationships/hyperlink" Target="http://www.derzava.ru/foto/genocyd/g4.jpg" TargetMode="External"/><Relationship Id="rId5" Type="http://schemas.openxmlformats.org/officeDocument/2006/relationships/hyperlink" Target="http://img-fotki.yandex.ru/get/9111/225044291.1/0_ba65c_e2b8d616_XXL.jpg" TargetMode="External"/><Relationship Id="rId6" Type="http://schemas.openxmlformats.org/officeDocument/2006/relationships/hyperlink" Target="http://oficery.ru/sites/default/files/news/2011/09/33f9.jpg" TargetMode="External"/><Relationship Id="rId7" Type="http://schemas.openxmlformats.org/officeDocument/2006/relationships/hyperlink" Target="http://www.pravpiter.ru/pspb/n200/images/10.jpg" TargetMode="External"/><Relationship Id="rId8" Type="http://schemas.openxmlformats.org/officeDocument/2006/relationships/hyperlink" Target="http://ok.ya1.ru/uploads/posts/2008-06/1214205687_00009676.jpg" TargetMode="External"/><Relationship Id="rId9" Type="http://schemas.openxmlformats.org/officeDocument/2006/relationships/hyperlink" Target="http://7.hidemyass.com/ip-1/encoded/Oi8vd3d3Lmthc3Bhcm92LnJ1L2NvbnRlbnQvbWF0ZXJpYWxzLzIwMTUwMi81NEQyMUVCM0JGN0FELmpwZw%3D%3D" TargetMode="External"/><Relationship Id="rId10" Type="http://schemas.openxmlformats.org/officeDocument/2006/relationships/hyperlink" Target="http://5fan.ru/files/2/5fan_ru_12479_2e5910a1853a6c60b8443e3e74c3a26a.html_files/20.jpg" TargetMode="Externa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voenhronika.ru/publ/vtoraja_mirovaja_vojna" TargetMode="External"/><Relationship Id="rId2" Type="http://schemas.openxmlformats.org/officeDocument/2006/relationships/hyperlink" Target="http://voenhronika.ru/publ/vtoraja_mirovaja_vojna" TargetMode="External"/><Relationship Id="rId3" Type="http://schemas.openxmlformats.org/officeDocument/2006/relationships/hyperlink" Target="http://voenhronika.ru/publ/vtoraja_mirovaja_vojna" TargetMode="External"/><Relationship Id="rId4" Type="http://schemas.openxmlformats.org/officeDocument/2006/relationships/hyperlink" Target="http://voenhronika.ru/publ/vtoraja_mirovaja_vojna" TargetMode="External"/><Relationship Id="rId5" Type="http://schemas.openxmlformats.org/officeDocument/2006/relationships/hyperlink" Target="http://voenhronika.ru/publ/vtoraja_mirovaja_vojna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Военные Марши - Прощание Славянки - wap.kengu.ru (mp3ostrov.com).mp3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344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JIVI LENINGRAD.mp3" descr=""/>
          <p:cNvPicPr/>
          <p:nvPr/>
        </p:nvPicPr>
        <p:blipFill>
          <a:blip r:embed="rId1"/>
          <a:stretch/>
        </p:blipFill>
        <p:spPr>
          <a:xfrm>
            <a:off x="7596360" y="6453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Великая Отечественная Война 41-45г. Фото наших пользователейФотоальбом - Информационно-развлекательный портал р.п. Костюковка"/>
          <p:cNvPicPr/>
          <p:nvPr/>
        </p:nvPicPr>
        <p:blipFill>
          <a:blip r:embed="rId2"/>
          <a:srcRect l="0" t="8531" r="0" b="7733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Проходной балл 2014 война 41-45 годы картинки в городе Поступаем вместе!"/>
          <p:cNvPicPr/>
          <p:nvPr/>
        </p:nvPicPr>
        <p:blipFill>
          <a:blip r:embed="rId3"/>
          <a:stretch/>
        </p:blipFill>
        <p:spPr>
          <a:xfrm>
            <a:off x="0" y="0"/>
            <a:ext cx="93312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Заседание организации &quot;Дети войны&quot; / новости &quot;Про-Троицк&quot;"/>
          <p:cNvPicPr/>
          <p:nvPr/>
        </p:nvPicPr>
        <p:blipFill>
          <a:blip r:embed="rId4"/>
          <a:srcRect l="0" t="2434" r="0" b="1375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КПРФ и Российское общество Коммунист Калуги"/>
          <p:cNvPicPr/>
          <p:nvPr/>
        </p:nvPicPr>
        <p:blipFill>
          <a:blip r:embed="rId5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Библиотека изображений &quot;РИА Новости&quot; :: Фото :: Историческое :: 1940-е"/>
          <p:cNvPicPr/>
          <p:nvPr/>
        </p:nvPicPr>
        <p:blipFill>
          <a:blip r:embed="rId6"/>
          <a:stretch/>
        </p:blipFill>
        <p:spPr>
          <a:xfrm>
            <a:off x="0" y="0"/>
            <a:ext cx="939636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1943 Дорога Дети Мирный Житель - фото Военный альбом 1939, 1940, 1941-1945"/>
          <p:cNvPicPr/>
          <p:nvPr/>
        </p:nvPicPr>
        <p:blipFill>
          <a:blip r:embed="rId7"/>
          <a:stretch/>
        </p:blipFill>
        <p:spPr>
          <a:xfrm>
            <a:off x="0" y="0"/>
            <a:ext cx="9396360" cy="686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Газета.Ru - ФОТОРЕПОРТАЖ"/>
          <p:cNvPicPr/>
          <p:nvPr/>
        </p:nvPicPr>
        <p:blipFill>
          <a:blip r:embed="rId8"/>
          <a:stretch/>
        </p:blipFill>
        <p:spPr>
          <a:xfrm>
            <a:off x="0" y="0"/>
            <a:ext cx="93646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RU MVO"/>
          <p:cNvPicPr/>
          <p:nvPr/>
        </p:nvPicPr>
        <p:blipFill>
          <a:blip r:embed="rId9"/>
          <a:srcRect l="0" t="0" r="0" b="2904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На Берлин! * Просмотр темы - Военные фотографии"/>
          <p:cNvPicPr/>
          <p:nvPr/>
        </p:nvPicPr>
        <p:blipFill>
          <a:blip r:embed="rId10"/>
          <a:srcRect l="5669" t="5039" r="4554" b="4239"/>
          <a:stretch/>
        </p:blipFill>
        <p:spPr>
          <a:xfrm>
            <a:off x="468360" y="404640"/>
            <a:ext cx="8675640" cy="622152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2" name="Picture 22" descr="В Санкт-Петербурге вспоминают войну: 70 лет назад началась блокада Ленинграда ОФИЦЕРЫ РОССИИ"/>
          <p:cNvPicPr/>
          <p:nvPr/>
        </p:nvPicPr>
        <p:blipFill>
          <a:blip r:embed="rId11"/>
          <a:stretch/>
        </p:blipFill>
        <p:spPr>
          <a:xfrm>
            <a:off x="0" y="0"/>
            <a:ext cx="9612360" cy="697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Блокада ленинграда доклад скачать - Город-герой ленинград"/>
          <p:cNvPicPr/>
          <p:nvPr/>
        </p:nvPicPr>
        <p:blipFill>
          <a:blip r:embed="rId12"/>
          <a:stretch/>
        </p:blipFill>
        <p:spPr>
          <a:xfrm>
            <a:off x="0" y="0"/>
            <a:ext cx="9659880" cy="702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Дети блокадного Ленинграда - Город.томск.ру"/>
          <p:cNvPicPr/>
          <p:nvPr/>
        </p:nvPicPr>
        <p:blipFill>
          <a:blip r:embed="rId13"/>
          <a:srcRect l="0" t="0" r="0" b="2879"/>
          <a:stretch/>
        </p:blipFill>
        <p:spPr>
          <a:xfrm>
            <a:off x="0" y="0"/>
            <a:ext cx="9685440" cy="702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В петербургском отделе полиции умерла блокадница, укравшая в магазине три пачки масла Общество Новости Каспаров.Ru"/>
          <p:cNvPicPr/>
          <p:nvPr/>
        </p:nvPicPr>
        <p:blipFill>
          <a:blip r:embed="rId14"/>
          <a:srcRect l="0" t="0" r="0" b="7722"/>
          <a:stretch/>
        </p:blipFill>
        <p:spPr>
          <a:xfrm>
            <a:off x="0" y="0"/>
            <a:ext cx="9740880" cy="702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Житель блокадного Ленинграда недоволен, что Германия компенсирует ущерб только евреям / 08.09.09 / Общество / РИА &quot;Новый День -"/>
          <p:cNvPicPr/>
          <p:nvPr/>
        </p:nvPicPr>
        <p:blipFill>
          <a:blip r:embed="rId15"/>
          <a:stretch/>
        </p:blipFill>
        <p:spPr>
          <a:xfrm>
            <a:off x="0" y="0"/>
            <a:ext cx="9685440" cy="726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Санкт-Петербург (с 18 (31) августа 1914 по 26 января 1924 Петроград; с 26 января 1924 по 6 сентября 1991 Ленинград) город федера"/>
          <p:cNvPicPr/>
          <p:nvPr/>
        </p:nvPicPr>
        <p:blipFill>
          <a:blip r:embed="rId16"/>
          <a:stretch/>
        </p:blipFill>
        <p:spPr>
          <a:xfrm>
            <a:off x="0" y="0"/>
            <a:ext cx="9685440" cy="724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4" descr="Пискаревское мемориальное кладбище - pepelnaya - Photo.Qip.ru / id: val"/>
          <p:cNvPicPr/>
          <p:nvPr/>
        </p:nvPicPr>
        <p:blipFill>
          <a:blip r:embed="rId17"/>
          <a:stretch/>
        </p:blipFill>
        <p:spPr>
          <a:xfrm>
            <a:off x="0" y="0"/>
            <a:ext cx="9756720" cy="72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" nodeType="afterEffect" fill="hold" presetClass="exit" presetID="55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" nodeType="afterEffect" fill="hold" presetClass="exit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750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9500"/>
                            </p:stCondLst>
                            <p:childTnLst>
                              <p:par>
                                <p:cTn id="57" nodeType="afterEffect" fill="hold" presetClass="exit" presetID="50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6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67" nodeType="afterEffect" fill="hold" presetClass="exit" presetID="23" presetSubtype="3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4000"/>
                            </p:stCondLst>
                            <p:childTnLst>
                              <p:par>
                                <p:cTn id="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0"/>
                            </p:stCondLst>
                            <p:childTnLst>
                              <p:par>
                                <p:cTn id="78" nodeType="afterEffect" fill="hold" presetClass="exit" presetID="55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1000"/>
                            </p:stCondLst>
                            <p:childTnLst>
                              <p:par>
                                <p:cTn id="91" nodeType="afterEffect" fill="hold" presetClass="exit" presetID="50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65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4" nodeType="afterEffect" fill="hold" presetClass="exit" presetID="6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4000"/>
                            </p:stCondLst>
                            <p:childTnLst>
                              <p:par>
                                <p:cTn id="1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6000"/>
                            </p:stCondLst>
                            <p:childTnLst>
                              <p:par>
                                <p:cTn id="112" nodeType="after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25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4500"/>
                            </p:stCondLst>
                            <p:childTnLst>
                              <p:par>
                                <p:cTn id="120" nodeType="afterEffect" fill="hold" presetClass="exit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9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1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75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8500"/>
                            </p:stCondLst>
                            <p:childTnLst>
                              <p:par>
                                <p:cTn id="138" nodeType="afterEffect" fill="hold" presetClass="exit" presetID="47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4500"/>
                            </p:stCondLst>
                            <p:childTnLst>
                              <p:par>
                                <p:cTn id="1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6500"/>
                            </p:stCondLst>
                            <p:childTnLst>
                              <p:par>
                                <p:cTn id="148" nodeType="afterEffect" fill="hold" presetClass="exit" presetID="50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3500"/>
                            </p:stCondLst>
                            <p:childTnLst>
                              <p:par>
                                <p:cTn id="158" nodeType="afterEffect" fill="hold" presetClass="exit" presetID="21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95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презентации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pedsovet.su/load/397-1-0-357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1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mp3ostrov.com/?string=%D0%BC%D0%B0%D1%80%D1%88%20%D1%81%D0%BB%D0%B0%D0%B2%D1%8F%D0%BD%D0%BA%D0%B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2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stalingrad-info.com/338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cp12.nevsepic.com.ua/61/1353760575-0474309-www.nevsepic.com.ua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stihi.ru/pics/2012/05/06/2264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900igr.net/datas/istorija/Fashizm-v-Italii/0001-001-Ideologija-italjanskogo-i-germanskogo-fashizma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smartnews.ru/storage/c/2013/06/21/1371822246_739816_27.jpe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f-picture.net/lfp/s49.radikal.ru/i125/1104/34/0c468f046b2d.png/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festival.1september.ru/articles/584966/presentation/44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derzava.ru/foto/genocyd/g4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img-fotki.yandex.ru/get/9111/225044291.1/0_ba65c_e2b8d616_XX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oficery.ru/sites/default/files/news/2011/09/33f9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pravpiter.ru/pspb/n200/images/10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ok.ya1.ru/uploads/posts/2008-06/1214205687_0000967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7.hidemyass.com/ip-1/encoded/Oi8vd3d3Lmthc3Bhcm92LnJ1L2NvbnRlbnQvbWF0ZXJpYWxzLzIwMTUwMi81NEQyMUVCM0JGN0FELmpwZw%3D%3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5fan.ru/files/2/5fan_ru_12479_2e5910a1853a6c60b8443e3e74c3a26a.html_files/20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286000" y="2690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нтернет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-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источники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voenhronika.ru/publ/vtoraja_mirovaja_voj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ivanpobeda.com/post12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surik.net/suvorov.html?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www.wwalls.ru/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DYA</cp:lastModifiedBy>
  <dcterms:modified xsi:type="dcterms:W3CDTF">2015-05-07T19:02:15Z</dcterms:modified>
  <cp:revision>18</cp:revision>
  <dc:subject/>
  <dc:title>Слайд 1</dc:title>
</cp:coreProperties>
</file>