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CEB-6C25-47D6-AC32-DC8CC217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5E4-7A03-4A95-B231-47763571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B32-AEEE-4420-945F-C0F5890C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DCA-3C7D-4F31-BFC3-82FC2466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C6D-BC48-4C05-B900-6837178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A79-7442-4F66-B1DB-8050714D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F14-C5BD-4579-B9CF-1A514EC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199-60E1-45E4-91F0-D7DB0A98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D4B-0CC3-43A9-BB5A-A7E3F233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453-98B6-45E7-BDCD-5BB5239E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2C9-B980-48FE-9CD7-937D1DAD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1AB-058B-48C6-B485-6FB3FFE9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824C-14CA-4B8F-A050-03C6C38EF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edsovet.su/load/397-1-0-35730" TargetMode="External"/><Relationship Id="rId2" Type="http://schemas.openxmlformats.org/officeDocument/2006/relationships/hyperlink" Target="http://mp3ostrov.com/?string=&#1084;&#1072;&#1088;&#1096;%20&#1089;&#1083;&#1072;&#1074;&#1103;&#1085;&#1082;&#1080;" TargetMode="External"/><Relationship Id="rId3" Type="http://schemas.openxmlformats.org/officeDocument/2006/relationships/hyperlink" Target="http://www.stalingrad-info.com/338.JPG" TargetMode="External"/><Relationship Id="rId4" Type="http://schemas.openxmlformats.org/officeDocument/2006/relationships/hyperlink" Target="http://cp12.nevsepic.com.ua/61/1353760575-0474309-www.nevsepic.com.ua.jpg" TargetMode="External"/><Relationship Id="rId5" Type="http://schemas.openxmlformats.org/officeDocument/2006/relationships/hyperlink" Target="http://www.stihi.ru/pics/2012/05/06/2264.jpg" TargetMode="External"/><Relationship Id="rId6" Type="http://schemas.openxmlformats.org/officeDocument/2006/relationships/hyperlink" Target="http://900igr.net/datas/istorija/Fashizm-v-Italii/0001-001-Ideologija-italjanskogo-i-germanskogo-fashizma.jpg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artnews.ru/storage/c/2013/06/21/1371822246_739816_27.jpeg" TargetMode="External"/><Relationship Id="rId2" Type="http://schemas.openxmlformats.org/officeDocument/2006/relationships/hyperlink" Target="http://f-picture.net/lfp/s49.radikal.ru/i125/1104/34/0c468f046b2d.png/htm" TargetMode="External"/><Relationship Id="rId3" Type="http://schemas.openxmlformats.org/officeDocument/2006/relationships/hyperlink" Target="http://festival.1september.ru/articles/584966/presentation/44.JPG" TargetMode="External"/><Relationship Id="rId4" Type="http://schemas.openxmlformats.org/officeDocument/2006/relationships/hyperlink" Target="http://www.derzava.ru/foto/genocyd/g4.jpg" TargetMode="External"/><Relationship Id="rId5" Type="http://schemas.openxmlformats.org/officeDocument/2006/relationships/hyperlink" Target="http://img-fotki.yandex.ru/get/9111/225044291.1/0_ba65c_e2b8d616_XXL.jpg" TargetMode="External"/><Relationship Id="rId6" Type="http://schemas.openxmlformats.org/officeDocument/2006/relationships/hyperlink" Target="http://oficery.ru/sites/default/files/news/2011/09/33f9.jpg" TargetMode="External"/><Relationship Id="rId7" Type="http://schemas.openxmlformats.org/officeDocument/2006/relationships/hyperlink" Target="http://www.pravpiter.ru/pspb/n200/images/10.jpg" TargetMode="External"/><Relationship Id="rId8" Type="http://schemas.openxmlformats.org/officeDocument/2006/relationships/hyperlink" Target="http://ok.ya1.ru/uploads/posts/2008-06/1214205687_00009676.jpg" TargetMode="External"/><Relationship Id="rId9" Type="http://schemas.openxmlformats.org/officeDocument/2006/relationships/hyperlink" Target="http://7.hidemyass.com/ip-1/encoded/Oi8vd3d3Lmthc3Bhcm92LnJ1L2NvbnRlbnQvbWF0ZXJpYWxzLzIwMTUwMi81NEQyMUVCM0JGN0FELmpwZw%3D%3D" TargetMode="External"/><Relationship Id="rId10" Type="http://schemas.openxmlformats.org/officeDocument/2006/relationships/hyperlink" Target="http://5fan.ru/files/2/5fan_ru_12479_2e5910a1853a6c60b8443e3e74c3a26a.html_files/20.jpg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oenhronika.ru/publ/vtoraja_mirovaja_vojna" TargetMode="External"/><Relationship Id="rId2" Type="http://schemas.openxmlformats.org/officeDocument/2006/relationships/hyperlink" Target="http://voenhronika.ru/publ/vtoraja_mirovaja_vojna" TargetMode="External"/><Relationship Id="rId3" Type="http://schemas.openxmlformats.org/officeDocument/2006/relationships/hyperlink" Target="http://voenhronika.ru/publ/vtoraja_mirovaja_vojna" TargetMode="External"/><Relationship Id="rId4" Type="http://schemas.openxmlformats.org/officeDocument/2006/relationships/hyperlink" Target="http://voenhronika.ru/publ/vtoraja_mirovaja_vojna" TargetMode="External"/><Relationship Id="rId5" Type="http://schemas.openxmlformats.org/officeDocument/2006/relationships/hyperlink" Target="http://voenhronika.ru/publ/vtoraja_mirovaja_vojna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Военные Марши - Прощание Славянки - wap.kengu.ru (mp3ostrov.com).mp3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34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JIVI LENINGRAD.mp3" descr=""/>
          <p:cNvPicPr/>
          <p:nvPr/>
        </p:nvPicPr>
        <p:blipFill>
          <a:blip r:embed="rId1"/>
          <a:stretch/>
        </p:blipFill>
        <p:spPr>
          <a:xfrm>
            <a:off x="7596360" y="645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Великая Отечественная Война 41-45г. Фото наших пользователейФотоальбом - Информационно-развлекательный портал р.п. Костюковка"/>
          <p:cNvPicPr/>
          <p:nvPr/>
        </p:nvPicPr>
        <p:blipFill>
          <a:blip r:embed="rId2"/>
          <a:srcRect l="0" t="8531" r="0" b="7733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Проходной балл 2014 война 41-45 годы картинки в городе Поступаем вместе!"/>
          <p:cNvPicPr/>
          <p:nvPr/>
        </p:nvPicPr>
        <p:blipFill>
          <a:blip r:embed="rId3"/>
          <a:stretch/>
        </p:blipFill>
        <p:spPr>
          <a:xfrm>
            <a:off x="0" y="0"/>
            <a:ext cx="93312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Заседание организации &quot;Дети войны&quot; / новости &quot;Про-Троицк&quot;"/>
          <p:cNvPicPr/>
          <p:nvPr/>
        </p:nvPicPr>
        <p:blipFill>
          <a:blip r:embed="rId4"/>
          <a:srcRect l="0" t="2434" r="0" b="1375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КПРФ и Российское общество Коммунист Калуги"/>
          <p:cNvPicPr/>
          <p:nvPr/>
        </p:nvPicPr>
        <p:blipFill>
          <a:blip r:embed="rId5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Библиотека изображений &quot;РИА Новости&quot; :: Фото :: Историческое :: 1940-е"/>
          <p:cNvPicPr/>
          <p:nvPr/>
        </p:nvPicPr>
        <p:blipFill>
          <a:blip r:embed="rId6"/>
          <a:stretch/>
        </p:blipFill>
        <p:spPr>
          <a:xfrm>
            <a:off x="0" y="0"/>
            <a:ext cx="939636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1943 Дорога Дети Мирный Житель - фото Военный альбом 1939, 1940, 1941-1945"/>
          <p:cNvPicPr/>
          <p:nvPr/>
        </p:nvPicPr>
        <p:blipFill>
          <a:blip r:embed="rId7"/>
          <a:stretch/>
        </p:blipFill>
        <p:spPr>
          <a:xfrm>
            <a:off x="0" y="0"/>
            <a:ext cx="9396360" cy="686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Газета.Ru - ФОТОРЕПОРТАЖ"/>
          <p:cNvPicPr/>
          <p:nvPr/>
        </p:nvPicPr>
        <p:blipFill>
          <a:blip r:embed="rId8"/>
          <a:stretch/>
        </p:blipFill>
        <p:spPr>
          <a:xfrm>
            <a:off x="0" y="0"/>
            <a:ext cx="9364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RU MVO"/>
          <p:cNvPicPr/>
          <p:nvPr/>
        </p:nvPicPr>
        <p:blipFill>
          <a:blip r:embed="rId9"/>
          <a:srcRect l="0" t="0" r="0" b="2904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На Берлин! * Просмотр темы - Военные фотографии"/>
          <p:cNvPicPr/>
          <p:nvPr/>
        </p:nvPicPr>
        <p:blipFill>
          <a:blip r:embed="rId10"/>
          <a:srcRect l="5669" t="5039" r="4554" b="4239"/>
          <a:stretch/>
        </p:blipFill>
        <p:spPr>
          <a:xfrm>
            <a:off x="468360" y="404640"/>
            <a:ext cx="8675640" cy="62215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" name="Picture 22" descr="В Санкт-Петербурге вспоминают войну: 70 лет назад началась блокада Ленинграда ОФИЦЕРЫ РОССИИ"/>
          <p:cNvPicPr/>
          <p:nvPr/>
        </p:nvPicPr>
        <p:blipFill>
          <a:blip r:embed="rId11"/>
          <a:stretch/>
        </p:blipFill>
        <p:spPr>
          <a:xfrm>
            <a:off x="0" y="0"/>
            <a:ext cx="9612360" cy="697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Блокада ленинграда доклад скачать - Город-герой ленинград"/>
          <p:cNvPicPr/>
          <p:nvPr/>
        </p:nvPicPr>
        <p:blipFill>
          <a:blip r:embed="rId12"/>
          <a:stretch/>
        </p:blipFill>
        <p:spPr>
          <a:xfrm>
            <a:off x="0" y="0"/>
            <a:ext cx="9659880" cy="702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Дети блокадного Ленинграда - Город.томск.ру"/>
          <p:cNvPicPr/>
          <p:nvPr/>
        </p:nvPicPr>
        <p:blipFill>
          <a:blip r:embed="rId13"/>
          <a:srcRect l="0" t="0" r="0" b="2879"/>
          <a:stretch/>
        </p:blipFill>
        <p:spPr>
          <a:xfrm>
            <a:off x="0" y="0"/>
            <a:ext cx="968544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В петербургском отделе полиции умерла блокадница, укравшая в магазине три пачки масла Общество Новости Каспаров.Ru"/>
          <p:cNvPicPr/>
          <p:nvPr/>
        </p:nvPicPr>
        <p:blipFill>
          <a:blip r:embed="rId14"/>
          <a:srcRect l="0" t="0" r="0" b="7722"/>
          <a:stretch/>
        </p:blipFill>
        <p:spPr>
          <a:xfrm>
            <a:off x="0" y="0"/>
            <a:ext cx="9740880" cy="702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Житель блокадного Ленинграда недоволен, что Германия компенсирует ущерб только евреям / 08.09.09 / Общество / РИА &quot;Новый День -"/>
          <p:cNvPicPr/>
          <p:nvPr/>
        </p:nvPicPr>
        <p:blipFill>
          <a:blip r:embed="rId15"/>
          <a:stretch/>
        </p:blipFill>
        <p:spPr>
          <a:xfrm>
            <a:off x="0" y="0"/>
            <a:ext cx="9685440" cy="726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Санкт-Петербург (с 18 (31) августа 1914 по 26 января 1924 Петроград; с 26 января 1924 по 6 сентября 1991 Ленинград) город федера"/>
          <p:cNvPicPr/>
          <p:nvPr/>
        </p:nvPicPr>
        <p:blipFill>
          <a:blip r:embed="rId16"/>
          <a:stretch/>
        </p:blipFill>
        <p:spPr>
          <a:xfrm>
            <a:off x="0" y="0"/>
            <a:ext cx="9685440" cy="724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4" descr="Пискаревское мемориальное кладбище - pepelnaya - Photo.Qip.ru / id: val"/>
          <p:cNvPicPr/>
          <p:nvPr/>
        </p:nvPicPr>
        <p:blipFill>
          <a:blip r:embed="rId17"/>
          <a:stretch/>
        </p:blipFill>
        <p:spPr>
          <a:xfrm>
            <a:off x="0" y="0"/>
            <a:ext cx="975672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" nodeType="afterEffect" fill="hold" presetClass="exit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75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7" nodeType="afterEffect" fill="hold" presetClass="exit" presetID="5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6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67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0"/>
                            </p:stCondLst>
                            <p:childTnLst>
                              <p:par>
                                <p:cTn id="78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1000"/>
                            </p:stCondLst>
                            <p:childTnLst>
                              <p:par>
                                <p:cTn id="91" nodeType="afterEffect" fill="hold" presetClass="exit" presetID="5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6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4" nodeType="afterEffect" fill="hold" presetClass="exit" presetID="6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6000"/>
                            </p:stCondLst>
                            <p:childTnLst>
                              <p:par>
                                <p:cTn id="112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2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4500"/>
                            </p:stCondLst>
                            <p:childTnLst>
                              <p:par>
                                <p:cTn id="120" nodeType="afterEffect" fill="hold" presetClass="exit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9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1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75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8500"/>
                            </p:stCondLst>
                            <p:childTnLst>
                              <p:par>
                                <p:cTn id="138" nodeType="afterEffect" fill="hold" presetClass="exit" presetID="47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45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6500"/>
                            </p:stCondLst>
                            <p:childTnLst>
                              <p:par>
                                <p:cTn id="148" nodeType="afterEffect" fill="hold" presetClass="exit" presetID="5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3500"/>
                            </p:stCondLst>
                            <p:childTnLst>
                              <p:par>
                                <p:cTn id="158" nodeType="afterEffect" fill="hold" presetClass="exit" presetID="21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9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презентаци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pedsovet.su/load/397-1-0-357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mp3ostrov.com/?string=%D0%BC%D0%B0%D1%80%D1%88%20%D1%81%D0%BB%D0%B0%D0%B2%D1%8F%D0%BD%D0%BA%D0%B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stalingrad-info.com/338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cp12.nevsepic.com.ua/61/1353760575-0474309-www.nevsepic.com.u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stihi.ru/pics/2012/05/06/226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900igr.net/datas/istorija/Fashizm-v-Italii/0001-001-Ideologija-italjanskogo-i-germanskogo-fashizm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smartnews.ru/storage/c/2013/06/21/1371822246_739816_27.jp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f-picture.net/lfp/s49.radikal.ru/i125/1104/34/0c468f046b2d.png/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estival.1september.ru/articles/584966/presentation/4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derzava.ru/foto/genocyd/g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img-fotki.yandex.ru/get/9111/225044291.1/0_ba65c_e2b8d616_XX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oficery.ru/sites/default/files/news/2011/09/33f9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pravpiter.ru/pspb/n200/images/1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ok.ya1.ru/uploads/posts/2008-06/1214205687_0000967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7.hidemyass.com/ip-1/encoded/Oi8vd3d3Lmthc3Bhcm92LnJ1L2NvbnRlbnQvbWF0ZXJpYWxzLzIwMTUwMi81NEQyMUVCM0JGN0FELmpwZw%3D%3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5fan.ru/files/2/5fan_ru_12479_2e5910a1853a6c60b8443e3e74c3a26a.html_files/2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нтернет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-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источники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voenhronika.ru/publ/vtoraja_mirovaja_vo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ivanpobeda.com/post1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surik.net/suvorov.html?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wwalls.ru/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DYA</cp:lastModifiedBy>
  <dcterms:modified xsi:type="dcterms:W3CDTF">2015-05-07T19:02:15Z</dcterms:modified>
  <cp:revision>18</cp:revision>
  <dc:subject/>
  <dc:title>Слайд 1</dc:title>
</cp:coreProperties>
</file>