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18.png" ContentType="image/png"/>
  <Override PartName="/ppt/media/image58.png" ContentType="image/png"/>
  <Override PartName="/ppt/media/image51.jpeg" ContentType="image/jpeg"/>
  <Override PartName="/ppt/media/image28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35.jpeg" ContentType="image/jpeg"/>
  <Override PartName="/ppt/media/image1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22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3.jpeg" ContentType="image/jpeg"/>
  <Override PartName="/ppt/media/image45.jpeg" ContentType="image/jpeg"/>
  <Override PartName="/ppt/media/image4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6BC4-4185-4B8A-B644-9952336F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1173-4243-463A-BA95-E4610450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D7C9-08E9-4BD4-8E67-E935C39F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6995-FC8E-4D98-BBAA-65DD63BA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3731-6DAD-4284-A858-ADD35C33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E8C0-E761-40E9-A1F8-98F1AB8A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8133-6932-4A68-8086-04721240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2EE2-28A4-453B-B081-5520D88A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C194-B9CD-45CB-96DA-77D60497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72BC-4AF6-4A06-8169-4545ED05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193F-2FD0-47B4-B86B-A61B3BC2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2C69-D8F6-4C63-A196-86F64A64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B662-591E-41E0-B74F-20ECE43F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D016-6B05-4D23-9523-BE697902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05AA-7C3E-4759-9CFF-355BB14C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B148-49EC-44C8-95F6-E0678956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8D69-D00E-416D-83CB-DC81305F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3591-54B6-4CD9-B842-CB1434A8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4C2-B938-4F70-81DC-71CC8645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9380-4A1F-41C5-86D1-CC7C4530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B10-A2A8-4027-92D7-4AED88AD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184F-0E67-417D-95AA-2C7F703D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A779-E56B-4D7C-8BF7-43955D45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224F-78E1-41A8-89DD-35C465B8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DD6B-67BD-4B19-834C-3A5F32239AC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7804-483F-4413-B9BA-F681DE8FE9D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13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image" Target="../media/image34.jpeg"/><Relationship Id="rId13" Type="http://schemas.openxmlformats.org/officeDocument/2006/relationships/image" Target="../media/image35.jpeg"/><Relationship Id="rId14" Type="http://schemas.openxmlformats.org/officeDocument/2006/relationships/image" Target="../media/image36.jpeg"/><Relationship Id="rId15" Type="http://schemas.openxmlformats.org/officeDocument/2006/relationships/image" Target="../media/image37.jpeg"/><Relationship Id="rId16" Type="http://schemas.openxmlformats.org/officeDocument/2006/relationships/image" Target="../media/image24.jpe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401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2" descr="http://ohota-v-sibiri.ru/uploads/posts/2013-02/1361933657_zimniy-les-foto-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://planetadetstva.net/wp-content/uploads/2013/01/%D0%B7%D0%B0%D0%B9%D1%87%D0%B8%D0%BA-300x233.jpg"/>
          <p:cNvPicPr/>
          <p:nvPr/>
        </p:nvPicPr>
        <p:blipFill>
          <a:blip r:embed="rId2"/>
          <a:stretch/>
        </p:blipFill>
        <p:spPr>
          <a:xfrm>
            <a:off x="536400" y="365040"/>
            <a:ext cx="2232360" cy="1733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447840" y="2457360"/>
            <a:ext cx="2178000" cy="1633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ttp://wallpoper.com/images/00/38/23/78/animals-sweets_00382378.jpg"/>
          <p:cNvPicPr/>
          <p:nvPr/>
        </p:nvPicPr>
        <p:blipFill>
          <a:blip r:embed="rId4"/>
          <a:stretch/>
        </p:blipFill>
        <p:spPr>
          <a:xfrm>
            <a:off x="6521400" y="800280"/>
            <a:ext cx="2208240" cy="1657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http://hunt.web-3.ru/data/html/1660/volk999.jpg"/>
          <p:cNvPicPr/>
          <p:nvPr/>
        </p:nvPicPr>
        <p:blipFill>
          <a:blip r:embed="rId5"/>
          <a:stretch/>
        </p:blipFill>
        <p:spPr>
          <a:xfrm>
            <a:off x="395280" y="4498920"/>
            <a:ext cx="3144960" cy="2130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mobipics.net/uploads/photos/show/%5b59%5d_23_Dec_11_%5b60%5d_26_Dec_11/1064_lisa.jpg"/>
          <p:cNvPicPr/>
          <p:nvPr/>
        </p:nvPicPr>
        <p:blipFill>
          <a:blip r:embed="rId6"/>
          <a:stretch/>
        </p:blipFill>
        <p:spPr>
          <a:xfrm>
            <a:off x="3592440" y="333360"/>
            <a:ext cx="1959120" cy="2590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://www.x-top.org/images/prikol/2009/03/20/49c39af885ea4.jpg"/>
          <p:cNvPicPr/>
          <p:nvPr/>
        </p:nvPicPr>
        <p:blipFill>
          <a:blip r:embed="rId7"/>
          <a:stretch/>
        </p:blipFill>
        <p:spPr>
          <a:xfrm>
            <a:off x="5551560" y="4454640"/>
            <a:ext cx="3279600" cy="2174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http://ic.pics.livejournal.com/solomatin_o_v/51026763/84412/84412_900.jpg"/>
          <p:cNvPicPr/>
          <p:nvPr/>
        </p:nvPicPr>
        <p:blipFill>
          <a:blip r:embed="rId8"/>
          <a:stretch/>
        </p:blipFill>
        <p:spPr>
          <a:xfrm>
            <a:off x="3049560" y="2509920"/>
            <a:ext cx="304488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46040" y="1528560"/>
            <a:ext cx="822960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2" descr="http://molbuk.ua/uploads/posts/2013-01/1357831236_284351.jpg"/>
          <p:cNvPicPr/>
          <p:nvPr/>
        </p:nvPicPr>
        <p:blipFill>
          <a:blip r:embed="rId1"/>
          <a:stretch/>
        </p:blipFill>
        <p:spPr>
          <a:xfrm>
            <a:off x="6189840" y="316080"/>
            <a:ext cx="2592360" cy="1944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ttp://os1.i.ua/1/101/552241.jpg"/>
          <p:cNvPicPr/>
          <p:nvPr/>
        </p:nvPicPr>
        <p:blipFill>
          <a:blip r:embed="rId2"/>
          <a:stretch/>
        </p:blipFill>
        <p:spPr>
          <a:xfrm>
            <a:off x="6192720" y="230040"/>
            <a:ext cx="1320840" cy="2114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http://s4.badfon.ru/wallpaper/previews/88026-w.jpg"/>
          <p:cNvPicPr/>
          <p:nvPr/>
        </p:nvPicPr>
        <p:blipFill>
          <a:blip r:embed="rId3"/>
          <a:stretch/>
        </p:blipFill>
        <p:spPr>
          <a:xfrm>
            <a:off x="250920" y="379440"/>
            <a:ext cx="3046320" cy="1913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http://os1.i.ua/1/101/552241.jpg"/>
          <p:cNvPicPr/>
          <p:nvPr/>
        </p:nvPicPr>
        <p:blipFill>
          <a:blip r:embed="rId4"/>
          <a:stretch/>
        </p:blipFill>
        <p:spPr>
          <a:xfrm>
            <a:off x="228600" y="353880"/>
            <a:ext cx="1676520" cy="2109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http://www.tione.ru/_ph/8/192891905.jpg"/>
          <p:cNvPicPr/>
          <p:nvPr/>
        </p:nvPicPr>
        <p:blipFill>
          <a:blip r:embed="rId5"/>
          <a:stretch/>
        </p:blipFill>
        <p:spPr>
          <a:xfrm>
            <a:off x="6300720" y="4616280"/>
            <a:ext cx="2508480" cy="2008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http://os1.i.ua/1/101/552241.jpg"/>
          <p:cNvPicPr/>
          <p:nvPr/>
        </p:nvPicPr>
        <p:blipFill>
          <a:blip r:embed="rId6"/>
          <a:stretch/>
        </p:blipFill>
        <p:spPr>
          <a:xfrm>
            <a:off x="7373880" y="4373640"/>
            <a:ext cx="1467000" cy="2349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ttp://www.susun.ru/img/6d8d987b29d107c1a9953fc5f05.jpg"/>
          <p:cNvPicPr/>
          <p:nvPr/>
        </p:nvPicPr>
        <p:blipFill>
          <a:blip r:embed="rId7"/>
          <a:stretch/>
        </p:blipFill>
        <p:spPr>
          <a:xfrm>
            <a:off x="223920" y="4662360"/>
            <a:ext cx="2832120" cy="1917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http://os1.i.ua/1/101/552241.jpg"/>
          <p:cNvPicPr/>
          <p:nvPr/>
        </p:nvPicPr>
        <p:blipFill>
          <a:blip r:embed="rId8"/>
          <a:stretch/>
        </p:blipFill>
        <p:spPr>
          <a:xfrm>
            <a:off x="1639800" y="4359240"/>
            <a:ext cx="1416240" cy="2265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ttp://900igr.net/datai/zhivotnye/Zajats.files/0012-013-Otgadaj-zagadku.jpg"/>
          <p:cNvPicPr/>
          <p:nvPr/>
        </p:nvPicPr>
        <p:blipFill>
          <a:blip r:embed="rId9"/>
          <a:stretch/>
        </p:blipFill>
        <p:spPr>
          <a:xfrm>
            <a:off x="3219480" y="439560"/>
            <a:ext cx="2692440" cy="209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http://os1.i.ua/1/101/552241.jpg"/>
          <p:cNvPicPr/>
          <p:nvPr/>
        </p:nvPicPr>
        <p:blipFill>
          <a:blip r:embed="rId10"/>
          <a:stretch/>
        </p:blipFill>
        <p:spPr>
          <a:xfrm>
            <a:off x="3325680" y="166680"/>
            <a:ext cx="1460520" cy="2338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http://xn--b1agnbsccto4b.xn--p1ai/bank/poleznaya_info/losj.jpg"/>
          <p:cNvPicPr/>
          <p:nvPr/>
        </p:nvPicPr>
        <p:blipFill>
          <a:blip r:embed="rId11"/>
          <a:stretch/>
        </p:blipFill>
        <p:spPr>
          <a:xfrm>
            <a:off x="3357720" y="4884840"/>
            <a:ext cx="2381040" cy="1790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os1.i.ua/1/101/552241.jpg"/>
          <p:cNvPicPr/>
          <p:nvPr/>
        </p:nvPicPr>
        <p:blipFill>
          <a:blip r:embed="rId12"/>
          <a:stretch/>
        </p:blipFill>
        <p:spPr>
          <a:xfrm>
            <a:off x="4548240" y="4592520"/>
            <a:ext cx="1342800" cy="2152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http://www.uniport.pro/user/1058/blogs/105880203.png"/>
          <p:cNvPicPr/>
          <p:nvPr/>
        </p:nvPicPr>
        <p:blipFill>
          <a:blip r:embed="rId13"/>
          <a:stretch/>
        </p:blipFill>
        <p:spPr>
          <a:xfrm>
            <a:off x="2395440" y="2652840"/>
            <a:ext cx="2644920" cy="1995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http://os1.i.ua/1/101/552241.jpg"/>
          <p:cNvPicPr/>
          <p:nvPr/>
        </p:nvPicPr>
        <p:blipFill>
          <a:blip r:embed="rId14"/>
          <a:stretch/>
        </p:blipFill>
        <p:spPr>
          <a:xfrm>
            <a:off x="2395440" y="2344680"/>
            <a:ext cx="1528920" cy="2451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http://brio.users.photofile.ru/photo/brio/4165292/101434244.jpg"/>
          <p:cNvPicPr/>
          <p:nvPr/>
        </p:nvPicPr>
        <p:blipFill>
          <a:blip r:embed="rId15"/>
          <a:stretch/>
        </p:blipFill>
        <p:spPr>
          <a:xfrm>
            <a:off x="5678640" y="2575080"/>
            <a:ext cx="2754000" cy="1834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http://os1.i.ua/1/101/552241.jpg"/>
          <p:cNvPicPr/>
          <p:nvPr/>
        </p:nvPicPr>
        <p:blipFill>
          <a:blip r:embed="rId16"/>
          <a:stretch/>
        </p:blipFill>
        <p:spPr>
          <a:xfrm>
            <a:off x="5769000" y="2374920"/>
            <a:ext cx="13208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4" descr="http://club.season.ru/uploads/post/65/404/post-65-1197545404_thumb.jpg"/>
          <p:cNvPicPr/>
          <p:nvPr/>
        </p:nvPicPr>
        <p:blipFill>
          <a:blip r:embed="rId1"/>
          <a:stretch/>
        </p:blipFill>
        <p:spPr>
          <a:xfrm>
            <a:off x="6780240" y="333360"/>
            <a:ext cx="1660320" cy="2577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http://900igr.net/datai/okruzhajuschij-mir/Domashnie-i-dikie/0011-021-Linka.jpg"/>
          <p:cNvPicPr/>
          <p:nvPr/>
        </p:nvPicPr>
        <p:blipFill>
          <a:blip r:embed="rId2"/>
          <a:stretch/>
        </p:blipFill>
        <p:spPr>
          <a:xfrm>
            <a:off x="395280" y="3987720"/>
            <a:ext cx="1903320" cy="2303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http://900igr.net/datai/zhivotnye/Zajats.files/0012-013-Otgadaj-zagadku.jpg"/>
          <p:cNvPicPr/>
          <p:nvPr/>
        </p:nvPicPr>
        <p:blipFill>
          <a:blip r:embed="rId3"/>
          <a:stretch/>
        </p:blipFill>
        <p:spPr>
          <a:xfrm>
            <a:off x="3492360" y="1468440"/>
            <a:ext cx="3067200" cy="1195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http://s00.yaplakal.com/pics/pics_original/5/2/4/1187425.jpg"/>
          <p:cNvPicPr/>
          <p:nvPr/>
        </p:nvPicPr>
        <p:blipFill>
          <a:blip r:embed="rId4"/>
          <a:stretch/>
        </p:blipFill>
        <p:spPr>
          <a:xfrm>
            <a:off x="6583320" y="3352680"/>
            <a:ext cx="1963800" cy="3210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http://ic.pics.livejournal.com/solomatin_o_v/51026763/84412/84412_900.jpg"/>
          <p:cNvPicPr/>
          <p:nvPr/>
        </p:nvPicPr>
        <p:blipFill>
          <a:blip r:embed="rId5"/>
          <a:stretch/>
        </p:blipFill>
        <p:spPr>
          <a:xfrm>
            <a:off x="2898720" y="3357720"/>
            <a:ext cx="3360960" cy="2241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http://fotki.ykt.ru/albums/userpics/15649/42_medved.jpg"/>
          <p:cNvPicPr/>
          <p:nvPr/>
        </p:nvPicPr>
        <p:blipFill>
          <a:blip r:embed="rId6"/>
          <a:stretch/>
        </p:blipFill>
        <p:spPr>
          <a:xfrm>
            <a:off x="376200" y="539640"/>
            <a:ext cx="28576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1" descr=""/>
          <p:cNvPicPr/>
          <p:nvPr/>
        </p:nvPicPr>
        <p:blipFill>
          <a:blip r:embed="rId1"/>
          <a:stretch/>
        </p:blipFill>
        <p:spPr>
          <a:xfrm>
            <a:off x="438120" y="12600"/>
            <a:ext cx="8229600" cy="2005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2" descr="http://img0.liveinternet.ru/images/attach/c/2/72/623/72623668_1301147994_00116c1w.jpg"/>
          <p:cNvPicPr/>
          <p:nvPr/>
        </p:nvPicPr>
        <p:blipFill>
          <a:blip r:embed="rId2"/>
          <a:stretch/>
        </p:blipFill>
        <p:spPr>
          <a:xfrm>
            <a:off x="2268360" y="3141720"/>
            <a:ext cx="4569120" cy="3171600"/>
          </a:xfrm>
          <a:prstGeom prst="rect">
            <a:avLst/>
          </a:prstGeom>
          <a:ln w="0">
            <a:noFill/>
          </a:ln>
        </p:spPr>
      </p:pic>
      <p:cxnSp>
        <p:nvCxnSpPr>
          <p:cNvPr id="152" name="Прямая со стрелкой 5"/>
          <p:cNvCxnSpPr/>
          <p:nvPr/>
        </p:nvCxnSpPr>
        <p:spPr>
          <a:xfrm>
            <a:off x="2700360" y="1413000"/>
            <a:ext cx="792720" cy="1729440"/>
          </a:xfrm>
          <a:prstGeom prst="straightConnector1">
            <a:avLst/>
          </a:prstGeom>
          <a:ln w="9360">
            <a:solidFill>
              <a:srgbClr val="325b8c"/>
            </a:solidFill>
            <a:miter/>
            <a:tailEnd len="med" type="arrow" w="med"/>
          </a:ln>
        </p:spPr>
      </p:cxnSp>
      <p:sp>
        <p:nvSpPr>
          <p:cNvPr id="153" name="Стрелка вправо 6"/>
          <p:cNvSpPr/>
          <p:nvPr/>
        </p:nvSpPr>
        <p:spPr>
          <a:xfrm rot="3716400">
            <a:off x="2128320" y="1992240"/>
            <a:ext cx="1834920" cy="46044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Стрелка вправо 7"/>
          <p:cNvSpPr/>
          <p:nvPr/>
        </p:nvSpPr>
        <p:spPr>
          <a:xfrm rot="5206800">
            <a:off x="3609720" y="1991880"/>
            <a:ext cx="1834920" cy="46044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Стрелка вправо 9"/>
          <p:cNvSpPr/>
          <p:nvPr/>
        </p:nvSpPr>
        <p:spPr>
          <a:xfrm rot="6465000">
            <a:off x="5039640" y="1981080"/>
            <a:ext cx="1835280" cy="4604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1"/>
          <a:stretch/>
        </p:blipFill>
        <p:spPr>
          <a:xfrm>
            <a:off x="457200" y="36360"/>
            <a:ext cx="8229600" cy="20116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2" descr="http://www.tio.by/uploads/tinymce_images/blog-plyt/vileischina/ed68b4def6e0cc3c603e910f5c69ebf1.jpg"/>
          <p:cNvPicPr/>
          <p:nvPr/>
        </p:nvPicPr>
        <p:blipFill>
          <a:blip r:embed="rId2"/>
          <a:stretch/>
        </p:blipFill>
        <p:spPr>
          <a:xfrm>
            <a:off x="2073240" y="3084480"/>
            <a:ext cx="5106960" cy="3243240"/>
          </a:xfrm>
          <a:prstGeom prst="rect">
            <a:avLst/>
          </a:prstGeom>
          <a:ln w="0">
            <a:noFill/>
          </a:ln>
        </p:spPr>
      </p:pic>
      <p:sp>
        <p:nvSpPr>
          <p:cNvPr id="159" name="Стрелка вправо 4"/>
          <p:cNvSpPr/>
          <p:nvPr/>
        </p:nvSpPr>
        <p:spPr>
          <a:xfrm rot="3618000">
            <a:off x="2167200" y="1959840"/>
            <a:ext cx="1924200" cy="5540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Стрелка вправо 5"/>
          <p:cNvSpPr/>
          <p:nvPr/>
        </p:nvSpPr>
        <p:spPr>
          <a:xfrm rot="5400000">
            <a:off x="3777480" y="1958040"/>
            <a:ext cx="1697040" cy="55584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Стрелка вправо 6"/>
          <p:cNvSpPr/>
          <p:nvPr/>
        </p:nvSpPr>
        <p:spPr>
          <a:xfrm rot="6669600">
            <a:off x="5151960" y="1959840"/>
            <a:ext cx="1924200" cy="5540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2" descr="http://www.render.ru/gallery/show_image.php?work_id=12259&amp;num=1"/>
          <p:cNvPicPr/>
          <p:nvPr/>
        </p:nvPicPr>
        <p:blipFill>
          <a:blip r:embed="rId1"/>
          <a:stretch/>
        </p:blipFill>
        <p:spPr>
          <a:xfrm>
            <a:off x="539640" y="2349360"/>
            <a:ext cx="4973760" cy="3911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http://planetadetstva.net/wp-content/uploads/2013/01/%D0%B7%D0%B0%D0%B9%D1%87%D0%B8%D0%BA-300x233.jpg"/>
          <p:cNvPicPr/>
          <p:nvPr/>
        </p:nvPicPr>
        <p:blipFill>
          <a:blip r:embed="rId2"/>
          <a:stretch/>
        </p:blipFill>
        <p:spPr>
          <a:xfrm>
            <a:off x="4500720" y="189000"/>
            <a:ext cx="4635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2" descr="http://3.bp.blogspot.com/--MBLMRtY_D0/T_AWvQNhTOI/AAAAAAAAAFU/khwTAm9Zr4M/s1600/%25D1%2581%25D0%25B5%25D0%25BC%25D1%258C%25D1%258F.jpg"/>
          <p:cNvPicPr/>
          <p:nvPr/>
        </p:nvPicPr>
        <p:blipFill>
          <a:blip r:embed="rId1"/>
          <a:stretch/>
        </p:blipFill>
        <p:spPr>
          <a:xfrm>
            <a:off x="179280" y="2924280"/>
            <a:ext cx="5545080" cy="3690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http://oboxote.ru/wp-content/uploads/2011/10/0164.jpg"/>
          <p:cNvPicPr/>
          <p:nvPr/>
        </p:nvPicPr>
        <p:blipFill>
          <a:blip r:embed="rId2"/>
          <a:stretch/>
        </p:blipFill>
        <p:spPr>
          <a:xfrm>
            <a:off x="4608360" y="287280"/>
            <a:ext cx="427536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2" descr="http://www.xrest.ru/images/collection/01136/427/original.jpg"/>
          <p:cNvPicPr/>
          <p:nvPr/>
        </p:nvPicPr>
        <p:blipFill>
          <a:blip r:embed="rId1"/>
          <a:stretch/>
        </p:blipFill>
        <p:spPr>
          <a:xfrm>
            <a:off x="514440" y="549360"/>
            <a:ext cx="81770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10" descr="http://www.zooplandia.ru/upload/17939958/file/-/timthumb_(2).jpg"/>
          <p:cNvPicPr/>
          <p:nvPr/>
        </p:nvPicPr>
        <p:blipFill>
          <a:blip r:embed="rId1"/>
          <a:stretch/>
        </p:blipFill>
        <p:spPr>
          <a:xfrm>
            <a:off x="231840" y="380880"/>
            <a:ext cx="3740040" cy="2664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http://ecology-mef.narod.ru/park/losiniy1.jpg"/>
          <p:cNvPicPr/>
          <p:nvPr/>
        </p:nvPicPr>
        <p:blipFill>
          <a:blip r:embed="rId2"/>
          <a:stretch/>
        </p:blipFill>
        <p:spPr>
          <a:xfrm>
            <a:off x="4284720" y="493560"/>
            <a:ext cx="4297320" cy="2864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http://fedpress.ru/sites/fedpress/files/amorozova/news/image_0.jpeg"/>
          <p:cNvPicPr/>
          <p:nvPr/>
        </p:nvPicPr>
        <p:blipFill>
          <a:blip r:embed="rId3"/>
          <a:stretch/>
        </p:blipFill>
        <p:spPr>
          <a:xfrm>
            <a:off x="1908000" y="3322800"/>
            <a:ext cx="41277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4" descr="http://www.16x10.ru/_ph/4/2/53484357.jpg"/>
          <p:cNvPicPr/>
          <p:nvPr/>
        </p:nvPicPr>
        <p:blipFill>
          <a:blip r:embed="rId1"/>
          <a:stretch/>
        </p:blipFill>
        <p:spPr>
          <a:xfrm>
            <a:off x="395280" y="692280"/>
            <a:ext cx="8261280" cy="51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2" descr="http://planetadetstva.net/wp-content/uploads/2013/01/%D0%B7%D0%B0%D0%B9%D1%87%D0%B8%D0%BA-300x233.jpg"/>
          <p:cNvPicPr/>
          <p:nvPr/>
        </p:nvPicPr>
        <p:blipFill>
          <a:blip r:embed="rId1"/>
          <a:stretch/>
        </p:blipFill>
        <p:spPr>
          <a:xfrm>
            <a:off x="684360" y="301680"/>
            <a:ext cx="7775280" cy="60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4" descr="http://i.blog.fontanka.ru/photos/2012/06/800x600_uAAvpe5p3uTfCZLd2B5W.jpg"/>
          <p:cNvPicPr/>
          <p:nvPr/>
        </p:nvPicPr>
        <p:blipFill>
          <a:blip r:embed="rId1"/>
          <a:stretch/>
        </p:blipFill>
        <p:spPr>
          <a:xfrm>
            <a:off x="179280" y="1857240"/>
            <a:ext cx="6118200" cy="4587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http://zveridikie.ru/nasekom/ezhyk.jpg"/>
          <p:cNvPicPr/>
          <p:nvPr/>
        </p:nvPicPr>
        <p:blipFill>
          <a:blip r:embed="rId2"/>
          <a:stretch/>
        </p:blipFill>
        <p:spPr>
          <a:xfrm>
            <a:off x="4356000" y="404640"/>
            <a:ext cx="478800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Заголовок 1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1274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Жарким днем лесной троп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вери шли на водопо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 мамой-лосихой топал лосенок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 мамой- лисицей крался лисенок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 мамой-ежихой катился ежонок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 мамой-медведицей шел медвежонок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 мамою-белкой скакали бельчат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 мамой-зайчихой – косые зайчат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олчица вела за собою волча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се мамы и дети напиться хотя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16" descr="http://s47.radikal.ru/i116/1202/5e/4296b80e4711.jpg"/>
          <p:cNvPicPr/>
          <p:nvPr/>
        </p:nvPicPr>
        <p:blipFill>
          <a:blip r:embed="rId1"/>
          <a:stretch/>
        </p:blipFill>
        <p:spPr>
          <a:xfrm>
            <a:off x="522360" y="271440"/>
            <a:ext cx="3778200" cy="2622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http://f1.foto.rambler.ru/preview/r/668x442/4e9c369f-4d66-fe91-c61e-6f9195241718/%D0%92%D0%BE%D0%BB%D1%87%D1%8C%D0%B5_%D0%BB%D0%BE%D0%B3%D0%BE%D0%B2%D0%BE.jpg"/>
          <p:cNvPicPr/>
          <p:nvPr/>
        </p:nvPicPr>
        <p:blipFill>
          <a:blip r:embed="rId2"/>
          <a:stretch/>
        </p:blipFill>
        <p:spPr>
          <a:xfrm>
            <a:off x="4853160" y="353880"/>
            <a:ext cx="3838320" cy="25401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http://izans.ru/images/wallpapers/originals/_9/1011131100_1831205146.jpg"/>
          <p:cNvPicPr/>
          <p:nvPr/>
        </p:nvPicPr>
        <p:blipFill>
          <a:blip r:embed="rId3"/>
          <a:stretch/>
        </p:blipFill>
        <p:spPr>
          <a:xfrm>
            <a:off x="395280" y="3519360"/>
            <a:ext cx="3672000" cy="2905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http://planetadetstva.net/wp-content/uploads/2013/01/%D0%B7%D0%B0%D0%B9%D1%87%D0%B8%D0%BA-300x233.jpg"/>
          <p:cNvPicPr/>
          <p:nvPr/>
        </p:nvPicPr>
        <p:blipFill>
          <a:blip r:embed="rId4"/>
          <a:stretch/>
        </p:blipFill>
        <p:spPr>
          <a:xfrm>
            <a:off x="4716360" y="3381480"/>
            <a:ext cx="38768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2" descr="http://img1.liveinternet.ru/images/attach/c/2/67/612/67612010_0018.jpg"/>
          <p:cNvPicPr/>
          <p:nvPr/>
        </p:nvPicPr>
        <p:blipFill>
          <a:blip r:embed="rId1"/>
          <a:stretch/>
        </p:blipFill>
        <p:spPr>
          <a:xfrm>
            <a:off x="407880" y="260280"/>
            <a:ext cx="4811760" cy="4160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ttp://tim.ecobiocentre.ru/doroga/tim-otvety.files/image004.jpg"/>
          <p:cNvPicPr/>
          <p:nvPr/>
        </p:nvPicPr>
        <p:blipFill>
          <a:blip r:embed="rId2"/>
          <a:stretch/>
        </p:blipFill>
        <p:spPr>
          <a:xfrm>
            <a:off x="4700520" y="2533680"/>
            <a:ext cx="4137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4" descr="http://mobipics.net/uploads/photos/show/%5b59%5d_23_Dec_11_%5b60%5d_26_Dec_11/1064_lisa.jpg"/>
          <p:cNvPicPr/>
          <p:nvPr/>
        </p:nvPicPr>
        <p:blipFill>
          <a:blip r:embed="rId1"/>
          <a:stretch/>
        </p:blipFill>
        <p:spPr>
          <a:xfrm>
            <a:off x="1763640" y="9360"/>
            <a:ext cx="489744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2" descr="http://photonature.com.ua/wp-content/gallery/dikie-zhivotnye-2013/zima-na-nosu.jpg"/>
          <p:cNvPicPr/>
          <p:nvPr/>
        </p:nvPicPr>
        <p:blipFill>
          <a:blip r:embed="rId1"/>
          <a:stretch/>
        </p:blipFill>
        <p:spPr>
          <a:xfrm>
            <a:off x="344520" y="520560"/>
            <a:ext cx="8532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" descr="http://ravik.info/images/ravikinfo_volf_12.jpg"/>
          <p:cNvPicPr/>
          <p:nvPr/>
        </p:nvPicPr>
        <p:blipFill>
          <a:blip r:embed="rId1"/>
          <a:stretch/>
        </p:blipFill>
        <p:spPr>
          <a:xfrm>
            <a:off x="487440" y="235080"/>
            <a:ext cx="82072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2" descr="http://ic.pics.livejournal.com/solomatin_o_v/51026763/84412/84412_900.jpg"/>
          <p:cNvPicPr/>
          <p:nvPr/>
        </p:nvPicPr>
        <p:blipFill>
          <a:blip r:embed="rId1"/>
          <a:stretch/>
        </p:blipFill>
        <p:spPr>
          <a:xfrm>
            <a:off x="755640" y="115920"/>
            <a:ext cx="80978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http://pics.livejournal.com/grizzlynohead/pic/0001twqs"/>
          <p:cNvPicPr/>
          <p:nvPr/>
        </p:nvPicPr>
        <p:blipFill>
          <a:blip r:embed="rId1"/>
          <a:stretch/>
        </p:blipFill>
        <p:spPr>
          <a:xfrm>
            <a:off x="539640" y="692280"/>
            <a:ext cx="80470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2" descr="http://mywalls.ru/down/1024/673.jpg"/>
          <p:cNvPicPr/>
          <p:nvPr/>
        </p:nvPicPr>
        <p:blipFill>
          <a:blip r:embed="rId1"/>
          <a:stretch/>
        </p:blipFill>
        <p:spPr>
          <a:xfrm>
            <a:off x="468360" y="262080"/>
            <a:ext cx="8169120" cy="61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3840" y="22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2" descr="http://planetadetstva.net/wp-content/uploads/2013/01/%D0%B7%D0%B0%D0%B9%D1%87%D0%B8%D0%BA-300x233.jpg"/>
          <p:cNvPicPr/>
          <p:nvPr/>
        </p:nvPicPr>
        <p:blipFill>
          <a:blip r:embed="rId1"/>
          <a:stretch/>
        </p:blipFill>
        <p:spPr>
          <a:xfrm>
            <a:off x="393840" y="981000"/>
            <a:ext cx="2555640" cy="1982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3198960" y="297000"/>
            <a:ext cx="2644560" cy="1982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wallpoper.com/images/00/38/23/78/animals-sweets_00382378.jpg"/>
          <p:cNvPicPr/>
          <p:nvPr/>
        </p:nvPicPr>
        <p:blipFill>
          <a:blip r:embed="rId3"/>
          <a:stretch/>
        </p:blipFill>
        <p:spPr>
          <a:xfrm>
            <a:off x="6039000" y="981000"/>
            <a:ext cx="2668320" cy="2001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mobipics.net/uploads/photos/show/%5b59%5d_23_Dec_11_%5b60%5d_26_Dec_11/1064_lisa.jpg"/>
          <p:cNvPicPr/>
          <p:nvPr/>
        </p:nvPicPr>
        <p:blipFill>
          <a:blip r:embed="rId4"/>
          <a:stretch/>
        </p:blipFill>
        <p:spPr>
          <a:xfrm>
            <a:off x="3541680" y="2784600"/>
            <a:ext cx="1959120" cy="2590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http://hunt.web-3.ru/data/html/1660/volk999.jpg"/>
          <p:cNvPicPr/>
          <p:nvPr/>
        </p:nvPicPr>
        <p:blipFill>
          <a:blip r:embed="rId5"/>
          <a:stretch/>
        </p:blipFill>
        <p:spPr>
          <a:xfrm>
            <a:off x="276120" y="4111560"/>
            <a:ext cx="3143520" cy="2131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http://pics.livejournal.com/grizzlynohead/pic/0001twqs"/>
          <p:cNvPicPr/>
          <p:nvPr/>
        </p:nvPicPr>
        <p:blipFill>
          <a:blip r:embed="rId6"/>
          <a:stretch/>
        </p:blipFill>
        <p:spPr>
          <a:xfrm>
            <a:off x="5797440" y="3833640"/>
            <a:ext cx="314964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17:55:34Z</dcterms:created>
  <dc:creator>ДОМ</dc:creator>
  <dc:description/>
  <dc:language>en-US</dc:language>
  <cp:lastModifiedBy>ДОМ</cp:lastModifiedBy>
  <dcterms:modified xsi:type="dcterms:W3CDTF">2015-05-09T21:00:54Z</dcterms:modified>
  <cp:revision>23</cp:revision>
  <dc:subject/>
  <dc:title>Презентация PowerPoint</dc:title>
</cp:coreProperties>
</file>