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1F6-291C-410D-8F1E-5B7547F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36E-6D64-4A8F-ACE3-14F8E08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61E-D1D9-48C0-9D50-0BCED37B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F20-FFFC-44DB-B71F-9A3CA455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DBC-27A4-4C6F-BA7D-7D0955A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04F-A99D-4903-9647-E9FADC50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99D-148A-4A81-BA9E-4245F66C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7AE-1DDB-4E2A-82B4-90BA4926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5D8-2F12-4C15-A91C-9EBC79A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480-0007-4A19-97D3-05ADA3B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8B3-046C-49AA-9410-107F00E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386-88DA-446F-94E9-7BE5B5B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0288-808F-4CDA-88EB-94E4CDD9B43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95280" y="1676520"/>
            <a:ext cx="69343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ординат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с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3.bp.blogspot.com/-Y7LErRRKjsw/TbWsryirFLI/AAAAAAAAAJ0/kUDyy3PpEa4/s320/karbseseen1.png"/>
          <p:cNvPicPr/>
          <p:nvPr/>
        </p:nvPicPr>
        <p:blipFill>
          <a:blip r:embed="rId1"/>
          <a:stretch/>
        </p:blipFill>
        <p:spPr>
          <a:xfrm>
            <a:off x="380880" y="380880"/>
            <a:ext cx="86108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2.bp.blogspot.com/-28JOfOldLmA/TbWsqtfVycI/AAAAAAAAAJs/m97hAtY799A/s320/janes1.png"/>
          <p:cNvPicPr/>
          <p:nvPr/>
        </p:nvPicPr>
        <p:blipFill>
          <a:blip r:embed="rId1"/>
          <a:stretch/>
        </p:blipFill>
        <p:spPr>
          <a:xfrm>
            <a:off x="228600" y="522360"/>
            <a:ext cx="8686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18, 14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1692360" y="981000"/>
            <a:ext cx="5904000" cy="5832720"/>
            <a:chOff x="1692360" y="981000"/>
            <a:chExt cx="5904000" cy="5832720"/>
          </a:xfrm>
        </p:grpSpPr>
        <p:pic>
          <p:nvPicPr>
            <p:cNvPr id="43" name="Picture 3" descr="01020101"/>
            <p:cNvPicPr/>
            <p:nvPr/>
          </p:nvPicPr>
          <p:blipFill>
            <a:blip r:embed="rId1"/>
            <a:stretch/>
          </p:blipFill>
          <p:spPr>
            <a:xfrm>
              <a:off x="1692360" y="981000"/>
              <a:ext cx="5904000" cy="583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"/>
            <p:cNvGrpSpPr/>
            <p:nvPr/>
          </p:nvGrpSpPr>
          <p:grpSpPr>
            <a:xfrm>
              <a:off x="4286880" y="3228120"/>
              <a:ext cx="360360" cy="1360800"/>
              <a:chOff x="4286880" y="3228120"/>
              <a:chExt cx="360360" cy="1360800"/>
            </a:xfrm>
          </p:grpSpPr>
          <p:sp>
            <p:nvSpPr>
              <p:cNvPr id="45" name="Text Box 5"/>
              <p:cNvSpPr/>
              <p:nvPr/>
            </p:nvSpPr>
            <p:spPr>
              <a:xfrm>
                <a:off x="4337280" y="3228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Text Box 6"/>
              <p:cNvSpPr/>
              <p:nvPr/>
            </p:nvSpPr>
            <p:spPr>
              <a:xfrm>
                <a:off x="4286880" y="42516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7" name="Text Box 7"/>
          <p:cNvSpPr/>
          <p:nvPr/>
        </p:nvSpPr>
        <p:spPr>
          <a:xfrm>
            <a:off x="1408320" y="206280"/>
            <a:ext cx="69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оординатная плоско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990720" y="-152280"/>
            <a:ext cx="2573280" cy="793800"/>
          </a:xfrm>
          <a:custGeom>
            <a:avLst/>
            <a:gdLst>
              <a:gd name="textAreaLeft" fmla="*/ 51120 w 2573280"/>
              <a:gd name="textAreaRight" fmla="*/ 2522160 w 2573280"/>
              <a:gd name="textAreaTop" fmla="*/ 51120 h 793800"/>
              <a:gd name="textAreaBottom" fmla="*/ 742680 h 793800"/>
            </a:gdLst>
            <a:ahLst/>
            <a:rect l="textAreaLeft" t="textAreaTop" r="textAreaRight" b="textAreaBottom"/>
            <a:pathLst>
              <a:path w="69999" h="21600">
                <a:moveTo>
                  <a:pt x="0" y="0"/>
                </a:moveTo>
                <a:lnTo>
                  <a:pt x="69999" y="0"/>
                </a:lnTo>
                <a:lnTo>
                  <a:pt x="69999" y="21600"/>
                </a:lnTo>
                <a:lnTo>
                  <a:pt x="0" y="21600"/>
                </a:lnTo>
                <a:close/>
              </a:path>
              <a:path fill="lightenLess" w="69999" h="21600">
                <a:moveTo>
                  <a:pt x="0" y="0"/>
                </a:moveTo>
                <a:lnTo>
                  <a:pt x="69999" y="0"/>
                </a:lnTo>
                <a:lnTo>
                  <a:pt x="68599" y="1400"/>
                </a:lnTo>
                <a:lnTo>
                  <a:pt x="1400" y="1400"/>
                </a:lnTo>
                <a:close/>
              </a:path>
              <a:path fill="darken" w="69999" h="21600">
                <a:moveTo>
                  <a:pt x="69999" y="0"/>
                </a:moveTo>
                <a:lnTo>
                  <a:pt x="69999" y="21600"/>
                </a:lnTo>
                <a:lnTo>
                  <a:pt x="68599" y="20200"/>
                </a:lnTo>
                <a:lnTo>
                  <a:pt x="68599" y="1400"/>
                </a:lnTo>
                <a:close/>
              </a:path>
              <a:path fill="darkenLess" w="69999" h="21600">
                <a:moveTo>
                  <a:pt x="69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99" y="20200"/>
                </a:lnTo>
                <a:close/>
              </a:path>
              <a:path fill="lighten" w="69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Декартов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                  система координ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1692360" y="909720"/>
            <a:ext cx="5904000" cy="5904000"/>
            <a:chOff x="1692360" y="909720"/>
            <a:chExt cx="5904000" cy="5904000"/>
          </a:xfrm>
        </p:grpSpPr>
        <p:pic>
          <p:nvPicPr>
            <p:cNvPr id="51" name="Picture 5" descr="01020101"/>
            <p:cNvPicPr/>
            <p:nvPr/>
          </p:nvPicPr>
          <p:blipFill>
            <a:blip r:embed="rId1"/>
            <a:stretch/>
          </p:blipFill>
          <p:spPr>
            <a:xfrm>
              <a:off x="1692360" y="909720"/>
              <a:ext cx="5904000" cy="590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Group 6"/>
            <p:cNvGrpSpPr/>
            <p:nvPr/>
          </p:nvGrpSpPr>
          <p:grpSpPr>
            <a:xfrm>
              <a:off x="4286880" y="3184560"/>
              <a:ext cx="360360" cy="1373760"/>
              <a:chOff x="4286880" y="3184560"/>
              <a:chExt cx="360360" cy="1373760"/>
            </a:xfrm>
          </p:grpSpPr>
          <p:sp>
            <p:nvSpPr>
              <p:cNvPr id="53" name="Text Box 7"/>
              <p:cNvSpPr/>
              <p:nvPr/>
            </p:nvSpPr>
            <p:spPr>
              <a:xfrm>
                <a:off x="4337280" y="3184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4286880" y="42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escartes"/>
          <p:cNvPicPr/>
          <p:nvPr/>
        </p:nvPicPr>
        <p:blipFill>
          <a:blip r:embed="rId1"/>
          <a:stretch/>
        </p:blipFill>
        <p:spPr>
          <a:xfrm>
            <a:off x="755640" y="1440"/>
            <a:ext cx="4768920" cy="6812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580000" y="189000"/>
            <a:ext cx="3203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1596 – 1650) -французский философ и математи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оисходил из старинного дворянского ро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сновным достижением Декарта явился созданный им метод координат.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4">
            <a:hlinkClick r:id="" action="ppaction://hlinkshowjump?jump=previousslide"/>
          </p:cNvPr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004000" y="277812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Ось абсци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 rot="10800000">
            <a:off x="4044600" y="617400"/>
            <a:ext cx="66780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Ось ордин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62" name="Oval 3"/>
          <p:cNvSpPr/>
          <p:nvPr/>
        </p:nvSpPr>
        <p:spPr>
          <a:xfrm>
            <a:off x="2411280" y="220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392200" y="154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920" y="169236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(-4;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61040" y="28526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рдин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43240" y="6922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бсц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Line 8"/>
          <p:cNvSpPr/>
          <p:nvPr/>
        </p:nvSpPr>
        <p:spPr>
          <a:xfrm>
            <a:off x="2915640" y="1125360"/>
            <a:ext cx="360360" cy="7192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Line 9"/>
          <p:cNvSpPr/>
          <p:nvPr/>
        </p:nvSpPr>
        <p:spPr>
          <a:xfrm>
            <a:off x="2484360" y="234936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2556000" y="227664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059280" y="2204640"/>
            <a:ext cx="576000" cy="7923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72" name="Oval 3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5"/>
          <p:cNvSpPr/>
          <p:nvPr/>
        </p:nvSpPr>
        <p:spPr>
          <a:xfrm>
            <a:off x="7093080" y="2781360"/>
            <a:ext cx="144360" cy="14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940360" y="3357720"/>
            <a:ext cx="144360" cy="14436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51672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788000" y="5084640"/>
            <a:ext cx="144360" cy="144720"/>
          </a:xfrm>
          <a:prstGeom prst="ellipse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788000" y="981000"/>
            <a:ext cx="144360" cy="144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2484360" y="3357720"/>
            <a:ext cx="144720" cy="1443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05880" y="12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933800" y="76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224080" y="2900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12224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51888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82480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93416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5851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3635280" y="1773360"/>
            <a:ext cx="0" cy="1726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3708360" y="17002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21"/>
          <p:cNvSpPr/>
          <p:nvPr/>
        </p:nvSpPr>
        <p:spPr>
          <a:xfrm flipV="1">
            <a:off x="3059280" y="3428640"/>
            <a:ext cx="0" cy="10796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3132000" y="4581360"/>
            <a:ext cx="165600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716436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24"/>
          <p:cNvSpPr/>
          <p:nvPr/>
        </p:nvSpPr>
        <p:spPr>
          <a:xfrm flipH="1">
            <a:off x="4858920" y="2852640"/>
            <a:ext cx="223380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25"/>
          <p:cNvSpPr/>
          <p:nvPr/>
        </p:nvSpPr>
        <p:spPr>
          <a:xfrm flipV="1">
            <a:off x="6588000" y="350028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4859280" y="573408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7"/>
          <p:cNvSpPr/>
          <p:nvPr/>
        </p:nvSpPr>
        <p:spPr>
          <a:xfrm flipH="1">
            <a:off x="4788000" y="3429000"/>
            <a:ext cx="107928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627280" y="3429000"/>
            <a:ext cx="2160720" cy="0"/>
          </a:xfrm>
          <a:prstGeom prst="line">
            <a:avLst/>
          </a:prstGeom>
          <a:ln w="2844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859280" y="1125360"/>
            <a:ext cx="0" cy="2232360"/>
          </a:xfrm>
          <a:prstGeom prst="line">
            <a:avLst/>
          </a:prstGeom>
          <a:ln w="284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30"/>
          <p:cNvSpPr/>
          <p:nvPr/>
        </p:nvSpPr>
        <p:spPr>
          <a:xfrm flipV="1">
            <a:off x="4859280" y="3428640"/>
            <a:ext cx="0" cy="1655640"/>
          </a:xfrm>
          <a:prstGeom prst="line">
            <a:avLst/>
          </a:prstGeom>
          <a:ln w="2844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31"/>
          <p:cNvGrpSpPr/>
          <p:nvPr/>
        </p:nvGrpSpPr>
        <p:grpSpPr>
          <a:xfrm>
            <a:off x="4492800" y="2708280"/>
            <a:ext cx="363960" cy="1418400"/>
            <a:chOff x="4492800" y="2708280"/>
            <a:chExt cx="363960" cy="1418400"/>
          </a:xfrm>
        </p:grpSpPr>
        <p:sp>
          <p:nvSpPr>
            <p:cNvPr id="101" name="Text Box 32"/>
            <p:cNvSpPr/>
            <p:nvPr/>
          </p:nvSpPr>
          <p:spPr>
            <a:xfrm>
              <a:off x="4496400" y="3789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33"/>
            <p:cNvSpPr/>
            <p:nvPr/>
          </p:nvSpPr>
          <p:spPr>
            <a:xfrm>
              <a:off x="4492800" y="270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xt Box 34"/>
          <p:cNvSpPr/>
          <p:nvPr/>
        </p:nvSpPr>
        <p:spPr>
          <a:xfrm>
            <a:off x="3566160" y="126828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-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;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7360200" y="241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6783840" y="529416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50160" y="479736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(0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6063120" y="29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5199480" y="765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2486520" y="291780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(-4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1959480" y="4292640"/>
            <a:ext cx="8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-3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2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-36360" y="0"/>
            <a:ext cx="6481080" cy="6857640"/>
            <a:chOff x="-36360" y="0"/>
            <a:chExt cx="6481080" cy="6857640"/>
          </a:xfrm>
        </p:grpSpPr>
        <p:pic>
          <p:nvPicPr>
            <p:cNvPr id="112" name="Picture 3" descr="01020101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6481080" cy="68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4"/>
            <p:cNvGrpSpPr/>
            <p:nvPr/>
          </p:nvGrpSpPr>
          <p:grpSpPr>
            <a:xfrm>
              <a:off x="2810880" y="2642040"/>
              <a:ext cx="360360" cy="1540800"/>
              <a:chOff x="2810880" y="2642040"/>
              <a:chExt cx="360360" cy="154080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2867040" y="264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Text Box 6"/>
              <p:cNvSpPr/>
              <p:nvPr/>
            </p:nvSpPr>
            <p:spPr>
              <a:xfrm>
                <a:off x="2810880" y="38455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6" name="Text Box 7"/>
          <p:cNvSpPr/>
          <p:nvPr/>
        </p:nvSpPr>
        <p:spPr>
          <a:xfrm>
            <a:off x="6880680" y="69228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(2;4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284720" y="476280"/>
            <a:ext cx="0" cy="295272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203640" y="1052640"/>
            <a:ext cx="273672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211640" y="981000"/>
            <a:ext cx="142920" cy="144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28688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881400" y="162864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1547640" y="3429000"/>
            <a:ext cx="0" cy="2952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68360" y="4581360"/>
            <a:ext cx="273528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1476360" y="4508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045080" y="456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4284720" y="3429000"/>
            <a:ext cx="0" cy="29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na-PC</dc:creator>
  <dc:description/>
  <dc:language>en-US</dc:language>
  <cp:lastModifiedBy>Zina-PC</cp:lastModifiedBy>
  <dcterms:modified xsi:type="dcterms:W3CDTF">2015-05-10T07:42:3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