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0982-12DF-47AD-ABF8-EA45A35920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2 б  кла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93B6-07E9-4685-BC6A-075996790F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3F39-21DF-4B44-AD84-57913984A7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1319-0D00-4EDC-BD4D-01368715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0427-F2A4-454C-9E5D-33F99A8E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2CD-5D66-40B6-AB45-0D1E53BA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E04-75FB-47C9-B5E3-7FCF5AD0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846-9103-4CB2-A9CF-47A73619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6C9-7D58-424D-9FDE-2B6C74B3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C6C7-8846-48EC-B933-A2E2CBFF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33ED-8840-4A43-9226-4AD43F77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191-BA5B-4B27-B3BE-EA01AF2E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FB50-40BB-4BC7-9B56-2994F3C2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C99-F2C8-46FE-BC4E-0CD5AC9B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E37-D916-4DD7-B9D7-7C9D7B6C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8801-2EEB-41A5-BABD-95F479276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349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"/>
              </a:rPr>
              <a:t>Природные</a:t>
            </a:r>
            <a:br>
              <a:rPr sz="5400"/>
            </a:br>
            <a:r>
              <a:rPr b="0" lang="ru-RU" sz="5400" spc="-1" strike="noStrike">
                <a:solidFill>
                  <a:srgbClr val="ffff66"/>
                </a:solidFill>
                <a:latin typeface="Arial"/>
              </a:rPr>
              <a:t> зоны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957920" y="836280"/>
            <a:ext cx="41860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среди мрачного леса вдруг встречаешь небольшую молодую рощу белоствольных берёз, кажется, будто улыбнулся хмурый лес. Солнце, весенний воздух, вид оживающей природы вливают в нас бодрость и радость. Берёза - чудесное дерево, воспетое в стихах и песнях русского на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tree084"/>
          <p:cNvPicPr/>
          <p:nvPr/>
        </p:nvPicPr>
        <p:blipFill>
          <a:blip r:embed="rId2"/>
          <a:stretch/>
        </p:blipFill>
        <p:spPr>
          <a:xfrm>
            <a:off x="179280" y="1413000"/>
            <a:ext cx="4996080" cy="3781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54064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а — раздолье для самых разнообразных зверей: медведей, волков, лис, зайцев, ежей, белок, кабанов, лосей и полевых мыш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27"/>
          <p:cNvPicPr/>
          <p:nvPr/>
        </p:nvPicPr>
        <p:blipFill>
          <a:blip r:embed="rId2"/>
          <a:stretch/>
        </p:blipFill>
        <p:spPr>
          <a:xfrm>
            <a:off x="1258920" y="1787400"/>
            <a:ext cx="6337440" cy="5070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07520" y="-1057320"/>
            <a:ext cx="8137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лесах   очень  много  пернат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есу для птиц обилие пищи — насекомые, плоды, семена, а густая крона деревьев позволяет птицам вить уютные гне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163021"/>
          <p:cNvPicPr/>
          <p:nvPr/>
        </p:nvPicPr>
        <p:blipFill>
          <a:blip r:embed="rId2"/>
          <a:stretch/>
        </p:blipFill>
        <p:spPr>
          <a:xfrm>
            <a:off x="324000" y="2637000"/>
            <a:ext cx="6703920" cy="3240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540640" cy="24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на лесов занимает больше половины территории России. Только не думайте, что вся эта территория покрыта сплошными лесами. Здесь много водоемов, лу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OLIAGE"/>
          <p:cNvPicPr/>
          <p:nvPr/>
        </p:nvPicPr>
        <p:blipFill>
          <a:blip r:embed="rId2"/>
          <a:stretch/>
        </p:blipFill>
        <p:spPr>
          <a:xfrm>
            <a:off x="395280" y="1989000"/>
            <a:ext cx="7489800" cy="4305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1680" y="4149360"/>
            <a:ext cx="8540640" cy="19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а России разнообразны по видовому составу и по числу древесных пород. Здесь и угрюмая тёмнохвойная тайга, и светлые солнечные сосновые боры, и величественные дубравы, и белоствольные березняки, и неповторимые смешанные леса, и высокоствольная  лиственничная тай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tree037"/>
          <p:cNvPicPr/>
          <p:nvPr/>
        </p:nvPicPr>
        <p:blipFill>
          <a:blip r:embed="rId2"/>
          <a:stretch/>
        </p:blipFill>
        <p:spPr>
          <a:xfrm>
            <a:off x="179280" y="260280"/>
            <a:ext cx="4680000" cy="345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Wood"/>
          <p:cNvPicPr/>
          <p:nvPr/>
        </p:nvPicPr>
        <p:blipFill>
          <a:blip r:embed="rId3"/>
          <a:stretch/>
        </p:blipFill>
        <p:spPr>
          <a:xfrm>
            <a:off x="5148360" y="476280"/>
            <a:ext cx="381636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88000" y="1125360"/>
            <a:ext cx="39830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она тайги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амая большая по площади природная зона России. Она протянулась широкой непрерывной полосой от западных границ почти до побережья Тихого океана. Тайга России могла бы покрыть почти всю Европу - целую часть с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Тайга"/>
          <p:cNvPicPr/>
          <p:nvPr/>
        </p:nvPicPr>
        <p:blipFill>
          <a:blip r:embed="rId2"/>
          <a:stretch/>
        </p:blipFill>
        <p:spPr>
          <a:xfrm>
            <a:off x="108000" y="1700280"/>
            <a:ext cx="4817880" cy="4176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9933"/>
                </a:solidFill>
                <a:uFillTx/>
                <a:latin typeface="Arial"/>
              </a:rPr>
              <a:t>Зона тайг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4535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33"/>
                </a:solidFill>
                <a:uFillTx/>
                <a:latin typeface="Arial"/>
              </a:rPr>
              <a:t>Хвойные деревь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486320" cy="62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ль, сосна, пихта, кедр, листвен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{042D61F9-E05C-40A8-ACD3-0FBC74F798DB}"/>
          <p:cNvPicPr/>
          <p:nvPr/>
        </p:nvPicPr>
        <p:blipFill>
          <a:blip r:embed="rId2"/>
          <a:stretch/>
        </p:blipFill>
        <p:spPr>
          <a:xfrm>
            <a:off x="6012000" y="3716280"/>
            <a:ext cx="211140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{9AFE767A-AA1E-473A-A62B-67D11450D33C}"/>
          <p:cNvPicPr/>
          <p:nvPr/>
        </p:nvPicPr>
        <p:blipFill>
          <a:blip r:embed="rId3"/>
          <a:stretch/>
        </p:blipFill>
        <p:spPr>
          <a:xfrm>
            <a:off x="395280" y="2133720"/>
            <a:ext cx="5003640" cy="3752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4"/>
          <a:stretch/>
        </p:blipFill>
        <p:spPr>
          <a:xfrm>
            <a:off x="5651640" y="333360"/>
            <a:ext cx="2700360" cy="30052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54064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адков выпадает достаточно для нормального роста деревьев. Тайга сильно заболочена. Кое-где к хвойным примешиваются мелколиственные породы - береза и ос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Хвойные леса"/>
          <p:cNvPicPr/>
          <p:nvPr/>
        </p:nvPicPr>
        <p:blipFill>
          <a:blip r:embed="rId2"/>
          <a:stretch/>
        </p:blipFill>
        <p:spPr>
          <a:xfrm>
            <a:off x="1187280" y="2276640"/>
            <a:ext cx="5656320" cy="4241520"/>
          </a:xfrm>
          <a:prstGeom prst="rect">
            <a:avLst/>
          </a:prstGeom>
          <a:ln w="0">
            <a:noFill/>
          </a:ln>
        </p:spPr>
      </p:pic>
      <p:sp>
        <p:nvSpPr>
          <p:cNvPr id="65" name="Овал 1"/>
          <p:cNvSpPr/>
          <p:nvPr/>
        </p:nvSpPr>
        <p:spPr>
          <a:xfrm flipH="1">
            <a:off x="7305120" y="2584440"/>
            <a:ext cx="45720" cy="44640"/>
          </a:xfrm>
          <a:prstGeom prst="ellipse">
            <a:avLst/>
          </a:prstGeom>
          <a:solidFill>
            <a:srgbClr val="1da551"/>
          </a:solidFill>
          <a:ln w="25560">
            <a:solidFill>
              <a:srgbClr val="1278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9933"/>
                </a:solidFill>
                <a:uFillTx/>
                <a:latin typeface="Arial"/>
              </a:rPr>
              <a:t>Зона смешанных лесов</a:t>
            </a:r>
            <a:r>
              <a:rPr b="1" lang="ru-RU" sz="4000" spc="-1" strike="noStrike" u="sng">
                <a:solidFill>
                  <a:srgbClr val="ff9933"/>
                </a:solidFill>
                <a:uFillTx/>
                <a:latin typeface="Arial"/>
              </a:rPr>
              <a:t> 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785016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 зима не слишком холодная, а лето теплое. Осадки выпадают в течение всего года. Поскольку климат здесь мягче, чем в тайге, в смешанном лесу встречаются не только хвойные деревья (сосна, ель), но и лиственные (береза, осина, ольха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Смешанные леса"/>
          <p:cNvPicPr/>
          <p:nvPr/>
        </p:nvPicPr>
        <p:blipFill>
          <a:blip r:embed="rId2"/>
          <a:stretch/>
        </p:blipFill>
        <p:spPr>
          <a:xfrm>
            <a:off x="2340000" y="3511440"/>
            <a:ext cx="4464000" cy="3230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5406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мешанных лесах выделяют пять ярусов: первый – высокие деревья (ель, дуб, ясень и др.); второй – низкорослые деревья (рябина); третий – кустарники; четвертый – травы, полукустарники; пятый – травы, мх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tree082"/>
          <p:cNvPicPr/>
          <p:nvPr/>
        </p:nvPicPr>
        <p:blipFill>
          <a:blip r:embed="rId2"/>
          <a:stretch/>
        </p:blipFill>
        <p:spPr>
          <a:xfrm>
            <a:off x="1692360" y="1844640"/>
            <a:ext cx="6264360" cy="4681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9933"/>
                </a:solidFill>
                <a:uFillTx/>
                <a:latin typeface="Arial"/>
              </a:rPr>
              <a:t>Широколиственные лес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964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околиственные леса расположены южнее смешанных. Они состоят в основном теплолюбивых деревьев с широкими ,крупными листьями - из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уба, клена, липы, бук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има в смешанных и широколиственных лесах гораздо мягче, чем в тайге. Многолетней мерзлоты здесь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Широколиственный лес"/>
          <p:cNvPicPr/>
          <p:nvPr/>
        </p:nvPicPr>
        <p:blipFill>
          <a:blip r:embed="rId2"/>
          <a:stretch/>
        </p:blipFill>
        <p:spPr>
          <a:xfrm>
            <a:off x="1692360" y="2492280"/>
            <a:ext cx="5329080" cy="3552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Школа</cp:lastModifiedBy>
  <dcterms:modified xsi:type="dcterms:W3CDTF">2015-05-10T08:20:13Z</dcterms:modified>
  <cp:revision>33</cp:revision>
  <dc:subject/>
  <dc:title>PowerPoint Presentation</dc:title>
</cp:coreProperties>
</file>