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22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1012680" y="728640"/>
            <a:ext cx="48578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23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24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A460AA-3592-4689-86AA-307001AE9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012680" y="728640"/>
            <a:ext cx="4857840" cy="364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5891A2-8AF4-440B-9260-4790BCECA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22D-E2A2-4BC2-9D6C-AC4D40BA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EB5-A531-4422-8BC2-7C15D3B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4C5-1AD9-48A4-9E6E-90F490B9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982-55A2-4D88-AF15-3272B536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12E-073C-4A6F-9B61-A5284D16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27E-EBCB-433F-9B10-A281E5A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594-0783-4E35-86DB-C9D09BB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CDA6-349D-4364-B233-434F03F7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C613-98BC-4F2A-84B1-F969835B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0EFD-DC13-4A3D-B2C9-E0E3429F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E68-37C3-46E0-ADEA-8D30EB52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DD7-F2C6-4920-9FF9-3FB0CCA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76A0-21CE-4C33-B64F-E13B4FF6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F2E8-CDE8-494D-9C42-9F7CBFB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8C92-6D89-47A0-BA80-A7B8466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856-150F-4023-8883-E19A9FF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325-CB54-4CBB-9F24-C7257CE4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D56E-0D1A-4BCB-8177-020CEBC8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9DE2-F63F-40B2-968B-525DFAE3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67B3-038E-47B6-89C5-3CC48B9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A370-B152-4E28-84BB-260EA127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567E-4748-48EF-9B17-9CA4E0D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F05-456F-41A7-882F-19F9C93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0970-E18F-431D-B498-B24E125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F9A7-65C9-4420-B8DC-CC7AFD2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8D84-CDCA-4025-B0F0-44D26AF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7F56-9BC5-464C-A5F8-9007AC4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45F9-24B2-4850-BCEF-F94F868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A7FC-9A65-4DCA-A2D5-3CA230C3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437D-AD91-4429-B5F6-E037C20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E24F-8D34-4E85-A890-8C92D45E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032C-2E7F-4BE3-B413-703BB5D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173E7-5C01-472D-B931-D609F29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081-5E66-4BA9-9BD0-B53D42D5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2F6F-B3F1-4EA5-AA7D-5EC452DB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0E3A-AEFF-4136-A564-3DBFD40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587F-47E6-4559-9FE2-1FE79AF7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F10E-3FCF-459E-A992-54C9EFD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9425-526C-40D8-9637-3B9EB928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55A0-A35A-4123-A9E1-2B50FB6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E657-92D1-4319-8655-4A75A71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08B8-4B59-4E87-AC46-424A26C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255F-B8FE-4046-A0E0-36BC8B28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2D87-2083-4A63-B829-839BB624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9A0-BAE7-4AFD-8B88-533BB60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176F-0EA0-4149-A487-AE62151A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F0CE-4533-4EDE-B81E-041F6E8E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7773-8F32-4E7F-8465-72595E3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D325-C72E-4650-8D22-ADF7281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099B-54F2-4600-997A-553A3F0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FB5E-5510-4D99-B6AA-AE4F2AE0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8F83-5D8F-4676-94EC-71E93A7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57B3-4C51-448B-9CE2-74E007C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D586-0F53-4588-AEF0-C8AAF2C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C198-4457-4643-80CF-A2056BC5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A81-B8BA-4F5D-9A78-D2D767A4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2DC2-1A95-4491-A666-7DB846BD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73534-8468-4711-AB1A-05B70A45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1E2CB-2A90-48E5-B6BF-231346D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56329-A82F-4D4F-A87A-56DBB58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3321C-9B0C-45B6-A70D-0B0C12D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9D7C7-2E43-4D33-BCE1-5FAF123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C6761-C6D6-4EC0-8AF5-EC3C701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4E42E-9921-46E5-8B65-4F8FA06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56E1D-E5BA-40B5-ABFC-5C46BB3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5AF7F-754C-4AA0-9038-124B2BD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B9C-F8D3-470C-8136-5EB85A9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62AA4-37B9-42F1-B11C-5C57001D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CA346-1B58-43A7-A67D-C7553288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0106D-D411-4236-8E39-F4705106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C352-2A2C-4697-8A80-07F1EA27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8BAE-8E81-46E8-A297-A823409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5CC0-DB1B-423F-8B1C-C7A82B3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E0F76-85B1-4DC4-9D3C-EC89EF2E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878E-31EF-4728-A1D9-AF7B44A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67D8-B758-48E1-BAEF-8E89B21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DD4D-8118-4970-9E7D-A77D3E7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14D-A0FF-4444-BA73-B2B0EC5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5494-1F93-4D5E-B7A6-A95BCC4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73558-015D-4530-A99B-80CFD22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2D2B-2331-4318-9C23-B095A3F0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F3B70-EC49-44C5-89FF-340ABBC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2A1A-0E45-4A42-B2F1-E06459A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166-9D7B-4873-9209-99CBC69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B415-4C47-4BF8-846E-85661F6DD1B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DF86-4C7B-4FF7-ABE3-836AF9BCE6C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18B-68B4-411F-B158-0A32A363EA6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FCEC-8E3A-43DB-9AB3-045164CB64D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B35D-CCD8-42C6-BD31-F3DBD7569C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605A-AD6D-4A4B-94E7-49141AE01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FDB-4C78-4735-AC4F-506B60A72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7640" y="1828800"/>
            <a:ext cx="7083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ЫПУКЛЫЕ МНОГОГРАНН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500040" y="785880"/>
          <a:ext cx="8229600" cy="5715000"/>
        </p:xfrm>
        <a:graphic>
          <a:graphicData uri="http://schemas.openxmlformats.org/drawingml/2006/table">
            <a:tbl>
              <a:tblPr/>
              <a:tblGrid>
                <a:gridCol w="1752480"/>
                <a:gridCol w="1478160"/>
                <a:gridCol w="1665360"/>
                <a:gridCol w="1666800"/>
                <a:gridCol w="166680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Прав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многогра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ё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Сумма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  Г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428760" y="785880"/>
          <a:ext cx="8229600" cy="5715000"/>
        </p:xfrm>
        <a:graphic>
          <a:graphicData uri="http://schemas.openxmlformats.org/drawingml/2006/table">
            <a:tbl>
              <a:tblPr/>
              <a:tblGrid>
                <a:gridCol w="1752480"/>
                <a:gridCol w="1477800"/>
                <a:gridCol w="1665360"/>
                <a:gridCol w="1666800"/>
                <a:gridCol w="16671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Прав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многогра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ё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Сумма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  Г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3"/>
          <p:cNvSpPr/>
          <p:nvPr/>
        </p:nvSpPr>
        <p:spPr>
          <a:xfrm>
            <a:off x="2210040" y="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о философии Пла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571680"/>
          <a:ext cx="8570880" cy="6089400"/>
        </p:xfrm>
        <a:graphic>
          <a:graphicData uri="http://schemas.openxmlformats.org/drawingml/2006/table">
            <a:tbl>
              <a:tblPr/>
              <a:tblGrid>
                <a:gridCol w="4286520"/>
                <a:gridCol w="428436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гон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од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озду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земл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екс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селенна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643040" cy="1231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1643040" cy="119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285840" y="4357800"/>
            <a:ext cx="1692360" cy="1143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285840" y="5572080"/>
            <a:ext cx="166536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"/>
          <p:cNvPicPr/>
          <p:nvPr/>
        </p:nvPicPr>
        <p:blipFill>
          <a:blip r:embed="rId6"/>
          <a:stretch/>
        </p:blipFill>
        <p:spPr>
          <a:xfrm>
            <a:off x="7643880" y="71424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9" descr=""/>
          <p:cNvPicPr/>
          <p:nvPr/>
        </p:nvPicPr>
        <p:blipFill>
          <a:blip r:embed="rId7"/>
          <a:stretch/>
        </p:blipFill>
        <p:spPr>
          <a:xfrm>
            <a:off x="7572240" y="31431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0" descr=""/>
          <p:cNvPicPr/>
          <p:nvPr/>
        </p:nvPicPr>
        <p:blipFill>
          <a:blip r:embed="rId8"/>
          <a:stretch/>
        </p:blipFill>
        <p:spPr>
          <a:xfrm>
            <a:off x="7572240" y="1928880"/>
            <a:ext cx="1076400" cy="1063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1" descr=""/>
          <p:cNvPicPr/>
          <p:nvPr/>
        </p:nvPicPr>
        <p:blipFill>
          <a:blip r:embed="rId9"/>
          <a:stretch/>
        </p:blipFill>
        <p:spPr>
          <a:xfrm>
            <a:off x="7643880" y="5572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"/>
          <p:cNvPicPr/>
          <p:nvPr/>
        </p:nvPicPr>
        <p:blipFill>
          <a:blip r:embed="rId10"/>
          <a:stretch/>
        </p:blipFill>
        <p:spPr>
          <a:xfrm>
            <a:off x="7572240" y="442908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art_3_5_clip_image032"/>
          <p:cNvPicPr/>
          <p:nvPr/>
        </p:nvPicPr>
        <p:blipFill>
          <a:blip r:embed="rId1"/>
          <a:stretch/>
        </p:blipFill>
        <p:spPr>
          <a:xfrm>
            <a:off x="468360" y="2033640"/>
            <a:ext cx="3085920" cy="48243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500040" y="285840"/>
            <a:ext cx="828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дача: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пределите количество граней, вершин и рёбер многогранники, изображенного на рисунке. Проверьте выполнимость формулы Эйлера для данного многогр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4572000" y="235728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4429080" y="2786040"/>
            <a:ext cx="36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+В=12+10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+2=20+2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r_pic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urer"/>
          <p:cNvPicPr/>
          <p:nvPr/>
        </p:nvPicPr>
        <p:blipFill>
          <a:blip r:embed="rId1"/>
          <a:stretch/>
        </p:blipFill>
        <p:spPr>
          <a:xfrm>
            <a:off x="250920" y="476280"/>
            <a:ext cx="4667040" cy="59770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5072040" y="1143000"/>
            <a:ext cx="359892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итый художник, увлекавшийся геометрией Альбрехт Дюрер          (1471- 1528) ,                                    в известной гравю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'Меланхолия '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еднем плане изобразил додекаэд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Платоновы тела"/>
          <p:cNvPicPr/>
          <p:nvPr/>
        </p:nvPicPr>
        <p:blipFill>
          <a:blip r:embed="rId1">
            <a:alphaModFix amt="42000"/>
          </a:blip>
          <a:stretch/>
        </p:blipFill>
        <p:spPr>
          <a:xfrm>
            <a:off x="0" y="1541520"/>
            <a:ext cx="7772400" cy="53164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357120" y="357120"/>
            <a:ext cx="84297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Правильных многогранников вызывающе мало, но этот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весьма скромный по численности отряд сум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пробраться в самые глубины различных наук.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Л. Керро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4"/>
          <p:cNvSpPr/>
          <p:nvPr/>
        </p:nvSpPr>
        <p:spPr>
          <a:xfrm>
            <a:off x="1428840" y="35712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Franklin Gothic Book"/>
              </a:rPr>
              <a:t>Определите, какие из многогранников, изобра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Franklin Gothic Book"/>
              </a:rPr>
              <a:t>на рисунке, являются выпукл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рис2"/>
          <p:cNvPicPr/>
          <p:nvPr/>
        </p:nvPicPr>
        <p:blipFill>
          <a:blip r:embed="rId1"/>
          <a:stretch/>
        </p:blipFill>
        <p:spPr>
          <a:xfrm>
            <a:off x="1500120" y="1214280"/>
            <a:ext cx="60166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3"/>
          <p:cNvSpPr/>
          <p:nvPr/>
        </p:nvSpPr>
        <p:spPr>
          <a:xfrm>
            <a:off x="428760" y="1268280"/>
            <a:ext cx="828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Franklin Gothic Book"/>
              </a:rPr>
              <a:t>Выпуклый многогранник называется правильным, если его грани являются правильными многоугольниками с одним и тем же числом сторон и в каждой вершине многогранника сходится одно и то же число рёб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4"/>
          <p:cNvSpPr/>
          <p:nvPr/>
        </p:nvSpPr>
        <p:spPr>
          <a:xfrm>
            <a:off x="571680" y="785880"/>
            <a:ext cx="40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tetrahedron"/>
          <p:cNvPicPr/>
          <p:nvPr/>
        </p:nvPicPr>
        <p:blipFill>
          <a:blip r:embed="rId1"/>
          <a:stretch/>
        </p:blipFill>
        <p:spPr>
          <a:xfrm>
            <a:off x="3071880" y="1928880"/>
            <a:ext cx="56163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33200" y="10000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ГЕКСАЭДР (КУБ)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cube"/>
          <p:cNvPicPr/>
          <p:nvPr/>
        </p:nvPicPr>
        <p:blipFill>
          <a:blip r:embed="rId1"/>
          <a:stretch/>
        </p:blipFill>
        <p:spPr>
          <a:xfrm>
            <a:off x="3714840" y="2000160"/>
            <a:ext cx="51084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147240" y="1000080"/>
            <a:ext cx="300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ОКТ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octahedron"/>
          <p:cNvPicPr/>
          <p:nvPr/>
        </p:nvPicPr>
        <p:blipFill>
          <a:blip r:embed="rId1"/>
          <a:stretch/>
        </p:blipFill>
        <p:spPr>
          <a:xfrm>
            <a:off x="3564000" y="1268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14040" y="10000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ДОДЕК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dodecahedron2"/>
          <p:cNvPicPr/>
          <p:nvPr/>
        </p:nvPicPr>
        <p:blipFill>
          <a:blip r:embed="rId1"/>
          <a:stretch/>
        </p:blipFill>
        <p:spPr>
          <a:xfrm>
            <a:off x="3786120" y="1500120"/>
            <a:ext cx="511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36720" y="928800"/>
            <a:ext cx="349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ИКОС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icosahedron2"/>
          <p:cNvPicPr/>
          <p:nvPr/>
        </p:nvPicPr>
        <p:blipFill>
          <a:blip r:embed="rId1"/>
          <a:stretch/>
        </p:blipFill>
        <p:spPr>
          <a:xfrm>
            <a:off x="3857760" y="1785960"/>
            <a:ext cx="48956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8:23:58Z</dcterms:created>
  <dc:creator>PUTNIK OS</dc:creator>
  <dc:description/>
  <dc:language>en-US</dc:language>
  <cp:lastModifiedBy>Admin</cp:lastModifiedBy>
  <dcterms:modified xsi:type="dcterms:W3CDTF">2009-11-04T13:15:57Z</dcterms:modified>
  <cp:revision>10</cp:revision>
  <dc:subject/>
  <dc:title>Слайд 1</dc:title>
</cp:coreProperties>
</file>