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22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Img"/>
          </p:nvPr>
        </p:nvSpPr>
        <p:spPr>
          <a:xfrm>
            <a:off x="1012680" y="728640"/>
            <a:ext cx="485784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23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 type="sldNum" idx="24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1925D4-B2F0-492B-B596-91AC084990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012680" y="728640"/>
            <a:ext cx="4857840" cy="3641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5CDCF4-CBAF-40F4-AA73-76B05B7168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C68-BAF7-4C3C-9EAA-667E7146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C8D-5653-4BF8-842E-2301A828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9AC-2B8B-4126-9455-09B49042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25F-BA1F-47AC-BD84-2732EE54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04E4-EB3B-47FE-874F-6822D404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DB86-2892-4981-834A-47B83735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2E9D-F054-4B9A-B1FA-73D0CFCF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C155-B14B-4B5B-B5EA-32AEB73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A964-2CF4-49EB-B70A-1831398A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31DB-FEB3-4084-BAC9-02CD0DAF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92FD-807D-4E59-8416-1710B4F0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B1E-AD69-4CC7-8F65-7CFDE517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608F-C5C8-46EA-8C2E-CA8B7837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2C49-D702-4ED4-BE8E-E6CFE377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61AC-B61E-4149-BDAC-68D666E6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58E7-39A7-45EC-A284-2811E050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CE68-5B68-4C89-8118-D01DA47B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529B-C4F7-4704-B965-AF6B9431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7DDAD-7557-4D2E-9C68-6C22CE32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39BA-828A-4550-9A5A-E65F2521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F850-9E49-4F22-801D-38B7AC04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A2415-DCAA-4A6C-B353-E843DFA9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F62-357A-4667-BC56-45CA3D8B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F9F2-4088-4068-AA83-A403B241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91C8-19EA-4FC7-937B-1B01B421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A0F7-BB89-4E6D-AFAD-42865663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A4A1-F97A-4719-8451-15574D99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395A-2313-4166-ABA1-C3995360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7B78-8A81-4924-B144-AFEE599F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6F02-0BAA-41F9-BDB8-3471A7BE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4B2C1-953B-4D4D-A00C-32BF23AE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70DB3-DC2A-4C93-8076-6BB3E7BD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2C13-AB41-46A6-BE17-DA21345D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439-934E-4D05-9C29-EF10613B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9A8F-5FCC-4640-9586-F46BD986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E298-431C-428B-A7A5-FB1A3703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954D9-5D3C-4E2C-9825-568B6FF6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B4DF-99CE-4309-8C6E-06D27F32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FA120-F970-4298-8B99-632B886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611D-19EA-46FC-8D2F-ABFDED28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FA54F-F9FF-4C8E-8073-806AF904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DCD10-A663-41C4-938A-C05D69F5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5FDB-A64C-499F-8616-71670BF8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5B9F-3108-464F-9914-103816C9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B4A-0206-4590-A83D-AC45705A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AC28F-9442-4E5F-AD83-E8D12A4F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7671E-4BBA-4883-BC12-8C6AB3C3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D667-E92B-4674-B7F6-88B0F554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95FC0-FB03-4CD3-B591-BE924CDD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2B6E0-21E1-4865-979C-D4006800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06DBC-09CE-4F1B-98B0-6E61186D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6F067-2942-4D4F-B08B-7DFA6D8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0E5D5-858D-4A6B-A0A5-96B09B83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C45F7-7E6E-4194-B729-B96A0088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E0032-1853-40DF-98B4-D8E44530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3B0-E51D-48C4-93DA-DD16344E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4EAA-CB94-48B3-8995-332D3D23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D514E-B6B3-4AC9-9A4D-E48CBF5E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AB124-AB4D-45E5-BBB5-8A53AC56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1236B-03E3-48F8-8492-B97C683A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EF47B-DE75-4DA2-A64A-C07F0C98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D3485-EC5C-4B50-B5BA-C5DA755B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2E223-54BF-4A91-8D16-2036F7FE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D0801-2F5D-4BBA-8AAA-D9D40408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B743C-3137-42F6-88C7-AFF7CDB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1AD27-57A4-490C-8CBC-0B5E57B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9B3-2EF9-4368-BF54-EB659A00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5022F-64CF-42B4-AC6B-1D1E16FB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73C03-6977-4A66-B7F8-AAEB999A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D6B9A-D158-449D-8188-3850BC80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8C03A-3647-4475-81D9-83954D0E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A3F94-1CC4-42C2-ABB1-6B94837B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27CE8-4FD0-4E22-9A00-FBC85FB3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8FC7A-ADCD-4325-8388-EC3F58EB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5952E-6950-47FF-84EC-F329D25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1E58-329D-4F8C-A6A3-97091E5C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4A7FE-D40C-4FCD-B69F-83BEFD32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0F2-CEA7-4C6B-BECC-72E2BAE0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5171A-0BAD-45EE-AC2F-475A797C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DC506-8A7E-46D1-A0A0-15B9E035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F7E0F-054B-4235-9B43-1766C9C7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C0230-4F2B-4871-ABE4-08B0879F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75075-FB48-4CCD-AF9D-527FD2A5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C61-0F54-4BD3-B1CB-12F9E1F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5231-C744-4F59-89CA-C2C38FE8A94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ECE0-E023-4DF5-91DD-C51273FC911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DD60-5800-4A71-930B-19FD912D5A0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3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364C-E0F3-4B6A-92C4-22D1EAFC868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E3D7-7882-40E8-8B35-0FA48E73B34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BC08-942D-44E0-916C-394247C89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7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CB65-D6F2-46BF-BC50-3B992F1BE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6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07640" y="1828800"/>
            <a:ext cx="7083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ВЫПУКЛЫЕ МНОГОГРАННИК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500040" y="785880"/>
          <a:ext cx="8229600" cy="5715000"/>
        </p:xfrm>
        <a:graphic>
          <a:graphicData uri="http://schemas.openxmlformats.org/drawingml/2006/table">
            <a:tbl>
              <a:tblPr/>
              <a:tblGrid>
                <a:gridCol w="1752480"/>
                <a:gridCol w="1478160"/>
                <a:gridCol w="1665360"/>
                <a:gridCol w="1666800"/>
                <a:gridCol w="166680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Прави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многогра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рё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Сумма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раней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ершин  Г+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428760" y="785880"/>
          <a:ext cx="8229600" cy="5715000"/>
        </p:xfrm>
        <a:graphic>
          <a:graphicData uri="http://schemas.openxmlformats.org/drawingml/2006/table">
            <a:tbl>
              <a:tblPr/>
              <a:tblGrid>
                <a:gridCol w="1752480"/>
                <a:gridCol w="1477800"/>
                <a:gridCol w="1665360"/>
                <a:gridCol w="1666800"/>
                <a:gridCol w="166716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Прави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многогран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рё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Сумма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раней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ершин  Г+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3"/>
          <p:cNvSpPr/>
          <p:nvPr/>
        </p:nvSpPr>
        <p:spPr>
          <a:xfrm>
            <a:off x="2210040" y="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гласно философии Пла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14200" y="571680"/>
          <a:ext cx="8570880" cy="6089400"/>
        </p:xfrm>
        <a:graphic>
          <a:graphicData uri="http://schemas.openxmlformats.org/drawingml/2006/table">
            <a:tbl>
              <a:tblPr/>
              <a:tblGrid>
                <a:gridCol w="4286520"/>
                <a:gridCol w="4284360"/>
              </a:tblGrid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огон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тетр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од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озду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октаэд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земл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гексаэд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вселенна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66"/>
                          </a:solidFill>
                          <a:latin typeface="Tahoma"/>
                        </a:rPr>
                        <a:t>додекаэд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1643040" cy="1231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1643040" cy="1198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285840" y="3071880"/>
            <a:ext cx="1643040" cy="1231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4"/>
          <a:stretch/>
        </p:blipFill>
        <p:spPr>
          <a:xfrm>
            <a:off x="285840" y="4357800"/>
            <a:ext cx="1692360" cy="1143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5"/>
          <a:stretch/>
        </p:blipFill>
        <p:spPr>
          <a:xfrm>
            <a:off x="285840" y="5572080"/>
            <a:ext cx="1665360" cy="106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8" descr=""/>
          <p:cNvPicPr/>
          <p:nvPr/>
        </p:nvPicPr>
        <p:blipFill>
          <a:blip r:embed="rId6"/>
          <a:stretch/>
        </p:blipFill>
        <p:spPr>
          <a:xfrm>
            <a:off x="7643880" y="71424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9" descr=""/>
          <p:cNvPicPr/>
          <p:nvPr/>
        </p:nvPicPr>
        <p:blipFill>
          <a:blip r:embed="rId7"/>
          <a:stretch/>
        </p:blipFill>
        <p:spPr>
          <a:xfrm>
            <a:off x="7572240" y="31431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0" descr=""/>
          <p:cNvPicPr/>
          <p:nvPr/>
        </p:nvPicPr>
        <p:blipFill>
          <a:blip r:embed="rId8"/>
          <a:stretch/>
        </p:blipFill>
        <p:spPr>
          <a:xfrm>
            <a:off x="7572240" y="1928880"/>
            <a:ext cx="1076400" cy="1063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1" descr=""/>
          <p:cNvPicPr/>
          <p:nvPr/>
        </p:nvPicPr>
        <p:blipFill>
          <a:blip r:embed="rId9"/>
          <a:stretch/>
        </p:blipFill>
        <p:spPr>
          <a:xfrm>
            <a:off x="7643880" y="5572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"/>
          <p:cNvPicPr/>
          <p:nvPr/>
        </p:nvPicPr>
        <p:blipFill>
          <a:blip r:embed="rId10"/>
          <a:stretch/>
        </p:blipFill>
        <p:spPr>
          <a:xfrm>
            <a:off x="7572240" y="442908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art_3_5_clip_image032"/>
          <p:cNvPicPr/>
          <p:nvPr/>
        </p:nvPicPr>
        <p:blipFill>
          <a:blip r:embed="rId1"/>
          <a:stretch/>
        </p:blipFill>
        <p:spPr>
          <a:xfrm>
            <a:off x="468360" y="2033640"/>
            <a:ext cx="3085920" cy="482436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3"/>
          <p:cNvSpPr/>
          <p:nvPr/>
        </p:nvSpPr>
        <p:spPr>
          <a:xfrm>
            <a:off x="500040" y="285840"/>
            <a:ext cx="8286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Задача: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Определите количество граней, вершин и рёбер многогранники, изображенного на рисунке. Проверьте выполнимость формулы Эйлера для данного многогра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4572000" y="235728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4429080" y="2786040"/>
            <a:ext cx="36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=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+В=12+10=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+2=20+2=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r_pic"/>
          <p:cNvPicPr/>
          <p:nvPr/>
        </p:nvPicPr>
        <p:blipFill>
          <a:blip r:embed="rId1"/>
          <a:stretch/>
        </p:blipFill>
        <p:spPr>
          <a:xfrm>
            <a:off x="285840" y="142920"/>
            <a:ext cx="864396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durer"/>
          <p:cNvPicPr/>
          <p:nvPr/>
        </p:nvPicPr>
        <p:blipFill>
          <a:blip r:embed="rId1"/>
          <a:stretch/>
        </p:blipFill>
        <p:spPr>
          <a:xfrm>
            <a:off x="250920" y="476280"/>
            <a:ext cx="4667040" cy="597708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5072040" y="1143000"/>
            <a:ext cx="359892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менитый художник, увлекавшийся геометрией Альбрехт Дюрер          (1471- 1528) ,                                    в известной гравю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'Меланхолия '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ереднем плане изобразил додекаэд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Платоновы тела"/>
          <p:cNvPicPr/>
          <p:nvPr/>
        </p:nvPicPr>
        <p:blipFill>
          <a:blip r:embed="rId1">
            <a:alphaModFix amt="42000"/>
          </a:blip>
          <a:stretch/>
        </p:blipFill>
        <p:spPr>
          <a:xfrm>
            <a:off x="0" y="1541520"/>
            <a:ext cx="7772400" cy="53164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3"/>
          <p:cNvSpPr/>
          <p:nvPr/>
        </p:nvSpPr>
        <p:spPr>
          <a:xfrm>
            <a:off x="357120" y="357120"/>
            <a:ext cx="84297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6666"/>
                </a:solidFill>
                <a:latin typeface="Franklin Gothic Book"/>
              </a:rPr>
              <a:t>Правильных многогранников вызывающе мало, но этот 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6666"/>
                </a:solidFill>
                <a:latin typeface="Franklin Gothic Book"/>
              </a:rPr>
              <a:t>весьма скромный по численности отряд сум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6666"/>
                </a:solidFill>
                <a:latin typeface="Franklin Gothic Book"/>
              </a:rPr>
              <a:t>пробраться в самые глубины различных наук.</a:t>
            </a: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ru-RU" sz="2000" spc="-1" strike="noStrike">
                <a:solidFill>
                  <a:srgbClr val="006666"/>
                </a:solidFill>
                <a:latin typeface="Arial"/>
              </a:rPr>
              <a:t>Л. Керро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4"/>
          <p:cNvSpPr/>
          <p:nvPr/>
        </p:nvSpPr>
        <p:spPr>
          <a:xfrm>
            <a:off x="1428840" y="357120"/>
            <a:ext cx="664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Franklin Gothic Book"/>
              </a:rPr>
              <a:t>Определите, какие из многогранников, изображ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Franklin Gothic Book"/>
              </a:rPr>
              <a:t>на рисунке, являются выпукл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рис2"/>
          <p:cNvPicPr/>
          <p:nvPr/>
        </p:nvPicPr>
        <p:blipFill>
          <a:blip r:embed="rId1"/>
          <a:stretch/>
        </p:blipFill>
        <p:spPr>
          <a:xfrm>
            <a:off x="1500120" y="1214280"/>
            <a:ext cx="60166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3"/>
          <p:cNvSpPr/>
          <p:nvPr/>
        </p:nvSpPr>
        <p:spPr>
          <a:xfrm>
            <a:off x="428760" y="1268280"/>
            <a:ext cx="8286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Franklin Gothic Book"/>
              </a:rPr>
              <a:t>Выпуклый многогранник называется правильным, если его грани являются правильными многоугольниками с одним и тем же числом сторон и в каждой вершине многогранника сходится одно и то же число рёб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4"/>
          <p:cNvSpPr/>
          <p:nvPr/>
        </p:nvSpPr>
        <p:spPr>
          <a:xfrm>
            <a:off x="571680" y="785880"/>
            <a:ext cx="402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Franklin Gothic Book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" descr="tetrahedron"/>
          <p:cNvPicPr/>
          <p:nvPr/>
        </p:nvPicPr>
        <p:blipFill>
          <a:blip r:embed="rId1"/>
          <a:stretch/>
        </p:blipFill>
        <p:spPr>
          <a:xfrm>
            <a:off x="3071880" y="1928880"/>
            <a:ext cx="56163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3"/>
          <p:cNvSpPr/>
          <p:nvPr/>
        </p:nvSpPr>
        <p:spPr>
          <a:xfrm>
            <a:off x="133200" y="100008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Franklin Gothic Book"/>
              </a:rPr>
              <a:t>ГЕКСАЭДР (КУБ)</a:t>
            </a:r>
            <a:r>
              <a:rPr b="1" lang="en-US" sz="4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cube"/>
          <p:cNvPicPr/>
          <p:nvPr/>
        </p:nvPicPr>
        <p:blipFill>
          <a:blip r:embed="rId1"/>
          <a:stretch/>
        </p:blipFill>
        <p:spPr>
          <a:xfrm>
            <a:off x="3714840" y="2000160"/>
            <a:ext cx="51084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3"/>
          <p:cNvSpPr/>
          <p:nvPr/>
        </p:nvSpPr>
        <p:spPr>
          <a:xfrm>
            <a:off x="147240" y="1000080"/>
            <a:ext cx="300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Franklin Gothic Book"/>
              </a:rPr>
              <a:t>ОКТАЭД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octahedron"/>
          <p:cNvPicPr/>
          <p:nvPr/>
        </p:nvPicPr>
        <p:blipFill>
          <a:blip r:embed="rId1"/>
          <a:stretch/>
        </p:blipFill>
        <p:spPr>
          <a:xfrm>
            <a:off x="3564000" y="126828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3"/>
          <p:cNvSpPr/>
          <p:nvPr/>
        </p:nvSpPr>
        <p:spPr>
          <a:xfrm>
            <a:off x="14040" y="10000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Franklin Gothic Book"/>
              </a:rPr>
              <a:t>ДОДЕКАЭД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dodecahedron2"/>
          <p:cNvPicPr/>
          <p:nvPr/>
        </p:nvPicPr>
        <p:blipFill>
          <a:blip r:embed="rId1"/>
          <a:stretch/>
        </p:blipFill>
        <p:spPr>
          <a:xfrm>
            <a:off x="3786120" y="1500120"/>
            <a:ext cx="5111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3"/>
          <p:cNvSpPr/>
          <p:nvPr/>
        </p:nvSpPr>
        <p:spPr>
          <a:xfrm>
            <a:off x="36720" y="928800"/>
            <a:ext cx="349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Franklin Gothic Book"/>
              </a:rPr>
              <a:t>ИКОСАЭД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icosahedron2"/>
          <p:cNvPicPr/>
          <p:nvPr/>
        </p:nvPicPr>
        <p:blipFill>
          <a:blip r:embed="rId1"/>
          <a:stretch/>
        </p:blipFill>
        <p:spPr>
          <a:xfrm>
            <a:off x="3857760" y="1785960"/>
            <a:ext cx="48956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8:23:58Z</dcterms:created>
  <dc:creator>PUTNIK OS</dc:creator>
  <dc:description/>
  <dc:language>en-US</dc:language>
  <cp:lastModifiedBy>Admin</cp:lastModifiedBy>
  <dcterms:modified xsi:type="dcterms:W3CDTF">2009-11-04T13:15:57Z</dcterms:modified>
  <cp:revision>10</cp:revision>
  <dc:subject/>
  <dc:title>Слайд 1</dc:title>
</cp:coreProperties>
</file>