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ED1-9F51-49E7-9384-DB5E589E4A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6D0B044C-950E-46CA-9D80-833E1DA5B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A636DA9E-40F9-4BC2-B137-57B237B1E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182-7790-4990-B6D3-009E9DE8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AA8-881E-475B-B3AB-983D9B12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1BC-E04B-4198-A578-FD5CA41F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A10-8DB7-4870-8E8A-0C7CB118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E78-F75A-4AF9-BE22-35FA35DB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DBF-A0FC-4A38-ADA5-1D938D3E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91D-86AC-42BB-9F76-AD0F85E7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906-C301-4F62-A81A-4D098C45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0D3-578B-44DE-A6C8-C9317091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583-919C-48C7-8861-9608A71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33A-A946-40D8-9632-4163F5F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217-884F-41BC-ABD6-E87A62A8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932D-B2CB-43F2-9D22-153431933C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E:\&#1044;&#1099;&#1093;&#1072;&#1085;&#1080;&#1077; &#1059;&#1088;&#1086;&#1082;\&#1076;&#1099;&#1093;&#1072;&#1085;&#1080;&#1077;.sw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Что позволяет нам жить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4501800" y="64882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Animals_19"/>
          <p:cNvPicPr/>
          <p:nvPr/>
        </p:nvPicPr>
        <p:blipFill>
          <a:blip r:embed="rId1"/>
          <a:stretch/>
        </p:blipFill>
        <p:spPr>
          <a:xfrm>
            <a:off x="971640" y="1268280"/>
            <a:ext cx="73454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63272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м в этом мире многое дано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ти, искать и ошибаться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, главное, дано дышать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Любить, найти и не сдаваться!!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А. Теннисон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Голубые холмы"/>
          <p:cNvPicPr/>
          <p:nvPr/>
        </p:nvPicPr>
        <p:blipFill>
          <a:blip r:embed="rId1"/>
          <a:stretch/>
        </p:blipFill>
        <p:spPr>
          <a:xfrm>
            <a:off x="1547640" y="2997360"/>
            <a:ext cx="640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пасибо большое за работу!!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4941360"/>
            <a:ext cx="518148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Жаворонкова Наталия Васильевн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БОУ – СОШ №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. Армавир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чники информации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images.yandex.ru/yandsearch?text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инки животны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С. Сухова, В.И.Строганов ,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нтана -Граф, 20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436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войства живых организмов, отличающих их от тел неживой природы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ыхани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вижени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ст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Принцип-диафрагмального-дыхания-600x434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6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2411280" y="2637000"/>
            <a:ext cx="48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ы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501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таите своё дыхание на 20-30 секунд и поделитесь своими ощущ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>
            <a:hlinkClick r:id="rId1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7301"/>
                </a:moveTo>
                <a:lnTo>
                  <a:pt x="12652" y="7301"/>
                </a:lnTo>
                <a:lnTo>
                  <a:pt x="13035" y="7667"/>
                </a:lnTo>
                <a:lnTo>
                  <a:pt x="22244" y="7667"/>
                </a:lnTo>
                <a:lnTo>
                  <a:pt x="22801" y="8224"/>
                </a:lnTo>
                <a:lnTo>
                  <a:pt x="22801" y="8772"/>
                </a:lnTo>
                <a:lnTo>
                  <a:pt x="24646" y="8772"/>
                </a:lnTo>
                <a:lnTo>
                  <a:pt x="25012" y="8224"/>
                </a:lnTo>
                <a:lnTo>
                  <a:pt x="25751" y="8224"/>
                </a:lnTo>
                <a:lnTo>
                  <a:pt x="25751" y="13376"/>
                </a:lnTo>
                <a:lnTo>
                  <a:pt x="25012" y="13376"/>
                </a:lnTo>
                <a:lnTo>
                  <a:pt x="24646" y="12828"/>
                </a:lnTo>
                <a:lnTo>
                  <a:pt x="22801" y="12828"/>
                </a:lnTo>
                <a:lnTo>
                  <a:pt x="22801" y="14107"/>
                </a:lnTo>
                <a:lnTo>
                  <a:pt x="13218" y="14107"/>
                </a:lnTo>
                <a:lnTo>
                  <a:pt x="13218" y="9877"/>
                </a:lnTo>
                <a:lnTo>
                  <a:pt x="13035" y="9877"/>
                </a:lnTo>
                <a:lnTo>
                  <a:pt x="12652" y="10243"/>
                </a:lnTo>
                <a:lnTo>
                  <a:pt x="11739" y="10243"/>
                </a:lnTo>
                <a:close/>
              </a:path>
            </a:pathLst>
          </a:custGeom>
          <a:solidFill>
            <a:srgbClr val="d92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207280" cy="35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32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Значение дыхания для живых организмо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4221000"/>
            <a:ext cx="453384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лан работы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. Сформулировать цель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. Определить задач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. Оформить проект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. Подготовиться к защите проект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емя работы 15 минут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емя защиты проекта 2-3 минуты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692360" y="1413000"/>
            <a:ext cx="6264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минут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4" descr="yes1"/>
          <p:cNvPicPr/>
          <p:nvPr/>
        </p:nvPicPr>
        <p:blipFill>
          <a:blip r:embed="rId1"/>
          <a:stretch/>
        </p:blipFill>
        <p:spPr>
          <a:xfrm>
            <a:off x="6156360" y="2997360"/>
            <a:ext cx="259236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55280" y="1268280"/>
            <a:ext cx="7777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 живые организмы дышат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 дыхании поступает кислород и выделяется углекислый газ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ислород нужен для расщепления органических веществ и получения энерги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личают клеточное, кожное, жаберное и легочное дыхание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аждом живом организме происходит газообмен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75912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тог урока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Синквейн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000" y="1267920"/>
            <a:ext cx="381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ыха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обходимое, постоян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исходит, обеспечивает, влияе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ыхание – свойство живых организмов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Жизн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16000" y="1267920"/>
            <a:ext cx="381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ыха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леточное, легоч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дыхать, окислять, жит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цесс газообмена между организмом и окружающей сред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изиологический процесс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6:45:52Z</dcterms:created>
  <dc:creator>светлана</dc:creator>
  <dc:description/>
  <dc:language>en-US</dc:language>
  <cp:lastModifiedBy>Роман</cp:lastModifiedBy>
  <dcterms:modified xsi:type="dcterms:W3CDTF">2015-05-10T06:31:51Z</dcterms:modified>
  <cp:revision>34</cp:revision>
  <dc:subject/>
  <dc:title>Можно ли жить и не дышать?</dc:title>
</cp:coreProperties>
</file>