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8E26-F736-4DEA-8E96-DFEE4400F6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56F07556-43C6-47B3-A83D-819ECB7DBF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3710D556-9B58-4530-B767-02CD30FFDE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014D-2EC5-4D36-94D3-D6F907F9E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9521-16C7-48E4-97FD-C1E86218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A380-862F-491E-9BF0-00BD199A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2A08-B6A0-457B-A661-8212CCB3F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B5FD-8F4A-4C33-8033-B9E69849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9AB0-8FA7-4164-95A6-055B519B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FA18-1ADE-43C2-AB98-FC9C96BB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0E00-32E3-47C5-9E6A-9189A67A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78C1-DF0F-4EE6-8FCC-F85246F9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7B70-3888-4423-A060-28EEEEED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D0DE-0EC8-4226-86B0-BD695AD5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F5FD-3B3F-4E6E-9611-A0FDDBBB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E64B-24B2-49C1-B710-A66A6F55B1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E:\&#1044;&#1099;&#1093;&#1072;&#1085;&#1080;&#1077; &#1059;&#1088;&#1086;&#1082;\&#1076;&#1099;&#1093;&#1072;&#1085;&#1080;&#1077;.sw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Что позволяет нам жить?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Рефлексия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Прямоугольник 5"/>
          <p:cNvSpPr/>
          <p:nvPr/>
        </p:nvSpPr>
        <p:spPr>
          <a:xfrm>
            <a:off x="4501800" y="64882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Animals_19"/>
          <p:cNvPicPr/>
          <p:nvPr/>
        </p:nvPicPr>
        <p:blipFill>
          <a:blip r:embed="rId1"/>
          <a:stretch/>
        </p:blipFill>
        <p:spPr>
          <a:xfrm>
            <a:off x="971640" y="1268280"/>
            <a:ext cx="734544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632720" cy="24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ам в этом мире многое дано: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асти, искать и ошибаться,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о, главное, дано дышать,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Любить, найти и не сдаваться!!!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А. Теннисон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Голубые холмы"/>
          <p:cNvPicPr/>
          <p:nvPr/>
        </p:nvPicPr>
        <p:blipFill>
          <a:blip r:embed="rId1"/>
          <a:stretch/>
        </p:blipFill>
        <p:spPr>
          <a:xfrm>
            <a:off x="1547640" y="2997360"/>
            <a:ext cx="6409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64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Спасибо большое за работу!!!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000" y="4941360"/>
            <a:ext cx="5181480" cy="15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Жаворонкова Наталия Васильевна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читель биологии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БОУ – СОШ №8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. Армавир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Источники информации: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images.yandex.ru/yandsearch?text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ртинки животных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ьзованная литература: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.С. Сухова, В.И.Строганов ,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нтана -Граф, 2014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00000" y="4365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войства живых организмов, отличающих их от тел неживой природы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55640" y="3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итание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ыхание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змножение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вижение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ост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звитие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Принцип-диафрагмального-дыхания-600x434"/>
          <p:cNvPicPr/>
          <p:nvPr/>
        </p:nvPicPr>
        <p:blipFill>
          <a:blip r:embed="rId1"/>
          <a:stretch/>
        </p:blipFill>
        <p:spPr>
          <a:xfrm>
            <a:off x="826920" y="404640"/>
            <a:ext cx="7777440" cy="562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2411280" y="2637000"/>
            <a:ext cx="48974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пы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24000" y="501336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таите своё дыхание на 20-30 секунд и поделитесь своими ощущен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>
            <a:hlinkClick r:id="rId1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7301"/>
                </a:moveTo>
                <a:lnTo>
                  <a:pt x="12652" y="7301"/>
                </a:lnTo>
                <a:lnTo>
                  <a:pt x="13035" y="7667"/>
                </a:lnTo>
                <a:lnTo>
                  <a:pt x="22244" y="7667"/>
                </a:lnTo>
                <a:lnTo>
                  <a:pt x="22801" y="8224"/>
                </a:lnTo>
                <a:lnTo>
                  <a:pt x="22801" y="8772"/>
                </a:lnTo>
                <a:lnTo>
                  <a:pt x="24646" y="8772"/>
                </a:lnTo>
                <a:lnTo>
                  <a:pt x="25012" y="8224"/>
                </a:lnTo>
                <a:lnTo>
                  <a:pt x="25751" y="8224"/>
                </a:lnTo>
                <a:lnTo>
                  <a:pt x="25751" y="13376"/>
                </a:lnTo>
                <a:lnTo>
                  <a:pt x="25012" y="13376"/>
                </a:lnTo>
                <a:lnTo>
                  <a:pt x="24646" y="12828"/>
                </a:lnTo>
                <a:lnTo>
                  <a:pt x="22801" y="12828"/>
                </a:lnTo>
                <a:lnTo>
                  <a:pt x="22801" y="14107"/>
                </a:lnTo>
                <a:lnTo>
                  <a:pt x="13218" y="14107"/>
                </a:lnTo>
                <a:lnTo>
                  <a:pt x="13218" y="9877"/>
                </a:lnTo>
                <a:lnTo>
                  <a:pt x="13035" y="9877"/>
                </a:lnTo>
                <a:lnTo>
                  <a:pt x="12652" y="10243"/>
                </a:lnTo>
                <a:lnTo>
                  <a:pt x="11739" y="10243"/>
                </a:lnTo>
                <a:close/>
              </a:path>
            </a:pathLst>
          </a:custGeom>
          <a:solidFill>
            <a:srgbClr val="d92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1557360"/>
            <a:ext cx="8207280" cy="354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ТЕМА УРОКА:</a:t>
            </a:r>
            <a:br>
              <a:rPr sz="3200"/>
            </a:b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Значение дыхания для живых организмов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4221000"/>
            <a:ext cx="4533840" cy="18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План работы: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1. Сформулировать цель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2. Определить задачи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3. Оформить проект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4. Подготовиться к защите проекта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ремя работы 15 минут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ремя защиты проекта 2-3 минуты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WordArt 4"/>
          <p:cNvSpPr txBox="1"/>
          <p:nvPr/>
        </p:nvSpPr>
        <p:spPr>
          <a:xfrm>
            <a:off x="1692360" y="1413000"/>
            <a:ext cx="626436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изминут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4" name="Picture 4" descr="yes1"/>
          <p:cNvPicPr/>
          <p:nvPr/>
        </p:nvPicPr>
        <p:blipFill>
          <a:blip r:embed="rId1"/>
          <a:stretch/>
        </p:blipFill>
        <p:spPr>
          <a:xfrm>
            <a:off x="6156360" y="2997360"/>
            <a:ext cx="2592360" cy="35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755280" y="1268280"/>
            <a:ext cx="7777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се живые организмы дышат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и дыхании поступает кислород и выделяется углекислый газ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ислород нужен для расщепления органических веществ и получения энергии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зличают клеточное, кожное, жаберное и легочное дыхание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 каждом живом организме происходит газообмен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3759120" y="324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Итог урока: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Times New Roman"/>
              </a:rPr>
              <a:t>Синквейн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4000" y="1267920"/>
            <a:ext cx="3816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Дыхани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еобходимое, постоянно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оисходит, обеспечивает, влияет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Дыхание – свойство живых организмов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Жизнь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716000" y="1267920"/>
            <a:ext cx="3816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Дыхани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леточное, легочно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дыхать, окислять, жить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оцесс газообмена между организмом и окружающей средой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Физиологический процесс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8T06:45:52Z</dcterms:created>
  <dc:creator>светлана</dc:creator>
  <dc:description/>
  <dc:language>en-US</dc:language>
  <cp:lastModifiedBy>Роман</cp:lastModifiedBy>
  <dcterms:modified xsi:type="dcterms:W3CDTF">2015-05-10T06:31:51Z</dcterms:modified>
  <cp:revision>34</cp:revision>
  <dc:subject/>
  <dc:title>Можно ли жить и не дышать?</dc:title>
</cp:coreProperties>
</file>